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EFE5-F016-4BCA-A385-9446C8EC5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 focus on medical interventions, but even this was sometimes controvers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1FE-239E-46CA-B8AC-DEF84B76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CB6-FE7E-4C41-B762-D4969463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32E-76D6-40F6-B100-E91A0A51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806-949E-4DCF-AC7E-A193079C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3583-7330-4938-892E-44486657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0E5D-5C8F-4E12-B4C4-6C47BB59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B5EF-A754-4906-ADCD-66A4CDC0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17FA-F8D5-453E-A544-9303678F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C895-23EF-4E29-A1C7-39826411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D865-DD32-493C-82B7-36742386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A5D0-658C-490C-AFD7-2E2952AA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296-0D0E-4F39-8EEE-ED5843D3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D6B4-4005-4977-A06C-D3003191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9D24-BFC6-4232-BFFB-ECBD4EA3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0D81-A330-4377-B9FB-BB505201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1F0E-FECF-4212-BD19-533ABD72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6617-BC08-49C7-A0FD-20527A5E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724-4B5F-4C87-B44B-8C413E12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863-D1A8-4F4A-8052-C14CDB55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B66-866A-4BEE-B8E7-EEF650F7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281-F2F8-42D9-8B1C-59A71C6D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3F6-54C0-4040-8666-C4B1E5A9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853-A9E0-46EE-97C4-F6DFD2E9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F24-A485-417B-92B5-5D6FBB7C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1173-0E8C-4F16-967E-33DA9D52BD7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CA88-1251-44E3-AA60-BF468B55614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tting Good Health Ca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vider Experi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t minute cancellations due to staffing or transportation issu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 comes with advocate who has no information on history or current proble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 returns for follow-up and recommendations have not been followed or the results have not been document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ding a Health Care Provi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mily members can ask their own physician to provide care for the pers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t your physician or other HCP to make recommendation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t names from friends, case managers, parents, local Arc chapter or hospital personne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Can We Get Better Car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391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long term: be informed and VOTE for better fu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short term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proactive consumers of health car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more knowledgea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it easier for providers by giving them the information and assistance they ne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on top of communication and follow-throug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ea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icipant-it’s their health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ocate- either family or direct care provider.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have information critical to the health care provider and are essential to follow-through with recommenda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 Care Provider- medical experti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ice Staff- access to provider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vider Office Sta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ointment scheduler and nur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are  the gatekeepers for the provid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a record of their names and rol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ll them for advice when you are not sure how to proceed or you need more informatio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t Roles of the Advoc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ompany and support the individual in a strange environ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ist the individual to participate in the visit to their maximum potenti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cilitate communication between provider and individu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t Role of the Advocat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cont’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the health history and other necessary inform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the current problem/concern and how it is different from the person’s normal baseline stat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questions, clarify recommended therapy, document the recommendations and follow up to make sure they are carried ou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Providers Want from Advoc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rify how the present situation differs from  baseli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ggest ways to interac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lighten the provider as to the individual’s quality of life and relationship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rify treatment goals. (e.g., complete eradication of seizures versus maintain level of alertness and quality of lif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king the Appoint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est the best time of da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appointment in morning or after lunch if waiting is an issu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ning or afternoon as needed for staffing or transpor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for more time if neede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omplicated health proble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unication need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vioral challeng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ltiple concer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paring for the Vis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xiety at the point of care may manifest as SIB or aggress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edule a familiar and knowledgeable staff member to accompany the pers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possible, desensitize prior to the appointment by visiting the office for a dry ru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repared and funded through collaboration betwee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 Developmental Disabilities Council of Washington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 University of Washington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enter on Human Development and Disability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orthwest Center,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nd the Washington State Division of Developmental Disabilit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paring for the Vis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sy on and off clothing for individu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nack or diversions for wai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y hygiene supplies or change of clothes needed in case of long wai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py of medical coupon or insurance car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ten and dated copies of health information to leave with provid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ed to Create A Written Health History for Every Resid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ividual can’t provide it themselv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ent or family member may not be available, now or in the futur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idential staff may not have the information due to staff turnover or client m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ical information can become lost or unavailable over ti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t Categories of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alth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act and billing inform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t history and long-term health condi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rmal baseline status, including the person’s abilities and level of func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problem or issu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act and Billing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residence address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ocate name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uardianship stat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ents/guardians address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ergency contact address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urance and medical coupon inform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ferred pharmacy name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cal History 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t diagno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 of ages and causes of deaths of family memb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ates of major illnesses, injuries, surger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munization da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cal History Summary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cont’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ergies: what causes a problem and what happens (eg, rash, headache, nausea, etc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 of current health conditions or diagnos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mes and specialties of current or recent health care provid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 of all current medications and supplements, including name, amount, frequency, reason, date started, any side effects notic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roximate level of understanding and how to best communic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bility to make own health care decis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nctional abi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living situ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suppor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urrent Health Issue or Prob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concer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does it differ from baseline status or behavior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long has it been going on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anything make it worse or better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has been trie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has it worked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ing Proacti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direct and stay on topic-it saves ti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questions if you need clarific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ress any concerns you have about the recommenda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est that recommendations and instructions be written down for you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sure to get written instructions for new medications and medication chang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llowing U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detailed notes in the participant’s record about the visi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re findings and recommendations with all involved staff, parent or guardi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t medication change information to other staff or delegating nurse ASAP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ert all staff to watch for intended effects and possible side effects of new medications or dosage chang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cument any changes for next visit to provid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ject Sta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aran Brown, JD, Ed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rincipal Investig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thleen Watson, PhD, R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roject Director/Trainer and Par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her Molone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roject Assistant and Par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alth Care Provi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s many different types of provi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se Practition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 Physicia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n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urolog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ysician Assista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ccupational and Physical Therap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sychiatr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armac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Care Provi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ose who provide basic health care for a person on a long term basis. Usually expected to coordinate the person’s care with other provi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 Medicine (M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nal Medicine (M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se Practitioner (ARN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steopath (D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alth Promotion: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A Paradigm Shif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t emphasis on prevention of disabling conditions. Neglect of individual healt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focus on evaluating and improving the health of individuals, prevention of secondary conditions and chronic illn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257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Rimmer, 1999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tective 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unication often happens through behavi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up to YOU to figure out what the behavior might mea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up to YOU to see that something is done about the problem that is causing the behavi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happens if YOU do not take this responsibilit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Do You Want from A Provider?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 attitude toward persons with disabi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illingness to accept available fu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ll, expertise and experience with people who have disabi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 chemistry with individual and their advoc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Is It So Difficult to Find a Good Provider?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nding for health care is bad and getting wors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ew providers have training or experience in providing care to persons with disabiliti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ing care to persons who are non-verbal, have communication problems or behavior problems is challenging and time-consum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alth care providers can also be affected by stereotypes and negative attitudes, fear of the unknow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6:35:01Z</dcterms:created>
  <dc:creator>Kathleen Clotfelter Watson</dc:creator>
  <dc:description/>
  <dc:language>en-US</dc:language>
  <cp:lastModifiedBy>Kathleen Clotfelter Watson</cp:lastModifiedBy>
  <dcterms:modified xsi:type="dcterms:W3CDTF">2004-10-18T15:35:23Z</dcterms:modified>
  <cp:revision>7</cp:revision>
  <dc:subject/>
  <dc:title>Getting Good Health Care</dc:title>
</cp:coreProperties>
</file>