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9183-CEF9-49C2-94A0-E58499B9C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 focus on medical interventions, but even this was sometimes controvers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770-F9E7-4A67-AAFA-8B6CD953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F99-FB61-42DB-9423-9A937E75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E304-F21A-415A-BADD-E4E59319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FB6-7CCC-4099-96F8-EF7D19C8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EB8A-DF6E-41EA-84F3-6BF2CAE4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47E8-5371-4E01-A617-068C91FB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8182-D638-4168-B022-AF9E3771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2A4A-361E-4D26-9E33-28881EE9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40AB-EB55-4228-94E3-3126EA06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ED4A-54BD-4DE9-B8BE-8912732E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AE87-2294-4602-8E6B-CDC15D94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9541-113D-4C39-9F54-CD1E972B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DC6D-6B68-4817-927E-60D2BE10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AEDA-5A9F-4974-BAD7-5DB5D62D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DB7F-9E50-4D09-9FE5-846EB4B5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F097-68B4-436A-AAB1-85DEC0F5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ABA6-5501-45BE-8C4E-E10F039D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123B-3218-40E6-9E3A-0C79ED57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837-792C-449F-9EA0-F15F6B03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E2CA-E9E6-41C1-A54A-C57EF5A8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B62-AFC2-4AE5-8055-0F61FFDB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839-5860-483F-B45D-83DDC402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DC5-446A-4046-8736-503BB009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1D56-6F88-4DE5-AB81-696E09C0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2529-0C2B-4E0E-AC52-9FABF4A4D75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BE0E-4479-42FC-A717-848EE445CAB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tting Good Health Ca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vider Experie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st minute cancellations due to staffing or transportation issu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son comes with advocate who has no information on history or current proble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son returns for follow-up and recommendations have not been followed or the results have not been document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nding a Health Care Provi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mily members can ask their own physician to provide care for the pers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t your physician or other HCP to make recommendation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t names from friends, case managers, parents, local Arc chapter or hospital personne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Can We Get Better Car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447560"/>
            <a:ext cx="7391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e long term: be informed and VOTE for better fund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e short term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 proactive consumers of health car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 more knowledgea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it easier for providers by giving them the information and assistance they nee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 on top of communication and follow-throug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ea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icipant-it’s their health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ocate- either family or direct care provider.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Y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have information critical to the health care provider and are essential to follow-through with recommendatio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alth Care Provider- medical expertis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fice Staff- access to provider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vider Office Staf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ointment scheduler and nurs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y are  the gatekeepers for the provide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a record of their names and role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ll them for advice when you are not sure how to proceed or you need more informatio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ortant Roles of the Advoc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company and support the individual in a strange environmen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ist the individual to participate in the visit to their maximum potenti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cilitate communication between provider and individu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ortant Role of the Advocat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cont’d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 the health history and other necessary inform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ain the current problem/concern and how it is different from the person’s normal baseline statu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k questions, clarify recommended therapy, document the recommendations and follow up to make sure they are carried ou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Providers Want from Advoc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rify how the present situation differs from  baseli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ggest ways to interac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lighten the provider as to the individual’s quality of life and relationship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rify treatment goals. (e.g., complete eradication of seizures versus maintain level of alertness and quality of lif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king the Appoint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238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quest the best time of da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rst appointment in morning or after lunch if waiting is an issu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ning or afternoon as needed for staffing or transpor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k for more time if needed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complicated health proble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munication need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havioral challeng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ltiple concer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paring for the Visi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xiety at the point of care may manifest as SIB or aggress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edule a familiar and knowledgeable staff member to accompany the pers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possible, desensitize prior to the appointment by visiting the office for a dry ru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838080"/>
            <a:ext cx="7010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Prepared and funded through collaboration between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he Developmental Disabilities Council of Washington,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he University of Washington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Center on Human Development and Disability,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orthwest Center,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nd the Washington State Division of Developmental Disabiliti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paring for the Visi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sy on and off clothing for individu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nack or diversions for wait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y hygiene supplies or change of clothes needed in case of long wai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py of medical coupon or insurance car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ritten and dated copies of health information to leave with provide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ed to Create A Written Health History for Every Resid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dividual can’t provide it themselv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ent or family member may not be available, now or in the futur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idential staff may not have the information due to staff turnover or client mov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ical information can become lost or unavailable over ti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ortant Categories of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alth 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act and billing inform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st history and long-term health conditio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rmal baseline status, including the person’s abilities and level of func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urrent problem or issu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act and Billing 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urrent residence address and pho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vocate name and pho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uardianship statu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ents/guardians address and pho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ergency contact address and pho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urance and medical coupon inform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ferred pharmacy name and pho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dical History Summ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st diagno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st of ages and causes of deaths of family memb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ates of major illnesses, injuries, surger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mmunization dat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dical History Summary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cont’d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ergies: what causes a problem and what happens (eg, rash, headache, nausea, etc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st of current health conditions or diagnose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ames and specialties of current or recent health care provid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st of all current medications and supplements, including name, amount, frequency, reason, date started, any side effects notic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roximate level of understanding and how to best communica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bility to make own health care decisio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nctional abilit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urrent living situ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urrent suppor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urrent Health Issue or Probl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concer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does it differ from baseline status or behavior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long has it been going on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es anything make it worse or better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has been tried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has it worked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ing Proactiv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direct and stay on topic-it saves ti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k questions if you need clarific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ress any concerns you have about the recommendatio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quest that recommendations and instructions be written down for you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sure to get written instructions for new medications and medication chang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ollowing U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detailed notes in the participant’s record about the visi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are findings and recommendations with all involved staff, parent or guardia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t medication change information to other staff or delegating nurse ASAP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ert all staff to watch for intended effects and possible side effects of new medications or dosage chang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cument any changes for next visit to provide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ject Staf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aran Brown, JD, Ed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rincipal Investig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athleen Watson, PhD, R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roject Director/Trainer and Par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her Molone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roject Assistant and Par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alth Care Provid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ludes many different types of provider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urse Practition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mily Physicia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nis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urologis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hysician Assista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ccupational and Physical Therapis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sychiatris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harmacis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Care Provid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ose who provide basic health care for a person on a long term basis. Usually expected to coordinate the person’s care with other provider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mily Medicine (M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nal Medicine (MD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urse Practitioner (ARNP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steopath (D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alth Promotion: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A Paradigm Shif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915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st emphasis on prevention of disabling conditions. Neglect of individual health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focus on evaluating and improving the health of individuals, prevention of secondary conditions and chronic illn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52578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Rimmer, 1999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tective 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munication often happens through behavio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is up to YOU to figure out what the behavior might mea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is up to YOU to see that something is done about the problem that is causing the behavio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happens if YOU do not take this responsibilit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Do You Want from A Provider?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itive attitude toward persons with disabilit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illingness to accept available fund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kill, expertise and experience with people who have disabilit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itive chemistry with individual and their advoca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Is It So Difficult to Find a Good Provider?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unding for health care is bad and getting worse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ew providers have training or experience in providing care to persons with disabiliti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iding care to persons who are non-verbal, have communication problems or behavior problems is challenging and time-consuming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alth care providers can also be affected by stereotypes and negative attitudes, fear of the unknow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6:35:01Z</dcterms:created>
  <dc:creator>Kathleen Clotfelter Watson</dc:creator>
  <dc:description/>
  <dc:language>en-US</dc:language>
  <cp:lastModifiedBy>Kathleen Clotfelter Watson</cp:lastModifiedBy>
  <dcterms:modified xsi:type="dcterms:W3CDTF">2004-10-18T15:35:23Z</dcterms:modified>
  <cp:revision>7</cp:revision>
  <dc:subject/>
  <dc:title>Getting Good Health Care</dc:title>
</cp:coreProperties>
</file>