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EFB7-ED72-4E99-B991-062203A8B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10E-89B4-4231-81FE-EFF9560B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6EC-B311-4950-A17E-70042DF2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2B6-AC61-4603-AB7C-DF35F43D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80C-17F1-4B6F-A6E7-2C1037D5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3C5A-369D-4BF1-AD0D-D0336587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949D-A835-48B6-BCA8-B725563C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3793-DBF7-41DC-BDBF-005376DF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F1E3-54BE-49FE-AD80-1A0C4126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3BEA-2C14-4E12-B930-324F46E7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4785-C2FF-4104-BA9B-9362DAF6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92E6-2888-4B84-A313-D7416CB5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E81-410F-498E-B797-ACB6AB71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8F22-D644-4A04-80F0-B2F7C5BD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EE95-D056-47D0-BFF0-0996420B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17C4-91F0-427E-84BD-77C9F253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6973-BF64-410D-AACA-5142A8F6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E946-2C08-4A25-8CE1-4CB62646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03F-6B77-4417-A4D3-9567A213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723-FFF2-4C04-89A2-B419EF2B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F49-50C6-407C-85F3-FA33862A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9B4-7608-421F-A483-53FE613D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17F-693E-4A05-BC22-389C2BDE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26E-EBF0-45F7-A3F4-51CB88DC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F49-2A3E-4EF8-8F02-CFEF2400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EC1-9370-40F2-8653-1D0619AEE3D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D018-4927-44F6-8BA0-AA50368D2DE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dications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mot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af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ppropriate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ysician Err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orrect dose or regim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omplete dosage or unavailable dosage form or streng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Quantity or duration of treatment not specifi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se or regimen not specifi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orrect drug for the therapeutic ind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ug intera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ergy or sensitiv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plicate thera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armacy Err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ds prescription incorrect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penses drug with similar na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es label wro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xes up lab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rong streng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rong amou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gets to put special instructions on bott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t-Home Err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R incorrec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get a dose or give a dose tw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to wrong pers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wrong amou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earlier or later than orde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following instruc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n in spite of indications there might be a problem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for the wrong reas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asons for Concern and Questioning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ills are a different color, shape or siz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irections for the drug are differen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abel directions don’t make se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erson is behaving differently or has new or unusual symptom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rug is one you think the person is allergic 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afety Tip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directions on the label are not clear, ask the pharmacist or call the prescriber to clarify 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ways use the same pharmacy so they will have a record of all current drugs and allergies for each individu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helps to get to know the pharmac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ep the medicine in the original contain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ways double check yoursel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ading a Prescription Bott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me of pharmacy with phone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scription number for refil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me of doctor who prescribed i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o the drug is f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me of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 and dosage of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it should be discarded (thrown away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ading a Prescription Bottle</a:t>
            </a:r>
            <a:br>
              <a:rPr sz="44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cont’d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rength (how much of the drug in each pill or spoon full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ount to take (how many pills or spoonfuls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often to take it (once a day, every two hours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y what route to take it (swallow, under tongue, in eyes or nose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der what conditions to take it (after every meal, only when in pain, etc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584640"/>
            <a:ext cx="88851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952560"/>
            <a:ext cx="76197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verse Drug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verse Drug Reac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de eff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ergic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-dos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usual and unpredictable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pared and funded through collaboration betwee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Developmental Disabilities Council of Washington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University of Washington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nter on Human Development and Disability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west Center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Washington State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vision of Developmental Disabili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8480" y="6858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nitoring for Drug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900900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important to know the person’s normal baselin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bserve for anything out of the ordinary for that pers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reasonable to remember all the side effects for every drug residents tak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familiar with the most likely side effects for long-term drug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proactive in contacting the pharmacist or health care provider if you are concerned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cord-Keep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e on calendar or on record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new drug sta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dosage chan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old drug s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changes are ma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ep updated list of all current drugs to share with health care provide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eneric vs. Trade Nam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A new drug has patent - only one company can make it for several ye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A new drug has both a generic and trade nam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The generic name is the chemical nam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The trade name is the same as the brand nam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After the patent runs out, other companies can make it under the generic name and may add their own trade name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amples of Generic and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ade Nam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7680" y="2514600"/>
            <a:ext cx="889632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buprofen (Motrin, Advi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phenhydramine (Benadryl, Compoz, Sominex 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eudoephedrine (Sudafed, Drixoral non-drows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enytoin (Dilanti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etominophen (Tylenol, Panadol, Datril, Tempr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bination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ain more than one drug in the same pill or liqui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name doesn’t always tell you what’s in i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ortant to know what’s there so clients  don’t receive a double do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common in over-the-counter drugs such as cold remed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ver the Counter (OT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prescription drug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ill have risk for side effects, overdosing, cross-reactions and allergic reaction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ould be used careful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ten combination drugs-know what’s in the ones being used!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ug Clas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sed on the main effects and actions of dru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drugs fit in more than one cla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drugs are used for other purposes than they were originally intend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ugs in the same class have some of the same side-eff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amples of Drug Clas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bio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-epilep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-psycho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histam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ongest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depress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-steroidal Anti-inflammatory (NSAI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sychoactive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so called psychopharmacologic or psychotropi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ug class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-anxiety (Xanax, BuSpar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depressant (Elavil, Prozac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-psychotic (Risperdal, Zyprexa, Haldol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-mania (lithiu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dative/hypnotic (Restoril, Noctec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imulant (Rital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-seizure or Anti-epileptic (Tegretol, Neuront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sychoactive Drug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nded to treat psychiatric conditions, but often given to control behavio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ken long te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have lots of side eff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st balance usefulness against side eff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ctor does the balancing based on the information we give her or him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rd-keeping helps a lot!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ject Staf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haran Brown, JD, Ed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rincipal Investig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athleen Watson, PhD, R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roject Director/Trainer and Par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ther Molone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roject Assistant and Par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inciples to Reme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nitor the condition or behavior the drug is being given for (eg., seizures, depress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especially alert when a new drug is added, a drug is stopped or tapered off, or dosage is changed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t up a record-keeping system for behavior and side effect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the participant gets to appointments for lab work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Quality of Lif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dications should improve the quality of life for participants, not make it wor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gin with the primary health care provid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quality of life seems to be declining rather than improving, seek help from local mental health cen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this isn’t working, ask DDD Case Manager for assista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proactive and persistent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ypical Antipsychot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lorprom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loperid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luphen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orid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xap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phen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typical Antipsychot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ipiprazo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ilif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2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iprasidon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don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tiapin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oque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anzapi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yprex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perido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perd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zapi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zari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-epileptic Drugs (AED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889632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old standard ones and lots of new on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of the newer ones are also used for controlling behavio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ortant to monitor for side effects and keep seizure recor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require the provider to do periodic laboratory work to monitor for side effec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-Epilept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12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Phenobarbita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3   Felbam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38   Phenytoin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3   Gabapent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60   Ethosuximide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4   Lamotrig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74   Carbamazepin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7   Topiram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78   Valproate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7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Tiagab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9   Levetiracet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000   Oxcarbazep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000   Zonisam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-epileptic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things to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2590560"/>
            <a:ext cx="9031320" cy="35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affect level of alertness, balance, muscle tone, appetite, weight, m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port any increased bruising or bleed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 yellowing of skin or ey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sh that gets worse or won’t go aw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 fever or signs of 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-epileptics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 sid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3840" y="22856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Usually short-ter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kin rash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oss of co-ordin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ausea or vomi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ffects on thinking (could be long-ter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ost common:  dizziness, headache, double visio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leepi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biot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taken with food to avoid stomach ups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foods or medicines may interfere with absorp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atch for stomach upset or rash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op the drug immediately if rash, itching or difficulty breathing occu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 911 for problems with breathing or acute distr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7680" y="2590560"/>
            <a:ext cx="8896320" cy="29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skin color or temperatur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luish, red, pallor, yellow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sh or other unusual mark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eels hot or cold to the tou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asic Assump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, as the caregiver, have the opportunity to improve the quality of life for each of the participants with whom you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can do this by assuming that it is all up to you and therefore being pro-active, assertive and behaving like a dete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ional responsibility in a home-like sett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7680" y="2590920"/>
            <a:ext cx="8896320" cy="32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bowel or urinary chang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arrhea or constip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quent or infrequent urin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rination difficult, delayed or painfu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dwet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889632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walking or gait chang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lling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ow or shuffling wal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mbling, poor balance, unsure of foo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7680" y="23619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change in movement level or in musc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ms slow, moves in slow motion, trouble getting start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ittery, antsy, pacing, can’t sit still, constantly jiggling or pumping legs, has to get out of chair after short period of ti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scle rigidity or stiffn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usea, vomiting or g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896320" cy="28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change in sleep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eeps longer or shor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ouble getting to slee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ightmares or bad drea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89632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expected change in eating or drinking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ting more or l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inking more or l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889632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expected change in spee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ooling or dry mou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ms to be slurring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esn’t seem to be talking much any mo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819160"/>
            <a:ext cx="889632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expected fatig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ddenly does not want to get up in morn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red, day-time sleep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dation, lethargy, malai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oggin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7680" y="2743200"/>
            <a:ext cx="889632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expected mood chang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ouchy, irritable, hard to get along wi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losive behavior out of charac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ying, tearful, sad, withdra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sonality chan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8896320" cy="26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and unexpected trouble concentrating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ouble paying atten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ouble remembering th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ouble performing activity, work or play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s Causing the Behavio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in or discomfor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otional distress due to situation or environmen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mptom of a mental health problem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de effect or adverse effect of a medica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the person’s normal stat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a “behavior”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eing an Informed Consum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ve one staff member who is the health advocate for each client: develop relationship with provid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websites by reputable organizations such as universi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ep reference books such as those designed for nur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rug gui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cyclopedia/dictiona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dication Rights+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right Dru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right Do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right Rou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the right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the right Pers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For the right R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dication Errors-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Might They Happe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arma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son transcribing to recording she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son administer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6:12:27Z</dcterms:created>
  <dc:creator>Kathleen Clotfelter Watson</dc:creator>
  <dc:description/>
  <dc:language>en-US</dc:language>
  <cp:lastModifiedBy>kwatson</cp:lastModifiedBy>
  <dcterms:modified xsi:type="dcterms:W3CDTF">2005-01-21T15:54:32Z</dcterms:modified>
  <cp:revision>10</cp:revision>
  <dc:subject/>
  <dc:title>Medications:</dc:title>
</cp:coreProperties>
</file>