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9571-A7E7-4B18-BC8B-FCFF133E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029-3B71-46C5-AD21-E9EAB66A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268-F39D-42AD-B73E-3F279FE3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03A-209D-463F-8692-2F97ABC6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C78-EAB7-4B37-A48C-D21E6905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4246-AC2B-4521-AD7B-7917807A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A304-64F7-4786-B6B2-6B0B5BF2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7859-E031-4B4E-8C4B-8E4102DA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62F7-6C1D-4DA1-9490-1FDC6216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88F5-8DAF-40D6-9D9C-D3E64C36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B775-B677-40D6-9554-E0F99888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EAF5-FD23-4998-9F9A-004ED52E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DA3-0771-4377-A835-197A05C5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EE2B-F83D-4E3E-BED0-12998F9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36CD-2CEC-4E0A-A345-D7BDD0C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D5BB-1DED-4061-B2DD-0C85E0E2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50E3-AA98-4192-9725-F8B70807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B4BB-2D5C-42D4-ABBF-7C9525D0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FED-8767-44D6-B595-C6478E5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FBB-55DE-4FCE-91F9-7F9AB0DB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F67-6F08-453C-A7CE-C4FA01B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51C-8920-4E48-989E-8F84CF39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7DC-7FD1-4BB3-83D1-4D1B5170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07B-1416-4C81-87E0-2FFB839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225-EDD9-4BCF-9B7B-C5559C9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455C-EAA6-47C6-BDEC-E52C14E7A33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637A-4048-4958-BE19-1CA947DC64F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dications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mot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af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ppropriate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ysician Err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orrect dose or regim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omplete dosage or unavailable dosage form or streng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antity or duration of treatment not specifi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se or regimen not specifi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orrect drug for the therapeutic ind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ergy or sensitiv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plicate thera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armacy Err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s prescription incorrect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penses drug with similar na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es label wro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xes up lab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rong streng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rong amou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gets to put special instructions on bott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t-Home Err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R incorrec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get a dose or give a dose tw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to wrong pers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wrong amou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earlier or later than orde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following instruc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n in spite of indications there might be a problem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for the wrong reas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asons for Concern and Questioning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ills are a different color, shape or siz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irections for the drug are differen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abel directions don’t make se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erson is behaving differently or has new or unusual symptom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rug is one you think the person is allergic 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afety Tip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directions on the label are not clear, ask the pharmacist or call the prescriber to clarify 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ways use the same pharmacy so they will have a record of all current drugs and allergies for each individu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helps to get to know the pharmac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ep the medicine in the original contai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ways double check your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ading a Prescription Bott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me of pharmacy with phone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cription number for refil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me of doctor who prescribed i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the drug is f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me of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 and dosage of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it should be discarded (thrown away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ading a Prescription Bottle</a:t>
            </a: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cont’d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ength (how much of the drug in each pill or spoon full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ount to take (how many pills or spoonfuls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often to take it (once a day, every two hours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y what route to take it (swallow, under tongue, in eyes or nose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 what conditions to take it (after every meal, only when in pain, etc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584640"/>
            <a:ext cx="88851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verse Drug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verse Drug Re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de 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ergic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-dos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usual and unpredictable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pared and funded through collaboration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Developmental Disabilities Council of Washingt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University of Washington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nter on Human Development and Disability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west Center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Washington State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vision of Developmental Disabil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848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nitoring for Drug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90090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important to know the person’s normal baselin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bserve for anything out of the ordinary for that pers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reasonable to remember all the side effects for every drug residents tak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familiar with the most likely side effects for long-term drug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proactive in contacting the pharmacist or health care provider if you are concerned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cord-Keep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e on calendar or on record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new drug sta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dosage chan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old drug s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changes are ma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ep updated list of all current drugs to share with health care provide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eneric vs. Trade Nam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A new drug has patent - only one company can make it for several ye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A new drug has both a generic and trade nam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The generic name is the chemical nam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The trade name is the same as the brand nam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After the patent runs out, other companies can make it under the generic name and may add their own trade name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s of Generic and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ade Nam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680" y="2514600"/>
            <a:ext cx="889632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buprofen (Motrin, Adv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phenhydramine (Benadryl, Compoz, Sominex 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eudoephedrine (Sudafed, Drixoral non-drows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enytoin (Dilanti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etominophen (Tylenol, Panadol, Datril, Tempr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bination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ain more than one drug in the same pill or liqui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name doesn’t always tell you what’s in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ortant to know what’s there so clients  don’t receive a double do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common in over-the-counter drugs such as cold remed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ver the Counter (OT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prescription drug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ll have risk for side effects, overdosing, cross-reactions and allergic reaction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uld be used careful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ten combination drugs-know what’s in the ones being used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ug Clas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sed on the main effects and actions of dru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drugs fit in more than one c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drugs are used for other purposes than they were originally intend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s in the same class have some of the same side-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s of Drug Clas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bio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-epilep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-psycho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histam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ongest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depress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-steroidal Anti-inflammatory (NSAI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sychoactive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so called psychopharmacologic or psychotropi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 class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anxiety (Xanax, BuSpar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depressant (Elavil, Proza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psychotic (Risperdal, Zyprexa, Haldol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mania (lithiu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dative/hypnotic (Restoril, Nocte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imulant (Rital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seizure or Anti-epileptic (Tegretol, Neuront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sychoactive Drug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nded to treat psychiatric conditions, but often given to control behavio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ken long te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have lots of side 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st balance usefulness against side 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ctor does the balancing based on the information we give her or him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rd-keeping helps a lot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 Staf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aran Brown, JD, Ed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incipal Investig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athleen Watson, PhD, R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oject Director/Trainer and Par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ther Molone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oject Assistant and Par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inciples to Reme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nitor the condition or behavior the drug is being given for (eg., seizures, depress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especially alert when a new drug is added, a drug is stopped or tapered off, or dosage is changed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t up a record-keeping system for behavior and side effect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the participant gets to appointments for lab work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Quality of Lif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cations should improve the quality of life for participants, not make it wor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gin with the primary health care provid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quality of life seems to be declining rather than improving, seek help from local mental health cen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this isn’t working, ask DDD Case Manager for assist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proactive and persistent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ypical Antipsycho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lorprom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loperid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u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orid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xap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typical Antipsycho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piprazo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ilif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iprasido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don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tiapi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oque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an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yprex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ido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d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ri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 Drugs (AED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old standard ones and lots of new o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of the newer ones are also used for controlling behavio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ortant to monitor for side effects and keep seizure reco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require the provider to do periodic laboratory work to monitor for side effec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12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Phenobarbita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Felb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38   Phenytoi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Gabapent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60   Ethosuximide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4   Lamotrig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4   Carbamazepin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   Topir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8   Valproate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Tiagab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9   Levetiracet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Oxcarbazep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Zonisam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things to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9031320" cy="35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affect level of alertness, balance, muscle tone, appetite, weight, m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port any increased bruising or bleed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yellowing of skin or ey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sh that gets worse or won’t go aw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fever or signs of 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s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 sid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3840" y="22856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Usually short-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kin rash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oss of co-ordi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ausea or vomi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ffects on thinking (could be long-ter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ost common:  dizziness, headache, double visio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leepi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bio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taken with food to avoid stomach ups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foods or medicines may interfere with absorp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tch for stomach upset or rash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p the drug immediately if rash, itching or difficulty breathing occu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 911 for problems with breathing or acute distr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7680" y="2590560"/>
            <a:ext cx="8896320" cy="29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skin color or temperatur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uish, red, pallor, yellow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sh or other unusual mark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els hot or cold to the tou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asic Assump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, as the caregiver, have the opportunity to improve the quality of life for each of the participants with whom you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can do this by assuming that it is all up to you and therefore being pro-active, assertive and behaving like a dete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responsibility in a home-like sett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7680" y="2590920"/>
            <a:ext cx="8896320" cy="32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bowel or urinary chang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arrhea or constip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quent or infrequent urin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rination difficult, delayed or painfu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dwet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walking or gait chang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lling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ow or shuffling wal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mbling, poor balance, unsure of foo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7680" y="23619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change in movement level or in musc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ms slow, moves in slow motion, trouble getting star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ittery, antsy, pacing, can’t sit still, constantly jiggling or pumping legs, has to get out of chair after short period of ti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scle rigidity or stiffn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usea, vomiting or g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896320" cy="28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change in sleep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eeps longer or shor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getting to slee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ightmares or bad drea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change in eating or drinking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ting more or l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inking more or l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change in spee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ooling or dry mou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ms to be slurring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esn’t seem to be talking much any m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fatig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ddenly does not want to get up in morn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red, day-time sleep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dation, lethargy, malai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ggin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768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mood chang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uchy, irritable, hard to get along wi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losive behavior out of charac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ying, tearful, sad, withdra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sonality chan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8896320" cy="26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and unexpected trouble concentrating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paying atten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remembering th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performing activity, work or pla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Causing the Behavio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in or discomfor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otional distress due to situation or environme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mptom of a mental health problem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de effect or adverse effect of a medica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the person’s normal stat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a “behavior”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ing an Informed Consum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ve one staff member who is the health advocate for each client: develop relationship with provid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websites by reputable organizations such as universi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ep reference books such as those designed for nur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rug gui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cyclopedia/dictiona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dication Rights+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ight Dru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right Do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right Rou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right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the right Pers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For the right R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dication Errors-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Might They Happe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arma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son transcribing to recording she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son administer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12:27Z</dcterms:created>
  <dc:creator>Kathleen Clotfelter Watson</dc:creator>
  <dc:description/>
  <dc:language>en-US</dc:language>
  <cp:lastModifiedBy>kwatson</cp:lastModifiedBy>
  <dcterms:modified xsi:type="dcterms:W3CDTF">2005-01-21T15:54:32Z</dcterms:modified>
  <cp:revision>10</cp:revision>
  <dc:subject/>
  <dc:title>Medications:</dc:title>
</cp:coreProperties>
</file>