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D20E-F0A3-46A1-99D7-87636EB4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0D3-C003-4F20-9D1F-75E2A37A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9E5-C45D-41C0-85E9-3D5890FA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B3F-29FD-4E27-A572-559EE30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F12-A97A-4A09-93C8-0E9A02ED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B1BE-6870-4FB5-BBEB-AF2E9E51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26F9-6F12-4DEA-ABC0-8D4ED7BF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0C2C-979A-491B-ADBD-FCEC90D1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4B4-C899-47C4-A7B4-71BBE1B4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EB39-351F-4092-A82E-AD567CF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549-CC4E-4620-9589-FB98B84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F95-15C9-42A4-A611-AE4F255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99D-DFAB-4557-8F02-30CD3BC8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174F-F7B5-464E-A657-CB18614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68CA-7443-4717-8458-0559A10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74C8-3EC1-4AC7-AE8E-64AA2D6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5F66-7238-475C-AE1E-A5EF8172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5DDA-A81B-4109-B661-0EC848C1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E27-1F10-439D-AF7C-DF1B23F0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3AB-1904-4198-AC62-D6F1029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95A-2208-431C-A8F4-E37FAF25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28B-B7B5-44A3-8814-1DA24F79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9D3-97F1-4F50-816A-60CE41A6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DE0-4BFA-4572-B980-99192CE5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104-B912-484E-9269-6060266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A30-2A59-423B-ACE6-1AE924D82E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F2CB-F591-40CA-BB37-E98090813B9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cibiendo un Buen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xperiencia de la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ncelación de última hora a causa de problemas de personal o transpor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llega con su representante, el cual, carece de información sobre el historial o problema act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regresa por sus recomendaciones, pero no se han hecho las respectivas recomendaciones, o todavía no se han registrado los resulta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Encontrar a una Persona para el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embros de familia pueden pedir a su propio doctor que cuide de un nuevo pacie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ídele a tu doctor, u otra persona que cuide a pacientes, que te recomiende a algui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ide nombres a amigos, jefes de casos, padres de familia, capítulos locales Arc, o personal del hospit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Conseguir Mejor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largo plazo: mantente informado y VOTA por mejores fond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ra corto plaz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un consumidor activo por el cuidado de salu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Ten mayor conoc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ara hacer más fácil su trabajo, entrega toda la información y ayuda a la persona a cargo del cuida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e responsable por la comunicación y segui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El Equip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aciente – es su salud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Representante – sea familiar o persona a cargo del cuidado del participante.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TU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tienes la información crítica para el doctor y es esencial para seguir las recomendacion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octor o Persona a Cargo del Cuidado – experiencia médic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rsonal de Oficina – contacto con persona a cargo del cuidado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 Oficina del Do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fermera y persona para entregar cit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s personas procesan toda la información para e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eva un registro de sus nombres y tare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lámalas si tienes dudas sobre un procedimiento, o si necesitas mayor inform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ompañar y apoyar al paciente cuando vaya a un lugar o ambiente extrañ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yudar a que el paciente aproveche al máximo cada visita al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acilitar la comunicación entre paciente y doct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reas Importantes del Representante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ntregar el historial médico y cualquier otra información necesar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el problema / consulta actual, y la diferencia con su estado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cer preguntas, explicar la terapia recomendada, registrar las recomendaciones y hacer el seguimiento respectivo para asegurarse que estas se cum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Qué Esperan Doctores de los Representant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licar cuál es la diferencia entre la situación actual y la norm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ugerir formas para interactua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al doctor la calidad de vida y relaciones del paci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r las metas del tratamiento. (ejemplo, eliminar por completo los ataques o mantener el estado alerta y calidad de vid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Cómo Hacer las Cita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olicita la mejor hora del dí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Si no puedes esperar, pide la primera cita de la mañana o luego del almuerz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ependiendo de tu necesidad por transporte o personal, pide la cita en la mañana o la tar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 es necesario, solicita más tiemp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Un problema de salud complic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Necesidad para comunic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roblemas de comport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Varias razo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 momento de recibir atención, se puede observar agresión o SIB como una forma de manifestar ansieda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edir a un familiar o personal con experiencia, que acompañe al pacient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e ser posible, hacer una visita a la oficina del médico antes de la cita designada. Esto ayudará a que no haya tanta ansiedad el día de la ci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Times New Roman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eparándose para la Visita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Vestir al paciente con ropa que sea fácil de quitar y colocar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comidas o entretenimientos para el tiempo de espe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Llevar accesorios de limpieza, o en caso de una espera larga, un pantalón y camisa extra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Copia del cupón médico o tarjeta de seguro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ara entregar al médico copias escritas y con fecha de la información de salud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Necesidad de Crear un Historial de Salud para Cada Resid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os pacientes no pueden crear su propio histor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robable que el padre/madre o miembro de familia no esté presente en ese momento, o en el futur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 posible que el personal de la casa residencial no tenga información debido al cambio de personal o mudanza de cl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on el paso de los años, información crítica puede perderse o no puede ser acce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ategorías Importantes de la Información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formación de contacto y factur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istorial pasado y problemas de salud a largo plaz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ado normal de la persona, incluyendo las habilidades y nivel de sus funcio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roblem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Información de Contacto y Factur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y teléfono actual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l representant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Estado de su guardián / custodio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l guardián / padre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Dirección de la persona de contacto en caso de emergenci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Información de seguro y cupón médic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Nombre de la farmacia predilecta y teléfon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agnósticos pasad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edades y causa de muerte de miembros de famili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enfermedades, heridas y cirugías mayo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echas de inmunizaciones / vacun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sumen del Historial Médico (continuación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lergias: qué causa el problema y cuál es la reacción? (ejemplo, sarpullido, dolor de cabeza, nausea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problemas de salud actuales y diagnóst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ombre y especialidad de los médicos actuales o reci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ista de todas las medicinas y suplementos actuales, incluyendo nombre, cantidad, frecuencia, razón, fecha de inicio, y cualquier efecto secundari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dición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l nivel aproximado de entendimiento, y cuál es la mejor forma de comuni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apacidad de tomar decisiones con respecto a su salu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Funciones corpo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tuación de vida act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sistencia actual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blema de Salud Act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el problem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uál es la diferencia con su comportamiento habitual o norm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cuánto tiempo ha estado sucedien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algo que empeore o mejore su condi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e ha trat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Cómo ha funcionad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r Activo(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er directo y hablar únicamente del tema; ahorra tiemp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regunta si tienes alguna duda o necesitas explicación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Si tienes alguna duda sobre la recomendación, habla al respec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Pide que las instrucciones y recomendaciones sean entregadas por escrito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aea"/>
                </a:solidFill>
                <a:latin typeface="Times New Roman"/>
              </a:rPr>
              <a:t>Asegúrate de recibir por escrito las instrucciones de nuevas medicinas, y cambio en las medicinas.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Segu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cribe detalladamente en el registro del paciente, los detalles de l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Comparte la información, recomendaciones y resultados, con todo el personal, padres o guardi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trega inmediatamente, a las enfermeras delegadas o personal, las instrucciones de cambio de medicin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ide al personal estar alerta a los efectos deseados de la nueva medicación o cambio de dosis, o cualquier posible efecto secundario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Registra cualquier cambio para que puedas informar al médico en la próxima visi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l del Proyec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Investigador Princip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Directora del Proyecto/Instructora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_tradnl" sz="3200" spc="-1" strike="noStrike">
                <a:solidFill>
                  <a:srgbClr val="eaeaea"/>
                </a:solidFill>
                <a:latin typeface="Times New Roman"/>
              </a:rPr>
              <a:t>Asistente del Proyecto y Madre de Fami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rsonas a Carg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Cuidado de Salu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Incluye varios tip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Enferme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Doctores de Famil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Inter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Neurólog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Asistentes de Do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Terapeutas Fís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Psiquiat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Farmacéuti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incipales Personas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 Cargo del Cuida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quellos que otorgan el cuidado de salud básico de una persona durante un tiempo prolongado. Por lo general, se espera que coordinen el cuidado a través de otro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Doctor de Famili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Medicina Interna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nfermera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Osteópata (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moviendo la Salud: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Un Cambio Paradójico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Énfasis en el pasado por prevenir las condiciones que causan discapacidad. Negligencia de la salud personal.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uevo enfoque en evaluar y mejorar la salud personal, prevención de condiciones secundarias y enfermedades crónica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228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rabajando como Dete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Por lo general, la comunicación sucede a través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quien debe interpretar el significado del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res TU la persona que debe asegurarse que se tomen acciones para mejorar el problema que causa este comportamient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Qué sucede si TU no tomas esta responsabilida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93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Qué Esperas de Una Persona a Cargo del Cuidado y Atención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Actitud positiva hacia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sposición para aceptar fondos disponib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bilidad y experiencia cuidando personas con discapacidad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Buena relación con el paciente y su representant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¿Por Qué Es Difícil Encontrar a Alguien que Otorgue Cuidad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os fondos para atención y cuidado no son buenos, y están empeoran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Pocas personas están entrenadas o tienen experiencia en el cuidado de personas con discapacidad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Es difícil, y toma muchísimo tiempo el cuidar a personas que no pueden hablar, que tienen problema de comunicación o comportamien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Times New Roman"/>
              </a:rPr>
              <a:t>Las personas a cargo del cuidado y atención también pueden ser afectadas por estereotipos y actitudes negativas, miedo a lo desconocid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watsonkc</cp:lastModifiedBy>
  <dcterms:modified xsi:type="dcterms:W3CDTF">2005-06-27T18:04:02Z</dcterms:modified>
  <cp:revision>23</cp:revision>
  <dc:subject/>
  <dc:title>Getting Good Health Care</dc:title>
</cp:coreProperties>
</file>