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D378-16A2-4202-8739-4838B955A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 focus on medical interventions, but even this was sometimes controvers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F56E-5788-4C51-94AC-34AADDFE5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F1E1-BA05-477A-A08F-4B735C07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6268-AEE3-43CD-B433-E41C72485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72F1-A434-465E-B0F6-097777141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8E36-72E8-48F4-9CC0-D17962643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07FEA-7F7D-428F-853C-37DE753E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C51C-CD78-4FD3-861C-97184459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478E4-5599-4B1B-B06F-4938D4CB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F9F2-A112-48CD-84CB-6D58DF63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90421-6B2B-4106-81AE-E2EDF376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39D7-0F1C-4B90-8FB7-979233E1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7236-0FBF-4B93-B6E8-9CC2B77A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4AB6-8382-4F26-9DBB-68A7EFC8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3C41-F160-447B-8FAE-C0295C13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F9B51-3B4A-457A-BCF1-98FE4881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D451-62AE-4293-AA36-23D51F6F6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A6C5-ADCD-46D8-AD77-7715B684B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6F8A-0A2C-400F-9946-B8DF4255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7B46-4577-4BFC-8189-E3AE53C9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EE4E-3ADD-48B0-848A-60F7E8EF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E240-8E1F-4946-869F-7001DB0A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9F44-29DE-4356-AAC0-AF944F8E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1601-49F3-4959-ADF1-415E8CD7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0E0A-8F0C-4948-9F12-B8082E6D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25C2-A0FE-4831-8666-C8E7683B565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90D6-9959-44FF-BC92-0C13D8B6259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Recibiendo un Buen Cuidad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Experiencia de las Personas</a:t>
            </a:r>
            <a:br>
              <a:rPr sz="44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a Cargo del Cuidad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Cancelación de última hora a causa de problemas de personal o transport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Paciente llega con su representante, el cual, carece de información sobre el historial o problema actual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Paciente regresa por sus recomendaciones, pero no se han hecho las respectivas recomendaciones, o todavía no se han registrado los resultado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¿Cómo Encontrar a una Persona para el Cuidado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Miembros de familia pueden pedir a su propio doctor que cuide de un nuevo pacient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Pídele a tu doctor, u otra persona que cuide a pacientes, que te recomiende a alguien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Pide nombres a amigos, jefes de casos, padres de familia, capítulos locales Arc, o personal del hospital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¿Cómo Conseguir Mejor Cuidado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Para largo plazo: mantente informado y VOTA por mejores fondo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Para corto plazo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Se un consumidor activo por el cuidado de salud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Ten mayor conocimiento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Para hacer más fácil su trabajo, entrega toda la información y ayuda a la persona a cargo del cuidado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Se responsable por la comunicación y seguimiento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El Equip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Paciente – es su salud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Representante – sea familiar o persona a cargo del cuidado del participante. 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TU</a:t>
            </a: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 tienes la información crítica para el doctor y es esencial para seguir las recomendaciones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Doctor o Persona a Cargo del Cuidado – experiencia médic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Personal de Oficina – contacto con persona a cargo del cuidado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Personal de Oficina del Docto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Enfermera y persona para entregar cita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Estas personas procesan toda la información para el docto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Lleva un registro de sus nombres y tarea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Llámalas si tienes dudas sobre un procedimiento, o si necesitas mayor informació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Tareas Importantes del Representan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Acompañar y apoyar al paciente cuando vaya a un lugar o ambiente extraño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Ayudar a que el paciente aproveche al máximo cada visita al docto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Facilitar la comunicación entre paciente y docto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Tareas Importantes del Representante (continuación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5280" y="19807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Entregar el historial médico y cualquier otra información necesari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Explicar cuál es el problema / consulta actual, y la diferencia con su estado normal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Hacer preguntas, explicar la terapia recomendada, registrar las recomendaciones y hacer el seguimiento respectivo para asegurarse que estas se cumpla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¿Qué Esperan Doctores de los Representante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Explicar cuál es la diferencia entre la situación actual y la normal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Sugerir formas para interactua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Informar al doctor la calidad de vida y relaciones del pacient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Informar las metas del tratamiento. (ejemplo, eliminar por completo los ataques o mantener el estado alerta y calidad de vida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¿Cómo Hacer las Cita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238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Solicita la mejor hora del dí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Si no puedes esperar, pide la primera cita de la mañana o luego del almuerzo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Dependiendo de tu necesidad por transporte o personal, pide la cita en la mañana o la tard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Si es necesario, solicita más tiempo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Un problema de salud complicado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Necesidad para comunicació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Problemas de comportamiento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Varias razon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Preparándose para la Visit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47560" y="17521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Al momento de recibir atención, se puede observar agresión o SIB como una forma de manifestar ansiedad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Pedir a un familiar o personal con experiencia, que acompañe al paciente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De ser posible, hacer una visita a la oficina del médico antes de la cita designada. Esto ayudará a que no haya tanta ansiedad el día de la cit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838080"/>
            <a:ext cx="70102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Elaborado en colaboración y con fondos de: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El Concilio de Washington para Discapacidades Generadas en la Niñez,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El Centro para el Desarrollo Humano y Discapacidades de la Universidad de Washington,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Centro del Noroeste,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Y la División del Estado De Washington de Discapacidades Generadas en la Niñez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Preparándose para la Visita (continuación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aea"/>
                </a:solidFill>
                <a:latin typeface="Times New Roman"/>
              </a:rPr>
              <a:t>Vestir al paciente con ropa que sea fácil de quitar y colocar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aea"/>
                </a:solidFill>
                <a:latin typeface="Times New Roman"/>
              </a:rPr>
              <a:t>Llevar comidas o entretenimientos para el tiempo de espera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aea"/>
                </a:solidFill>
                <a:latin typeface="Times New Roman"/>
              </a:rPr>
              <a:t>Llevar accesorios de limpieza, o en caso de una espera larga, un pantalón y camisa extra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aea"/>
                </a:solidFill>
                <a:latin typeface="Times New Roman"/>
              </a:rPr>
              <a:t>Copia del cupón médico o tarjeta de seguro médico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aea"/>
                </a:solidFill>
                <a:latin typeface="Times New Roman"/>
              </a:rPr>
              <a:t>Para entregar al médico copias escritas y con fecha de la información de salud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Necesidad de Crear un Historial de Salud para Cada Residen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Los pacientes no pueden crear su propio histori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Es probable que el padre/madre o miembro de familia no esté presente en ese momento, o en el futuro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Es posible que el personal de la casa residencial no tenga información debido al cambio de personal o mudanza de client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Con el paso de los años, información crítica puede perderse o no puede ser accesibl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Categorías Importantes de la Información de Salu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Información de contacto y facturació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Historial pasado y problemas de salud a largo plazo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Estado normal de la persona, incluyendo las habilidades y nivel de sus funcion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Problema actual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Información de Contacto y Facturació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aea"/>
                </a:solidFill>
                <a:latin typeface="Times New Roman"/>
              </a:rPr>
              <a:t>Dirección y teléfono actual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aea"/>
                </a:solidFill>
                <a:latin typeface="Times New Roman"/>
              </a:rPr>
              <a:t>Nombre del representante y teléfono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aea"/>
                </a:solidFill>
                <a:latin typeface="Times New Roman"/>
              </a:rPr>
              <a:t>Estado de su guardián / custodio. 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aea"/>
                </a:solidFill>
                <a:latin typeface="Times New Roman"/>
              </a:rPr>
              <a:t>Dirección del guardián / padre y teléfono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aea"/>
                </a:solidFill>
                <a:latin typeface="Times New Roman"/>
              </a:rPr>
              <a:t>Dirección de la persona de contacto en caso de emergencia y teléfono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aea"/>
                </a:solidFill>
                <a:latin typeface="Times New Roman"/>
              </a:rPr>
              <a:t>Información de seguro y cupón médico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aea"/>
                </a:solidFill>
                <a:latin typeface="Times New Roman"/>
              </a:rPr>
              <a:t>Nombre de la farmacia predilecta y teléfono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Resumen del Historial Médic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Diagnósticos pasado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Lista de edades y causa de muerte de miembros de famili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Fechas de enfermedades, heridas y cirugías mayor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Fechas de inmunizaciones / vacuna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Resumen del Historial Médico (continuación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Alergias: qué causa el problema y cuál es la reacción? (ejemplo, sarpullido, dolor de cabeza, nausea, etc.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Lista de problemas de salud actuales y diagnóstico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Nombre y especialidad de los médicos actuales o recient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Lista de todas las medicinas y suplementos actuales, incluyendo nombre, cantidad, frecuencia, razón, fecha de inicio, y cualquier efecto secundario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Condición Actu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El nivel aproximado de entendimiento, y cuál es la mejor forma de comunicació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Capacidad de tomar decisiones con respecto a su salu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Funciones corporal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Situación de vida actual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Asistencia actual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Problema de Salud Actu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Cuál es el problema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Cuál es la diferencia con su comportamiento habitual o normal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Por cuánto tiempo ha estado sucediendo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Hay algo que empeore o mejore su condición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Qué se ha tratado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Cómo ha funcionado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Ser Activo(a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aea"/>
                </a:solidFill>
                <a:latin typeface="Times New Roman"/>
              </a:rPr>
              <a:t>Ser directo y hablar únicamente del tema; ahorra tiempo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aea"/>
                </a:solidFill>
                <a:latin typeface="Times New Roman"/>
              </a:rPr>
              <a:t>Pregunta si tienes alguna duda o necesitas explicación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aea"/>
                </a:solidFill>
                <a:latin typeface="Times New Roman"/>
              </a:rPr>
              <a:t>Si tienes alguna duda sobre la recomendación, habla al respecto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aea"/>
                </a:solidFill>
                <a:latin typeface="Times New Roman"/>
              </a:rPr>
              <a:t>Pide que las instrucciones y recomendaciones sean entregadas por escrito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aea"/>
                </a:solidFill>
                <a:latin typeface="Times New Roman"/>
              </a:rPr>
              <a:t>Asegúrate de recibir por escrito las instrucciones de nuevas medicinas, y cambio en las medicinas.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Seguimient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Escribe detalladamente en el registro del paciente, los detalles de la visit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Comparte la información, recomendaciones y resultados, con todo el personal, padres o guardian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Entrega inmediatamente, a las enfermeras delegadas o personal, las instrucciones de cambio de medicin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Pide al personal estar alerta a los efectos deseados de la nueva medicación o cambio de dosis, o cualquier posible efecto secundario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Registra cualquier cambio para que puedas informar al médico en la próxima visit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Personal del Proyect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haran Brown, JD, Ed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eaeaea"/>
                </a:solidFill>
                <a:latin typeface="Times New Roman"/>
              </a:rPr>
              <a:t>Investigador Princip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athleen Watson, PhD, RN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eaeaea"/>
                </a:solidFill>
                <a:latin typeface="Times New Roman"/>
              </a:rPr>
              <a:t>Directora del Proyecto/Instructora y Madre de Famili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sther Molone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eaeaea"/>
                </a:solidFill>
                <a:latin typeface="Times New Roman"/>
              </a:rPr>
              <a:t>Asistente del Proyecto y Madre de Famili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Personas a Cargo</a:t>
            </a:r>
            <a:br>
              <a:rPr sz="44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del Cuidado de Salu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Incluye varios tipo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Enfermer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Doctores de Famili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Intern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Neurólog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Asistentes de Doc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Terapeutas Físic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Psiquiatr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Farmacéutic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Principales Personas</a:t>
            </a:r>
            <a:br>
              <a:rPr sz="44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a Cargo del Cuidad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Aquellos que otorgan el cuidado de salud básico de una persona durante un tiempo prolongado. Por lo general, se espera que coordinen el cuidado a través de otro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Doctor de Familia (MD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Medicina Interna (MD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Enfermera (ARNP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Osteópata (D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Promoviendo la Salud:</a:t>
            </a:r>
            <a:br>
              <a:rPr sz="44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 Un Cambio Paradójico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3915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Énfasis en el pasado por prevenir las condiciones que causan discapacidad. Negligencia de la salud personal.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Nuevo enfoque en evaluar y mejorar la salud personal, prevención de condiciones secundarias y enfermedades crónicas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15000" y="562284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(Rimmer, 1999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Trabajando como Detectiv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Por lo general, la comunicación sucede a través del comportamiento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Eres TU quien debe interpretar el significado del comportamiento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Eres TU la persona que debe asegurarse que se tomen acciones para mejorar el problema que causa este comportamiento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Qué sucede si TU no tomas esta responsabilidad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9348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Qué Esperas de Una Persona a Cargo del Cuidado y Atención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Actitud positiva hacia personas con discapacidade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Disposición para aceptar fondos disponible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Habilidad y experiencia cuidando personas con discapacidade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Buena relación con el paciente y su representant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¿Por Qué Es Difícil Encontrar a Alguien que Otorgue Cuidado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18284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Los fondos para atención y cuidado no son buenos, y están empeorando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Pocas personas están entrenadas o tienen experiencia en el cuidado de personas con discapacidade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Es difícil, y toma muchísimo tiempo el cuidar a personas que no pueden hablar, que tienen problema de comunicación o comportamiento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Las personas a cargo del cuidado y atención también pueden ser afectadas por estereotipos y actitudes negativas, miedo a lo desconocido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6:35:01Z</dcterms:created>
  <dc:creator>Kathleen Clotfelter Watson</dc:creator>
  <dc:description/>
  <dc:language>en-US</dc:language>
  <cp:lastModifiedBy>watsonkc</cp:lastModifiedBy>
  <dcterms:modified xsi:type="dcterms:W3CDTF">2005-06-27T18:04:02Z</dcterms:modified>
  <cp:revision>23</cp:revision>
  <dc:subject/>
  <dc:title>Getting Good Health Care</dc:title>
</cp:coreProperties>
</file>