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48ED-738D-4844-9313-922636C7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017-9876-42BB-8EA2-609FB79A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B1D-E9D0-4973-9D55-8D08E936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CAF-AB21-4D44-9442-8EBE4319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A3-4B46-4008-88C9-2C2C77A9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17C9-52D2-4537-BD16-139106E0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EB6-DAA4-4108-8B68-98207A7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B030-5920-4547-A21C-DE912838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C3F2-7DB2-4B97-A537-91D2592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7E1-2F16-45EF-A07F-ED64E7C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88F-9DCB-44BF-B4B5-B083CCF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E38D-19D9-43A7-A45A-52B2969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41C-EEBB-4329-B4DC-740EC00C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5A8-DDEB-472C-B41B-FB23BE0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C82C-7761-4DE1-9D0D-4D16565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F632-C630-43EA-B3DE-E350594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8AE5-FF1B-4B81-A4D3-11A300C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568A-7638-4B1D-AD93-B076B220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C1C-ADAE-4D3C-A497-930FC4F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A3B-65D9-4847-BEC5-F6CCF75A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7CC-8296-4B4D-8FA9-453E45D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9FA-1998-476A-A7E5-84AF341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AE8-2578-4530-A3C5-98CF007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05E-61C7-4A52-93E4-12CE2647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F47-121D-4DA5-BF91-44F0FDC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82D-9668-4820-AF7E-72B5CC13A6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882-9AB0-4CBB-82AE-32B59D7A30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ibiendo un Buen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xperiencia de la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ncelación de última hora a causa de problemas de personal o transpor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llega con su representante, el cual, carece de información sobre el historial o problema act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regresa por sus recomendaciones, pero no se han hecho las respectivas recomendaciones, o todavía no se han registrado los resulta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Encontrar a una Persona para el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embros de familia pueden pedir a su propio doctor que cuide de un nuevo paci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ídele a tu doctor, u otra persona que cuide a pacientes, que te recomiende a algui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ide nombres a amigos, jefes de casos, padres de familia, capítulos locales Arc, o personal del hospit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Conseguir Mejor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largo plazo: mantente informado y VOTA por mejores fon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corto plaz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un consumidor activo por el cuidado de salu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Ten mayor conoc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ara hacer más fácil su trabajo, entrega toda la información y ayuda a la persona a cargo del cuida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responsable por la comunicación y segu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l Equip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– es su salu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Representante – sea familiar o persona a cargo del cuidado del participante.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TU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tienes la información crítica para el doctor y es esencial para seguir las recomendacion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octor o Persona a Cargo del Cuidado – experiencia médic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rsonal de Oficina – contacto con persona a cargo del cuidado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 Oficina del Do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fermera y persona para entregar cit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s personas procesan toda la información para e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eva un registro de sus nombres y tare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ámalas si tienes dudas sobre un procedimiento, o si necesitas mayor inform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ompañar y apoyar al paciente cuando vaya a un lugar o ambiente extrañ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yudar a que el paciente aproveche al máximo cada visita a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acilitar la comunicación entre paciente y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tregar el historial médico y cualquier otra información necesar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el problema / consulta actual, y la diferencia con su estado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cer preguntas, explicar la terapia recomendada, registrar las recomendaciones y hacer el seguimiento respectivo para asegurarse que estas se cum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Qué Esperan Doctores de los Representant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la diferencia entre la situación actual y la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ugerir formas para interactu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al doctor la calidad de vida y relaciones del paci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las metas del tratamiento. (ejemplo, eliminar por completo los ataques o mantener el estado alerta y calidad de vid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Hacer las Cita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olicita la mejor hora del dí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i no puedes esperar, pide la primera cita de la mañana o luego del almuerz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pendiendo de tu necesidad por transporte o personal, pide la cita en la mañana o la tar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 es necesario, solicita más tiemp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Un problema de salud complic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Necesidad para comunic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roblemas de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Varias raz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 momento de recibir atención, se puede observar agresión o SIB como una forma de manifestar ansieda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dir a un familiar o personal con experiencia, que acompañe al pacient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e ser posible, hacer una visita a la oficina del médico antes de la cita designada. Esto ayudará a que no haya tanta ansiedad el día de la ci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Vestir al paciente con ropa que sea fácil de quitar y coloca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comidas o entretenimientos para el tiempo de espe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accesorios de limpieza, o en caso de una espera larga, un pantalón y camisa ext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Copia del cupón médico o tarjeta de seguro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ara entregar al médico copias escritas y con fecha de la información de salud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Necesidad de Crear un Historial de Salud para Cada Resid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os pacientes no pueden crear su propio his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robable que el padre/madre o miembro de familia no esté presente en ese momento, o en el futur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osible que el personal de la casa residencial no tenga información debido al cambio de personal o mudanza de cl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on el paso de los años, información crítica puede perderse o no puede ser acce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ategorías Importantes de la Información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ción de contacto y factur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istorial pasado y problemas de salud a largo plaz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do normal de la persona, incluyendo las habilidades y nivel de sus funcio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roblem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Información de Contacto y Factur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y teléfono actual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l representant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Estado de su guardián / custodio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l guardián / padr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 la persona de contacto en caso de emergenci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Información de seguro y cupón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 la farmacia predilect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agnósticos pas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edades y causa de muerte de miembros de famil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enfermedades, heridas y cirugías may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inmunizaciones / vacun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ergias: qué causa el problema y cuál es la reacción? (ejemplo, sarpullido, dolor de cabeza, nausea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problemas de salud actuales y diagnóst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ombre y especialidad de los médicos actuales o rec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todas las medicinas y suplementos actuales, incluyendo nombre, cantidad, frecuencia, razón, fecha de inicio, y cualquier efecto secundari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dición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l nivel aproximado de entendimiento, y cuál es la mejor forma de comuni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pacidad de tomar decisiones con respecto a su salu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unciones corpo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tuación de vid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sistencia actua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blema de Salud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el problem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la diferencia con su comportamiento habitual o norm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cuánto tiempo ha estado sucedien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algo que empeore o mejore su condi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e ha trat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ómo ha funcion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r Activo(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er directo y hablar únicamente del tema; ahorra tiemp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regunta si tienes alguna duda o necesitas explicación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i tienes alguna duda sobre la recomendación, habla al respec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ide que las instrucciones y recomendaciones sean entregadas por escri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Asegúrate de recibir por escrito las instrucciones de nuevas medicinas, y cambio en las medicinas.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gu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cribe detalladamente en el registro del paciente, los detalles de l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Comparte la información, recomendaciones y resultados, con todo el personal, padres o guardi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trega inmediatamente, a las enfermeras delegadas o personal, las instrucciones de cambio de medicin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ide al personal estar alerta a los efectos deseados de la nueva medicación o cambio de dosis, o cualquier posible efecto secundari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Registra cualquier cambio para que puedas informar al médico en la próxim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Investigador Princip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Directora del Proyecto/Instructora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Asistente del Proyecto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s a Carg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Cuidado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cluye varios tip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nferme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Doctores de Famil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Inter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Neurólog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sistentes de Do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Terapeutas Fís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siquiat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Farmacéut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incipale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quellos que otorgan el cuidado de salud básico de una persona durante un tiempo prolongado. Por lo general, se espera que coordinen el cuidado a través de otr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octor de Famili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Medicina Intern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fermera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Osteópata (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moviendo la Salud: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Un Cambio Paradójico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Énfasis en el pasado por prevenir las condiciones que causan discapacidad. Negligencia de la salud personal.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uevo enfoque en evaluar y mejorar la salud personal, prevención de condiciones secundarias y enfermedades crónica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228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rabajando como Dete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lo general, la comunicación sucede a través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quien debe interpretar el significado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la persona que debe asegurarse que se tomen acciones para mejorar el problema que causa este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ucede si TU no tomas esta responsabilida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93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Qué Esperas de Una Persona a Cargo del Cuidado y Atenció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titud positiva hacia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sposición para aceptar fondos disponib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bilidad y experiencia cuidando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Buena relación con el paciente y su representa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Por Qué Es Difícil Encontrar a Alguien que Otorgue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os fondos para atención y cuidado no son buenos, y están empeoran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ocas personas están entrenadas o tienen experiencia en el cuidado de personas con discapacidad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 difícil, y toma muchísimo tiempo el cuidar a personas que no pueden hablar, que tienen problema de comunicación o comporta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as personas a cargo del cuidado y atención también pueden ser afectadas por estereotipos y actitudes negativas, miedo a lo desconoci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watsonkc</cp:lastModifiedBy>
  <dcterms:modified xsi:type="dcterms:W3CDTF">2005-06-27T18:04:02Z</dcterms:modified>
  <cp:revision>23</cp:revision>
  <dc:subject/>
  <dc:title>Getting Good Health Care</dc:title>
</cp:coreProperties>
</file>