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2AA5-5CDA-4C3C-BCE6-044F466D2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3BDC2C-A47B-4F13-B490-5869F0C16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E9C8D0-3021-418E-A74A-88224A105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356DB4-ED96-446D-8486-DE872E8C5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FA96F-D898-4367-9F35-016A2676CB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CB49A-DE04-41FF-ACB4-D4388D712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6F429-C53E-45FB-863F-1C4EBEEA8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35519-EC73-46B2-AA42-37A338CD3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56954-6ECA-4A79-80A5-4A7DBCB55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CE09-26EA-4D26-9437-0AEF469EA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7428D-2859-49BC-996D-9EA9D7342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D5860-98BB-4B0F-BD71-82D795D5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9A8BC-CFF8-40BD-9C5B-D35D8B758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AC9D-634D-43CD-895F-9969E399C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13E16-B24C-4480-85DC-1505D974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41DC4-DF82-4390-AD7D-3832D819C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AA4F-C4EB-4463-90CC-637A756B2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B034A-AE64-4F9B-A4E3-954B25D32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C30BE-24D6-479D-8E5B-8A97CA814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E34514-8BE0-4F26-B487-BE0237383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B4CC6B-1D80-4E12-B52D-61AB7B588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76DB02-868D-477C-A029-8744D7135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EED37-7D24-4DF7-94D2-4265B3D48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637DD-EE3D-4258-B157-98FF47E43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109AC-8E35-4BEF-A30F-C2DB95496D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8BA4-CC9E-4A60-8610-34C88708C74E}"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22E6-A2A0-47F3-B1D5-9D9C03E65838}"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depts.washington.edu/nwgec" TargetMode="External"/><Relationship Id="rId8" Type="http://schemas.openxmlformats.org/officeDocument/2006/relationships/hyperlink" Target="http://depts.washington.edu/nwgec" TargetMode="External"/><Relationship Id="rId9" Type="http://schemas.openxmlformats.org/officeDocument/2006/relationships/hyperlink" Target="http://depts.washington.edu/nwgec" TargetMode="External"/><Relationship Id="rId10" Type="http://schemas.openxmlformats.org/officeDocument/2006/relationships/hyperlink" Target="http://depts.washington.edu/nwgec" TargetMode="External"/><Relationship Id="rId11" Type="http://schemas.openxmlformats.org/officeDocument/2006/relationships/hyperlink" Target="http://depts.washington.edu/nwgec" TargetMode="External"/><Relationship Id="rId12" Type="http://schemas.openxmlformats.org/officeDocument/2006/relationships/hyperlink" Target="http://depts.washington.edu/nwgec" TargetMode="External"/><Relationship Id="rId13" Type="http://schemas.openxmlformats.org/officeDocument/2006/relationships/hyperlink" Target="http://www.cdc.gov/tobacco/sgr/sgr_2004/index.htm" TargetMode="Externa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2062080"/>
            <a:ext cx="640080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300" spc="-1" strike="noStrike">
                <a:solidFill>
                  <a:srgbClr val="ffffff"/>
                </a:solidFill>
                <a:latin typeface="Eras Demi ITC"/>
              </a:rPr>
              <a:t>Hacia una Vejez Saludable:</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742840" y="4266720"/>
            <a:ext cx="62485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romoviendo la Salud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or Medio de Cambios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en el Estilo de Vida</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6" name="PlaceHolder 2"/>
          <p:cNvSpPr>
            <a:spLocks noGrp="1"/>
          </p:cNvSpPr>
          <p:nvPr>
            <p:ph/>
          </p:nvPr>
        </p:nvSpPr>
        <p:spPr>
          <a:xfrm>
            <a:off x="456840" y="2361960"/>
            <a:ext cx="75438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uede marcar la diferencia en la vida de una persona, </a:t>
            </a:r>
            <a:r>
              <a:rPr b="0" i="1" lang="es-ES_tradnl" sz="3200" spc="-1" strike="noStrike">
                <a:solidFill>
                  <a:srgbClr val="003300"/>
                </a:solidFill>
                <a:latin typeface="Georgia"/>
              </a:rPr>
              <a:t>sin importar la edad o discapacida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 cambio de añadir años a la vida, añade vida a los añ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arreras para el Cambio</a:t>
            </a:r>
            <a:endParaRPr b="0" lang="en-US" sz="4400" spc="-1" strike="noStrike">
              <a:solidFill>
                <a:srgbClr val="003300"/>
              </a:solidFill>
              <a:latin typeface="Eras Demi ITC"/>
            </a:endParaRPr>
          </a:p>
        </p:txBody>
      </p:sp>
      <p:sp>
        <p:nvSpPr>
          <p:cNvPr id="138" name="PlaceHolder 2"/>
          <p:cNvSpPr>
            <a:spLocks noGrp="1"/>
          </p:cNvSpPr>
          <p:nvPr>
            <p:ph/>
          </p:nvPr>
        </p:nvSpPr>
        <p:spPr>
          <a:xfrm>
            <a:off x="380880" y="2057040"/>
            <a:ext cx="792504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Fuentes Incompletas – poder y elección, pero falta de información – falta de entendimiento sobre las consecuencias – falta de talento para la preparación de aliment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Imágenes poderosas – comida chatarra, snacks, tabac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los hábitos de la persona a cargo del cuidado y atención – no es un buen model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Todos llevan a la resistencia al cambio – falta de motivación para cambiar.</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limina las Barreras!</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iviértete!</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con otras personas.</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antén el progres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elebra el éxit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arte de tu vida diaria.</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ositivo. Toma el cambio como un estilo de vida saludable, mas no como dieta o ejercicio.</a:t>
            </a:r>
            <a:endParaRPr b="0" lang="en-US" sz="3200" spc="-1" strike="noStrike">
              <a:solidFill>
                <a:srgbClr val="003300"/>
              </a:solidFill>
              <a:latin typeface="Georgi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Formas para Aumentar la Actividad Física en Forma Exitosa </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Primero recibir la aprobación médic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Considerar la edad y estilo de vida para el plan de cada perso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Aumentar la actividad física durante el dí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Utilizar recursos de la comunidad, tales como YMCA, Centros de Ancianos u Olimpiada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Solicitar programas adaptados para necesidade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Hacer ejercicio al menos tres veces a la sema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Mantener un programa divertido y con incentivos.</a:t>
            </a:r>
            <a:endParaRPr b="0" lang="en-US" sz="2400" spc="-1" strike="noStrike">
              <a:solidFill>
                <a:srgbClr val="003300"/>
              </a:solidFill>
              <a:latin typeface="Georg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9036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mponentes de un Buen </a:t>
            </a:r>
            <a:br>
              <a:rPr sz="4400"/>
            </a:br>
            <a:r>
              <a:rPr b="0" lang="es-ES_tradnl" sz="4400" spc="-1" strike="noStrike">
                <a:solidFill>
                  <a:srgbClr val="003300"/>
                </a:solidFill>
                <a:latin typeface="Eras Demi ITC"/>
              </a:rPr>
              <a:t>Estado Físi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2590920"/>
            <a:ext cx="8229600" cy="259056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ortalecimiento y resistencia de los músculo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lexibilidad</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Composición Corporal</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Resistencia Cardiovascular</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ando los Paso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da paso cuenta. Intenta usar un pedómetro!</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verigua cuantos pasos das al día.</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lanea aumentar los pasos cada día o semana.</a:t>
            </a:r>
            <a:endParaRPr b="0" lang="en-US" sz="32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2,000 pasos = 1 milla</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6,000 pasos al día para tener beneficios en la salud</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10,000 pasos al día para controlar tu peso</a:t>
            </a:r>
            <a:endParaRPr b="0" lang="en-US" sz="2400" spc="-1" strike="noStrike">
              <a:solidFill>
                <a:srgbClr val="003300"/>
              </a:solidFill>
              <a:latin typeface="Georgi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La Actividad Es Muy Importante!</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léjate del control remoto de la TV.</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mina a la tienda.</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Usa las escaleras a cambio del elevador.</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arquea tu auto en un lugar más alejado.</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uses el “drive-through”.</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e a caminar al mall.</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ájate del bus en una estación anterior. </a:t>
            </a:r>
            <a:endParaRPr b="0" lang="en-US" sz="3200" spc="-1" strike="noStrike">
              <a:solidFill>
                <a:srgbClr val="0033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Qué es una Dieta Saludable?</a:t>
            </a:r>
            <a:endParaRPr b="0" lang="en-US" sz="4400" spc="-1" strike="noStrike">
              <a:solidFill>
                <a:srgbClr val="003300"/>
              </a:solidFill>
              <a:latin typeface="Eras Demi ITC"/>
            </a:endParaRPr>
          </a:p>
        </p:txBody>
      </p:sp>
      <p:sp>
        <p:nvSpPr>
          <p:cNvPr id="150"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rutas y Vegetal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Granos y otras fibra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rnes sin grasa o alternativas de carn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productos diarios bajos en grasa.</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ariedad de comida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limentos Que Debes Comer Con Moderación</a:t>
            </a:r>
            <a:endParaRPr b="0" lang="en-US" sz="4400" spc="-1" strike="noStrike">
              <a:solidFill>
                <a:srgbClr val="003300"/>
              </a:solidFill>
              <a:latin typeface="Eras Demi ITC"/>
            </a:endParaRPr>
          </a:p>
        </p:txBody>
      </p:sp>
      <p:sp>
        <p:nvSpPr>
          <p:cNvPr id="152" name="PlaceHolder 2"/>
          <p:cNvSpPr>
            <a:spLocks noGrp="1"/>
          </p:cNvSpPr>
          <p:nvPr>
            <p:ph/>
          </p:nvPr>
        </p:nvSpPr>
        <p:spPr>
          <a:xfrm>
            <a:off x="457200" y="2362320"/>
            <a:ext cx="8229600" cy="350496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grasas, altas en sodio, altas en azucar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oductos de panadería y pastelería, sopas en lata, condimento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ebidas carbonatadas, bebidas dulces, jug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signa un Color a tus Comidas</a:t>
            </a:r>
            <a:endParaRPr b="0" lang="en-US" sz="4400" spc="-1" strike="noStrike">
              <a:solidFill>
                <a:srgbClr val="003300"/>
              </a:solidFill>
              <a:latin typeface="Eras Demi ITC"/>
            </a:endParaRPr>
          </a:p>
        </p:txBody>
      </p:sp>
      <p:sp>
        <p:nvSpPr>
          <p:cNvPr id="15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Rojo = Limita su consumo! Limítalo a una o dos veces por semana. (frituras, grasas, carnes con grasas, etc.)</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Amarillo = Comida con moderación. Posiblemente una o dos veces al día (mayoría de carnes, galletas, queso, no mantequilla de maní con azúcar, soda dietética.)</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Verde = Come varias veces al día. (vegetales frescos, frutas frescas, productos diarios bajos en grasa, aperitivos sin grasa como torta de arroz, agu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4840" y="1065240"/>
            <a:ext cx="7305480" cy="429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aborado en colaboración y con fondos de</a:t>
            </a:r>
            <a:r>
              <a:rPr b="0" lang="en-US" sz="24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oncilio de Washington para Discapacidades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das en la Niñez</a:t>
            </a:r>
            <a:r>
              <a:rPr b="0" lang="en-US" sz="28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entro para el Desarrollo Humano y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de la Universidad de Washington,</a:t>
            </a:r>
            <a:br>
              <a:rPr sz="2800"/>
            </a:br>
            <a:r>
              <a:rPr b="0" lang="en-US" sz="2800" spc="-1" strike="noStrike">
                <a:solidFill>
                  <a:srgbClr val="000000"/>
                </a:solidFill>
                <a:latin typeface="Times New Roman"/>
              </a:rPr>
              <a:t> </a:t>
            </a:r>
            <a:br>
              <a:rPr sz="2800"/>
            </a:br>
            <a:r>
              <a:rPr b="0" lang="es-ES_tradnl" sz="2800" spc="-1" strike="noStrike">
                <a:solidFill>
                  <a:srgbClr val="000000"/>
                </a:solidFill>
                <a:latin typeface="Times New Roman"/>
              </a:rPr>
              <a:t>y la División del Estado de Washington para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Generadas en la Niñez.</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rola el Tamaño de la Porción!</a:t>
            </a:r>
            <a:endParaRPr b="0" lang="en-US" sz="4400" spc="-1" strike="noStrike">
              <a:solidFill>
                <a:srgbClr val="003300"/>
              </a:solidFill>
              <a:latin typeface="Eras Demi ITC"/>
            </a:endParaRPr>
          </a:p>
        </p:txBody>
      </p:sp>
      <p:sp>
        <p:nvSpPr>
          <p:cNvPr id="156"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 cantidad de comida que ingieras, afecta la cantidad de carbohidratos, grasas y proteínas que recibe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Reduce la cantidad de comidas que pueden traerte efectos negativo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El control de la porción de alimento es importante para controlar las calorías, y junto con el ejercicio, te puede ayudar para mantener tu peso.</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ndes porciones de comida pueden arruinar tu plan alimenticio!</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Más Información Sobre las Grasas</a:t>
            </a:r>
            <a:endParaRPr b="0" lang="en-US" sz="4400" spc="-1" strike="noStrike">
              <a:solidFill>
                <a:srgbClr val="003300"/>
              </a:solidFill>
              <a:latin typeface="Eras Demi ITC"/>
            </a:endParaRPr>
          </a:p>
        </p:txBody>
      </p:sp>
      <p:sp>
        <p:nvSpPr>
          <p:cNvPr id="158" name="PlaceHolder 2"/>
          <p:cNvSpPr>
            <a:spLocks noGrp="1"/>
          </p:cNvSpPr>
          <p:nvPr>
            <p:ph/>
          </p:nvPr>
        </p:nvSpPr>
        <p:spPr>
          <a:xfrm>
            <a:off x="380880" y="236196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s grasas tienen 9 calorías por cada gramo, el doble de la cantidad de proteínas o carbohidrato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imita las grasas hasta el 30% de tu consumo diario de caloría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que deben ser tratados para hacerlos más sólidos (hidrogenados) no son buenos para ti (trans fat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sas animales son más sólidas (saturadas) y se debe limitar su consumo.</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y de pescado son mejores.</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fectos Negativos del Tabaco</a:t>
            </a:r>
            <a:endParaRPr b="0" lang="en-US" sz="4400" spc="-1" strike="noStrike">
              <a:solidFill>
                <a:srgbClr val="003300"/>
              </a:solidFill>
              <a:latin typeface="Eras Demi ITC"/>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afecta a casi todos los órganos del cuerpo.</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se ha demostrado que es mejor fumar cigarrillos bajos en nicotina y alquitrán.</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Tabaco que no produce humo también produce cáncer.</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también causa problema en las encías, pérdida de la masa ósea, úlceras y muchas otras enfermedade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al Dejar de Fumar</a:t>
            </a:r>
            <a:endParaRPr b="0" lang="en-US" sz="4400" spc="-1" strike="noStrike">
              <a:solidFill>
                <a:srgbClr val="003300"/>
              </a:solidFill>
              <a:latin typeface="Eras Demi ITC"/>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iene beneficios inmediatos y a largo plazo en la salu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mejora la salud de las personas a tu alrededo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e hace una persona modelo para aquellos a tu alrededor, en especial para tus hij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Sitios Web</a:t>
            </a:r>
            <a:r>
              <a:rPr b="0" lang="en-US" sz="4400" spc="-1" strike="noStrike">
                <a:solidFill>
                  <a:srgbClr val="003300"/>
                </a:solidFill>
                <a:latin typeface="Eras Demi ITC"/>
              </a:rPr>
              <a:t> </a:t>
            </a:r>
            <a:endParaRPr b="0" lang="en-US" sz="4400" spc="-1" strike="noStrike">
              <a:solidFill>
                <a:srgbClr val="003300"/>
              </a:solidFill>
              <a:latin typeface="Eras Demi ITC"/>
            </a:endParaRPr>
          </a:p>
        </p:txBody>
      </p:sp>
      <p:sp>
        <p:nvSpPr>
          <p:cNvPr id="164"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Universidad de Illinois con la Investigación de Rehabilitación de Chicago y el Centro de Entrenamiento para una Vejez con Discapacidades Generadas en la Niñez.</a:t>
            </a:r>
            <a:r>
              <a:rPr b="0" lang="es-ES_tradnl" sz="2800" spc="-1" strike="noStrike">
                <a:solidFill>
                  <a:srgbClr val="003300"/>
                </a:solidFill>
                <a:latin typeface="Times New Roman"/>
              </a:rPr>
              <a:t> </a:t>
            </a:r>
            <a:r>
              <a:rPr b="0" lang="en-US" sz="2000" spc="-1" strike="noStrike">
                <a:solidFill>
                  <a:srgbClr val="003300"/>
                </a:solidFill>
                <a:latin typeface="Georgia"/>
              </a:rPr>
              <a:t>(RRTCAAD)</a:t>
            </a:r>
            <a:endParaRPr b="0" lang="en-US" sz="20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Nacional de Actividad Física y Discapacidad</a:t>
            </a:r>
            <a:r>
              <a:rPr b="0" lang="en-US" sz="2000" spc="-1" strike="noStrike">
                <a:solidFill>
                  <a:srgbClr val="003300"/>
                </a:solidFill>
                <a:latin typeface="Georgia"/>
              </a:rPr>
              <a:t>, Dr. James Rimmer, Director.</a:t>
            </a:r>
            <a:endParaRPr b="0" lang="en-US" sz="2000" spc="-1" strike="noStrike">
              <a:solidFill>
                <a:srgbClr val="003300"/>
              </a:solidFill>
              <a:latin typeface="Georgia"/>
            </a:endParaRPr>
          </a:p>
          <a:p>
            <a:pPr lvl="1" marL="857160" indent="-399960">
              <a:lnSpc>
                <a:spcPct val="9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www.</a:t>
            </a:r>
            <a:r>
              <a:rPr b="0" lang="en-US" sz="2000" spc="-1" strike="noStrike" u="sng">
                <a:solidFill>
                  <a:srgbClr val="333300"/>
                </a:solidFill>
                <a:uFillTx/>
                <a:latin typeface="Georgia"/>
                <a:hlinkClick r:id="rId3"/>
              </a:rPr>
              <a:t>ncpad</a:t>
            </a:r>
            <a:r>
              <a:rPr b="0" lang="en-US" sz="2000" spc="-1" strike="noStrike" u="sng">
                <a:solidFill>
                  <a:srgbClr val="333300"/>
                </a:solidFill>
                <a:uFillTx/>
                <a:latin typeface="Georgia"/>
                <a:hlinkClick r:id="rId4"/>
              </a:rPr>
              <a:t>.org/</a:t>
            </a:r>
            <a:endParaRPr b="0" lang="en-US" sz="20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del Noroeste de Educación de la Vejez, Cambiando Comportamientos para Mejorar la Salud Modular.</a:t>
            </a:r>
            <a:r>
              <a:rPr b="0" lang="es-ES_tradnl" sz="2800" spc="-1" strike="noStrike">
                <a:solidFill>
                  <a:srgbClr val="003300"/>
                </a:solidFill>
                <a:latin typeface="Times New Roman"/>
              </a:rPr>
              <a:t> </a:t>
            </a:r>
            <a:endParaRPr b="0" lang="en-US" sz="28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a:t>
            </a:r>
            <a:r>
              <a:rPr b="0" lang="en-US" sz="1800" spc="-1" strike="noStrike" u="sng">
                <a:solidFill>
                  <a:srgbClr val="333300"/>
                </a:solidFill>
                <a:uFillTx/>
                <a:latin typeface="Georgia"/>
                <a:hlinkClick r:id="rId7"/>
              </a:rPr>
              <a:t>.</a:t>
            </a:r>
            <a:r>
              <a:rPr b="0" lang="en-US" sz="1800" spc="-1" strike="noStrike" u="sng">
                <a:solidFill>
                  <a:srgbClr val="333300"/>
                </a:solidFill>
                <a:uFillTx/>
                <a:latin typeface="Georgia"/>
                <a:hlinkClick r:id="rId8"/>
              </a:rPr>
              <a:t>washington</a:t>
            </a:r>
            <a:r>
              <a:rPr b="0" lang="en-US" sz="1800" spc="-1" strike="noStrike" u="sng">
                <a:solidFill>
                  <a:srgbClr val="333300"/>
                </a:solidFill>
                <a:uFillTx/>
                <a:latin typeface="Georgia"/>
                <a:hlinkClick r:id="rId9"/>
              </a:rPr>
              <a:t>.</a:t>
            </a:r>
            <a:r>
              <a:rPr b="0" lang="en-US" sz="1800" spc="-1" strike="noStrike" u="sng">
                <a:solidFill>
                  <a:srgbClr val="333300"/>
                </a:solidFill>
                <a:uFillTx/>
                <a:latin typeface="Georgia"/>
                <a:hlinkClick r:id="rId10"/>
              </a:rPr>
              <a:t>edu</a:t>
            </a:r>
            <a:r>
              <a:rPr b="0" lang="en-US" sz="1800" spc="-1" strike="noStrike" u="sng">
                <a:solidFill>
                  <a:srgbClr val="333300"/>
                </a:solidFill>
                <a:uFillTx/>
                <a:latin typeface="Georgia"/>
                <a:hlinkClick r:id="rId11"/>
              </a:rPr>
              <a:t>/</a:t>
            </a:r>
            <a:r>
              <a:rPr b="0" lang="en-US" sz="1800" spc="-1" strike="noStrike" u="sng">
                <a:solidFill>
                  <a:srgbClr val="333300"/>
                </a:solidFill>
                <a:uFillTx/>
                <a:latin typeface="Georgia"/>
                <a:hlinkClick r:id="rId12"/>
              </a:rPr>
              <a:t>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Reporte del Cirujano General con respecto a las Consecuencias de Fumar.</a:t>
            </a:r>
            <a:endParaRPr b="0" lang="en-US" sz="20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13"/>
              </a:rPr>
              <a:t>http://www.cdc.gov/tobacco/sgr/sgr_2004/index.htm</a:t>
            </a:r>
            <a:endParaRPr b="0" lang="en-US" sz="18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ersonal del Proyecto</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Investigador Principal</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Directora del Proyecto/Instructora y Madre de Familia</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Asistente del Proyecto y Madre de Famili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br>
              <a:rPr sz="4400"/>
            </a:br>
            <a:r>
              <a:rPr b="0" lang="es-ES_tradnl" sz="4400" spc="-1" strike="noStrike">
                <a:solidFill>
                  <a:srgbClr val="003300"/>
                </a:solidFill>
                <a:latin typeface="Eras Demi ITC"/>
              </a:rPr>
              <a:t>Un Cambio Paradójico</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Énfasis en el pasado por prevenir las condiciones que causan discapacidad. Negligencia de la salud personal</a:t>
            </a:r>
            <a:r>
              <a:rPr b="0" lang="en-US" sz="3200" spc="-1" strike="noStrike">
                <a:solidFill>
                  <a:srgbClr val="003300"/>
                </a:solidFill>
                <a:latin typeface="Georgia"/>
              </a:rPr>
              <a:t>.</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evo enfoque en evaluar y mejorar la salud personal, prevención de condiciones secundarias y enfermedades crónicas</a:t>
            </a:r>
            <a:endParaRPr b="0" lang="en-US" sz="3200" spc="-1" strike="noStrike">
              <a:solidFill>
                <a:srgbClr val="003300"/>
              </a:solidFill>
              <a:latin typeface="Georgia"/>
            </a:endParaRPr>
          </a:p>
        </p:txBody>
      </p:sp>
      <p:sp>
        <p:nvSpPr>
          <p:cNvPr id="121" name=""/>
          <p:cNvSpPr/>
          <p:nvPr/>
        </p:nvSpPr>
        <p:spPr>
          <a:xfrm>
            <a:off x="5715000" y="56991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endParaRPr b="0" lang="en-US" sz="4400" spc="-1" strike="noStrike">
              <a:solidFill>
                <a:srgbClr val="003300"/>
              </a:solidFill>
              <a:latin typeface="Eras Demi ITC"/>
            </a:endParaRPr>
          </a:p>
        </p:txBody>
      </p:sp>
      <p:sp>
        <p:nvSpPr>
          <p:cNvPr id="12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stilo de Vida Saludable (actividad y dieta)</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inmunizacio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tección temprana y tratamiento (exáme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de condiciones secundarias (concientización)</a:t>
            </a:r>
            <a:r>
              <a:rPr b="0" lang="es-ES_tradnl" sz="3200" spc="-1" strike="noStrike">
                <a:solidFill>
                  <a:srgbClr val="003300"/>
                </a:solidFill>
                <a:latin typeface="Times New Roman"/>
              </a:rPr>
              <a:t>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iclo de Degradación Física</a:t>
            </a:r>
            <a:endParaRPr b="0" lang="en-US" sz="4400" spc="-1" strike="noStrike">
              <a:solidFill>
                <a:srgbClr val="003300"/>
              </a:solidFill>
              <a:latin typeface="Eras Demi ITC"/>
            </a:endParaRPr>
          </a:p>
        </p:txBody>
      </p:sp>
      <p:sp>
        <p:nvSpPr>
          <p:cNvPr id="125" name="PlaceHolder 2"/>
          <p:cNvSpPr>
            <a:spLocks noGrp="1"/>
          </p:cNvSpPr>
          <p:nvPr>
            <p:ph/>
          </p:nvPr>
        </p:nvSpPr>
        <p:spPr>
          <a:xfrm>
            <a:off x="456840" y="2057040"/>
            <a:ext cx="441972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yor nivel de fatiga y dolor con el paso de los años.</a:t>
            </a:r>
            <a:r>
              <a:rPr b="0" lang="en-US" sz="2800" spc="-1" strike="noStrike">
                <a:solidFill>
                  <a:srgbClr val="003300"/>
                </a:solidFill>
                <a:latin typeface="Georgia"/>
              </a:rPr>
              <a: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Puede llevar a la pérdida de actividad física.</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El resultado es la pérdida de la condición física y aumento de problemas de salud.</a:t>
            </a:r>
            <a:endParaRPr b="0" lang="en-US" sz="2800" spc="-1" strike="noStrike">
              <a:solidFill>
                <a:srgbClr val="003300"/>
              </a:solidFill>
              <a:latin typeface="Georgi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pic>
        <p:nvPicPr>
          <p:cNvPr id="126" name="" descr=""/>
          <p:cNvPicPr/>
          <p:nvPr/>
        </p:nvPicPr>
        <p:blipFill>
          <a:blip r:embed="rId1"/>
          <a:stretch/>
        </p:blipFill>
        <p:spPr>
          <a:xfrm>
            <a:off x="4653000" y="2558880"/>
            <a:ext cx="4033800" cy="27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1426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Resultados Negativos:</a:t>
            </a:r>
            <a:br>
              <a:rPr sz="4400"/>
            </a:br>
            <a:endParaRPr b="0" lang="en-US" sz="4400" spc="-1" strike="noStrike">
              <a:solidFill>
                <a:srgbClr val="003300"/>
              </a:solidFill>
              <a:latin typeface="Eras Demi ITC"/>
            </a:endParaRPr>
          </a:p>
        </p:txBody>
      </p:sp>
      <p:sp>
        <p:nvSpPr>
          <p:cNvPr id="128"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Problemas del Corazón</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Infarto</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Diabete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29"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strategias de Solución</a:t>
            </a:r>
            <a:endParaRPr b="0" lang="en-US" sz="4400" spc="-1" strike="noStrike">
              <a:solidFill>
                <a:srgbClr val="003300"/>
              </a:solidFill>
              <a:latin typeface="Eras Demi ITC"/>
            </a:endParaRPr>
          </a:p>
        </p:txBody>
      </p:sp>
      <p:sp>
        <p:nvSpPr>
          <p:cNvPr id="131" name="PlaceHolder 2"/>
          <p:cNvSpPr>
            <a:spLocks noGrp="1"/>
          </p:cNvSpPr>
          <p:nvPr>
            <p:ph/>
          </p:nvPr>
        </p:nvSpPr>
        <p:spPr>
          <a:xfrm>
            <a:off x="533160" y="2285640"/>
            <a:ext cx="4267080" cy="30481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ctividad Física</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jercicio</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trición</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vitar o dejar de fumar y/o evitar el consumo excesivo de alcohol</a:t>
            </a:r>
            <a:endParaRPr b="0" lang="en-US" sz="3200" spc="-1" strike="noStrike">
              <a:solidFill>
                <a:srgbClr val="003300"/>
              </a:solidFill>
              <a:latin typeface="Georgia"/>
            </a:endParaRPr>
          </a:p>
        </p:txBody>
      </p:sp>
      <p:pic>
        <p:nvPicPr>
          <p:cNvPr id="132" name="" descr=""/>
          <p:cNvPicPr/>
          <p:nvPr/>
        </p:nvPicPr>
        <p:blipFill>
          <a:blip r:embed="rId1"/>
          <a:stretch/>
        </p:blipFill>
        <p:spPr>
          <a:xfrm>
            <a:off x="5222880" y="2133720"/>
            <a:ext cx="2892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854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828440"/>
            <a:ext cx="7696080" cy="472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aja la presión sanguíne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ortaleza, resistenci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el equilibrio</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unción de los pulmones y la respiración.</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el sistema inmune.</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Reduce la depresión y ansie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ntrola la obesi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la salud ósea (hues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watsonkc</cp:lastModifiedBy>
  <dcterms:modified xsi:type="dcterms:W3CDTF">2005-06-24T23:19:00Z</dcterms:modified>
  <cp:revision>50</cp:revision>
  <dc:subject/>
  <dc:title>Toward Healthy Aging:</dc:title>
</cp:coreProperties>
</file>