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565F-E4B0-478E-B6CF-CDF2E95DB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D9F-FA25-4613-AEAE-6596D203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FA2-5E62-4487-87AD-611E4E8A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A27-87E4-47BF-BF29-4CCD821D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13A-D7A7-4AC9-A3CE-DF47BDBE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9FC1-E153-46EB-8E69-4D9BDB6C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193F-653D-480A-BDC2-305CF87A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D40F-1E40-49EA-A8A1-6E150871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A958-6B03-4641-8753-9DA7066D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93B1-E02A-46DB-A14B-DABF93D4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0B0B-4C6B-4BEA-A627-A68CF7C5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27F5-BB95-4254-B798-AB617CC6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E2B-467B-46C5-BBC2-3666D7F6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3AC5-9DF6-4E53-9F68-9262C650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E151-458B-4C61-8FF0-5C3333B6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B401-F0D7-4ECC-AC84-BED07773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CED1-84F9-45EB-AC61-C8161EAC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4490-4CCA-4372-8484-B1CE4FF4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644-3D8B-4581-920B-4AB5A50A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DB6-E2E8-481A-9060-B5744AC3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33AB-54A6-4623-A319-C38D0C91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EA5-DCDA-438C-AA71-4B757B53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D483-3D56-4E1E-901A-5A7B67EE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86D-1122-42F8-A6DB-69665620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32B-7DEA-4B37-B235-277FB2BE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68B4-3D2B-4259-A5AC-B12AD4550C6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9CB1-B849-4ABF-8E35-A2E62C0C6F1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cc"/>
                </a:solidFill>
                <a:latin typeface="Times New Roman"/>
              </a:rPr>
              <a:t>Medicinas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Promoviendo su Uso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eguro y Correct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rrores por parte del Docto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osis o régimen incorrec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osis incompleta o forma o intensidad de dosis no dispon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ntidad o duración del tratamiento no especificad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osis o régimen no especific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edicina incorrecta para el trat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teracciones entre medicin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lergia o sensibili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erapia duplicad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rrores por parte de la Farmaci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eer la prescripción en forma incorrec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ntregar medicinas con nombres similar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scribir información incorrecta en la etique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fundir etiqueta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nsidad incorrec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ntidad incorrec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lvidar poner instrucciones especiales en la botell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rrores en Cas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AR incorrec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Olvidar una dosis o dar dos veces la misma do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ministrar la medicina a la persona incorrect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ministrar la cantidad incorrect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ministrar mas pronto o mas tarde de lo sugerid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seguir las instruccion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ministrar a pesar de las indicaciones de que puede haber un problem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ministrar por las razones equivocad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Cuándo Preocuparse y Pregunt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píldoras tienen diferente color, forma o tamañ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indicaciones para la medicina son diferent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indicaciones de la etiqueta no tienen sentid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 persona se comporta en forma diferente o tienen síntomas nuevos o extraño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rees que la persona es alérgica a esa medicin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Consejos de Segurida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Si las indicaciones de la etiqueta no son claras, pregúntale a la persona de la farmacia o llama al doctor que prescribió la medicin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Compra siempre en la misma farmacia, así ellos tendrán un registro actualizado de medicinas y alergias de cada client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Trata de conocer a la persona encargada en la farmaci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Guarda la medicina en su envase original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Asegúrate de comprar lo correcto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¿Cómo leer un envase medicinal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Nombre de la farmacia y numero de teléfono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Número de prescripción para recibir más medicina cuando se termin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Nombre del doctor que prescribió la medicin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Para quién es la medicin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Nombre de la medicin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Forma y dosis de la medicin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Cuándo descartarla (botarla)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¿Cómo leer un envase medicinal? </a:t>
            </a:r>
            <a:br>
              <a:rPr sz="44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continuación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tensidad (cuánta medicina hay en cada píldora o cucharada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ntidad que tomar (cuantas píldoras o cucharadas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uántas veces (una vez al día, cada dos horas, etc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ómo administrarla (tragar, bajo la lengua, en los ojos o nariz, etc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n qué condiciones (después de cada comida, solamente cuando sienta dolor, etc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640" y="584640"/>
            <a:ext cx="88851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952560"/>
            <a:ext cx="76197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Adverso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Reacciones Medicinales Adversa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fectos secundario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acciones Alérgica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obred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acciones inusuales e impredecibl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aborado en colaboración y con fondos d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Concilio de Washington para Discapacidades Generadas en la Niñez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Centro para el Desarrollo Humano y Discapacidades de la Universidad de Washington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entro del Noroeste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Y la División del Estado de Washington de Discapacidades Generadas en la Niñe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8480" y="6858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Alerta a las Reacciones Medicina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900900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s muy importante conocer el comportamiento normal de la person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estar atención a cualquier reacción que esté fuera de lo ordinari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es posible recordar todos los efectos secundarios de cada medicina que toman los resident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amiliarízate con los efectos secundarios más comunes de las medicinas tomadas por un largo plaz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i tienes dudas, contacta a la persona encargada de la farmacia o al doctor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antener Registr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scribir en un calendario o registro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cha de inicio de la nueva medici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cha de cambio en la do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cha en la que termina la medici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echa en la que se hace algún camb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antener una lista actualizada de todas las medicinas para informar a los doctor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Genéricas contra </a:t>
            </a:r>
            <a:br>
              <a:rPr sz="4400"/>
            </a:b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Nombres de Marc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s nuevas medicinas tienen patente; solamente una compañía puede producirla por cierto número de añ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s nuevas medicinas tienen tanto un nombre de marca como nombre genérico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nombre genérico es el nombre químico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nombre de venta es el mismo que el nombre de la marca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uego de que la patente expire, otras compañías pueden producir la medicina bajo el nombre genérico y pueden añadir su propio nombre de marca</a:t>
            </a: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jemplos de Nombres Genéricos y Nombres de Marc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7680" y="2514600"/>
            <a:ext cx="8896320" cy="37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cc"/>
                </a:solidFill>
                <a:latin typeface="Times New Roman"/>
              </a:rPr>
              <a:t>ibuprofeno (</a:t>
            </a:r>
            <a:r>
              <a:rPr b="0" i="1" lang="en-US" sz="2900" spc="-1" strike="noStrike">
                <a:solidFill>
                  <a:srgbClr val="ffffcc"/>
                </a:solidFill>
                <a:latin typeface="Times New Roman"/>
              </a:rPr>
              <a:t>ibuprofen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) (Motrin, Advil)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cc"/>
                </a:solidFill>
                <a:latin typeface="Times New Roman"/>
              </a:rPr>
              <a:t>difenhidramina (</a:t>
            </a:r>
            <a:r>
              <a:rPr b="0" i="1" lang="en-US" sz="2900" spc="-1" strike="noStrike">
                <a:solidFill>
                  <a:srgbClr val="ffffcc"/>
                </a:solidFill>
                <a:latin typeface="Times New Roman"/>
              </a:rPr>
              <a:t>diphenhydramine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) (Benadryl, Compoz, Sominex 2)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cc"/>
                </a:solidFill>
                <a:latin typeface="Times New Roman"/>
              </a:rPr>
              <a:t>seudoefedrina (</a:t>
            </a:r>
            <a:r>
              <a:rPr b="0" i="1" lang="en-US" sz="2900" spc="-1" strike="noStrike">
                <a:solidFill>
                  <a:srgbClr val="ffffcc"/>
                </a:solidFill>
                <a:latin typeface="Times New Roman"/>
              </a:rPr>
              <a:t>pseudoephedrine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) (Sudafed, Drixoral non-drowsy)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phenytoin (Dilantin)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cc"/>
                </a:solidFill>
                <a:latin typeface="Times New Roman"/>
              </a:rPr>
              <a:t>acetaminofen (</a:t>
            </a:r>
            <a:r>
              <a:rPr b="0" i="1" lang="en-US" sz="2900" spc="-1" strike="noStrike">
                <a:solidFill>
                  <a:srgbClr val="ffffcc"/>
                </a:solidFill>
                <a:latin typeface="Times New Roman"/>
              </a:rPr>
              <a:t>acetominophen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) (Tylenol, Panadol, Datril, Tempra)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Compuest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tienen más de una medicina en cada píldora o líqui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nombre no siempre dice lo que contie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s importante saber lo que contiene, así el paciente no recibe doble d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mún en medicinas de mostrador, tales como medicinas para el resfriad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de Mostrador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(OTC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gual a las medicinas bajo prescripció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También tienen riesgo de efectos secundarios, sobredosis, reacciones alérgicas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 deben usar con precaució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or lo general las medicinas compuestas indican lo que contienen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Tipos de Medicin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 clasifican por sus efectos principales y accio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lgunas medicinas pertenecen a más de una categorí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lgunas medicinas se usan con un propósito distinto del que fueron creadas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medicinas de la misma clase tienen algunos efectos secundarios semejant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jemplos de Tipos de Medicin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biótico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ntibiotic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epiléptico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nti-epileptic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psicótico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nti-psychotic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estamina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ntihistamin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scongestionante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Decongestan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depresivo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ntidepressan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ntiinflamatorio no esteroidal  (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Non-steroidal Anti-inflammator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 (NSAI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Psicoactiv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ambién llamadas psicofarmacológicas o psicotrópic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lases de medicin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iansiedad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ti-anxiet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Xanax, BuSpar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idepresivas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tidepressan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Elavil, Prozac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ipsicoticas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ti-psychotic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Risperdal, Zyprexa, Haldol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icíclicas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ti-mani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lithiu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edante / hipnótico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edative/hypnotic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Restoril, Noctec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imulantes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mulan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Ritali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nticombulsivos o Antiepiléptico 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nti-seizure or Anti-epileptic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 (Tegretol, Neuronti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Psicoactiva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readas para tratar pacientes con problemas psiquiátricos, pero por lo general usadas para controlar el comportamie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omar a largo plaz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n tener varios efectos secundari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debe balancear su beneficio contra los efectos secundari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doctor encuentra el balance basado en la información que nosotros entregamos!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Guardar registro es una gran ayuda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Personal del Proyect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haran Brown, JD, Ed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ffffcc"/>
                </a:solidFill>
                <a:latin typeface="Times New Roman"/>
              </a:rPr>
              <a:t>Investigador Princip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athleen Watson, PhD, R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ffffcc"/>
                </a:solidFill>
                <a:latin typeface="Times New Roman"/>
              </a:rPr>
              <a:t>Directora del Proyecto/Instructora y Madre de Famil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ther Molone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ffffcc"/>
                </a:solidFill>
                <a:latin typeface="Times New Roman"/>
              </a:rPr>
              <a:t>Asistente del Proyecto y Madre de Famil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Cosas Básicas que Record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estar atención a la condición o comportamiento de la enfermedad para la que se está administrando la medicina (ejemplo: ataques, depresión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estar mayor atención si se empieza a administrar una nueva medicina, se termina la medicina o cambia la dosi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mpezar un sistema de registro de comportamientos y efectos secundari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segurarse de que el paciente vaya a sus citas para sus exámenes de laboratori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Calidad de Vid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medicina debe mejorar la calidad de vida del paciente, no empeorarl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mpieza con el doctor princip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i la calidad de vida, en vez de mejorar, parece empeorar, pide ayuda al centro de salud mental mas cercan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i esto no funciona, pide ayuda al Jefe de Casos de DD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activa y persistent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psicóticas Comun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lorprom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loperid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luphen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orid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xap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phen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psicóticas</a:t>
            </a:r>
            <a:br>
              <a:rPr sz="4400"/>
            </a:b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No Comun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ipiprazo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ilif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2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iprasidon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don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tiapin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roque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anzapi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yprex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sperido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sperd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zapi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zari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epilépticas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(AED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8896320" cy="31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xisten ciertas medicinas comunes antiguas y muchísimas nuev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iertas medicinas nuevas también son usadas para controlar el comportamie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s importante estar alerta a los efectos secundarios y mantener un registro de ataqu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lgunos necesitan, que en forma periódica, se realicen exámenes de laboratorio para ver si existen efectos secundari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epiléptic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12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Phenobarbital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3   Felbam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38   Phenytoin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3   Gabapent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60   Ethosuximide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4   Lamotrig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74   Carbamazepine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7   Topiram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78   Valproate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7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Tiagab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9   Levetiracet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2000   Oxcarbazep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75000"/>
              </a:lnSpc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2000   Zonisam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epilépticas</a:t>
            </a:r>
            <a:br>
              <a:rPr sz="4400"/>
            </a:b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Cosas Importantes que Report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2590560"/>
            <a:ext cx="9031320" cy="35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Puede afectar el nivel de atención, equilibrio, músculos, apetito, peso, carácter.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Informar cualquier aumento de sangrado o marcas en la piel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Si la piel u ojos comienzan a verse amarillos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Un sarpullido que empeora o no desaparec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Times New Roman"/>
              </a:rPr>
              <a:t>Cualquier fiebre o síntoma de infección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Medicinas Antiepilépticas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Comun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3840" y="228564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 Corto Plaz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Irritación o sarpullido en la pi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Perdida de coordin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Nausea o vómi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Efectos en el pensamiento (pueden ser a larg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plazo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ás comunes: mareo, dolor de cabeza, doble visión, adormec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Antibiótic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a evitar molestias estomacales, algunos se deben tomar junto con el alime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iertas comidas o medicinas pueden interferir con su absorció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estar atención a cualquier molestia estomacal o irritación de la pie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o administrar nuevamente la medicina si se presenta sarpullido, picazón de la piel o dificultad respiratori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lamar al 911 si existe dificultad respiratoria o dolor agud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7680" y="2590560"/>
            <a:ext cx="8896320" cy="29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loración de la piel o temperatura repentina o inusua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iel azul, roja, pálida, amarill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arpullido u otras marcas inusual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siente caliente o fría al tocarl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Suposiciones Básic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5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Ú, como persona a cargo del cuidado y atención, tienes la oportunidad de mejorar la calidad de vida de cada una de las personas con las que trabaj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s hacerlo al darte cuenta que el cuidado depende únicamente de ti, y por lo tanto, puedes ser activa, correcta y actuar como un detect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ortamiento profesional en un ambiente de hoga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7680" y="2590920"/>
            <a:ext cx="8896320" cy="32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usuales al defecar o al orin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arrea o estreñimie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Orinar en forma frecuente o infrecuent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ficultad, retrazo o dolor al orin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ojar la cam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8896320" cy="28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usuales al camin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íd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minar lento o con pies arrastrad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ropezar, pérdida del equilibrio, pasos insegur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7680" y="23619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usuales en el movimiento o músculo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mueve muy lento, problema para empez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quieto, ansioso, no puede permanecer quieto, mueve o tiembla las piernas constantemente, tiene que levantarse de su asiento luego de un corto tiemp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úsculos rígid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Nausea, vómito o gas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896320" cy="28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usuales al dormi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uerme por mas tiempo o meno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oblemas para dormi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esadill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8896320" cy="29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esperados al comer o beb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e en mayor o menor cantida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ebe en mayor o menor cantida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8896320" cy="28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repentinos o inesperados al habl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esencia excesiva de saliva o boca sec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ece eliminar letras o sílabas al habl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ece no tener las mismas ganas de hablar que ante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819160"/>
            <a:ext cx="8896320" cy="31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nsancio/Fatiga repentina o inesperad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 repente no quiere levantarse de la cam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nsancio, sueño durante el dí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parenta estar sedada, letárgic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omnolenci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47680" y="2743200"/>
            <a:ext cx="8896320" cy="29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mbios de carácter repentinos o inesperado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rritabilidad, difícil de permanecer cerca de la person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ortamiento explosivo, fuera de su temperamento normal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nsibilidad, tristeza, lla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ambio en la personalida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fectos Secundarios Importantes que Prestar Atención e Inform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8896320" cy="26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oblema repentino o inesperado al concentrar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ficultad al prestar atenció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ficultad para recordar cosa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ficultad para realizar una actividad, trabajo o jueg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¿Qué Causa El Comportamiento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olor o incomodida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oblema emocional debido a cierta situación o ambient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íntoma de un problema de salud mental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fecto secundario por el uso de un medicamento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olamente el estado normal de esa person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olo un “comportamiento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Sé un Consumidor Informad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285640"/>
            <a:ext cx="8896320" cy="39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ener un empleado a cargo de la salud para ayuda a cada cliente: desarrolla relaciones con los proveedor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Visita sitios web de organizaciones conocidas y confiables como universidades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antén libros de referencia, como aquellos diseñados para enfermer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uías medic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ciclopedia/diccionar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egurida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Lo Correcto en Medicin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 Medicina correc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 la Dosis correc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or la Vía correc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n el Momento correc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 la Persona correc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cc"/>
                </a:solidFill>
                <a:latin typeface="Times New Roman"/>
              </a:rPr>
              <a:t>Por las Razones correct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Errores Medicinales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- </a:t>
            </a:r>
            <a:br>
              <a:rPr sz="4400"/>
            </a:b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¿Dónde Pueden Suceder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2437920"/>
            <a:ext cx="8915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oct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armac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sona escribiendo en la hoja de registr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ersona administrando la medicin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6:12:27Z</dcterms:created>
  <dc:creator>Kathleen Clotfelter Watson</dc:creator>
  <dc:description/>
  <dc:language>en-US</dc:language>
  <cp:lastModifiedBy>watsonkc</cp:lastModifiedBy>
  <dcterms:modified xsi:type="dcterms:W3CDTF">2005-06-23T19:31:10Z</dcterms:modified>
  <cp:revision>45</cp:revision>
  <dc:subject/>
  <dc:title>Medications:</dc:title>
</cp:coreProperties>
</file>