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8F1-F56C-488D-91F5-9EBFB6AE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BF0-BE33-405A-ABC1-14683E13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C71-AD88-45D7-AAA3-FD9EB873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2FC-5F49-46FC-9028-E688A26C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586-A695-4EAC-9C6C-4693508E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4154-1494-4660-89FD-ECDBAB91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946E-4B0F-4134-B963-C01943F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4071-58CE-4823-A9DF-D9136C5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538E-8567-4BB3-91F5-F4F2497C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B104-2A05-4640-BC31-D89CBAB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74EA-37DE-41C0-9758-471BE4A6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A59-DD16-4981-943D-916D1EA4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9CF-466F-44FB-8350-0B82965D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CE63-B3F0-45EE-BDF4-1A5ED4B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F525-F714-45B9-A5D5-811BAD6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9331-9412-49CA-8B65-4EAC9A20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BA2-891C-440A-A3EE-94FF4C22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FEB0-5208-4848-8CDC-668721E4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032-CC41-4766-A7F8-9D95058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1BE-4E2E-4EB4-9BD7-03762AC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4C9-AA23-4746-8259-271663B3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A2B-FF22-499F-B41C-DE9F931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5CC-8A49-456D-BAEA-CF5F68A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CE1-1055-48B6-A3C1-BA1D156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6C8-7C73-486F-B461-572797DC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78E-AA97-46F6-8324-ED08D1B52EC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2B7-E1E0-40AD-9CAB-6AC86080B7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Times New Roman"/>
              </a:rPr>
              <a:t>Medicinas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Promoviendo su Uso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guro y Correc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por parte del Doct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o régimen incorrec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incompleta o forma o intensidad de dosis no dispon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o duración del tratamiento no especific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o régimen no especific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edicina incorrecta para el trat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racciones entre medicin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ergia o sensibi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rapia duplic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por parte de la Farma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eer la prescripción en forma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tregar medicinas con nombres similar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cribir información incorrecta en la etique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fundir etiquet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nsidad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tidad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lvidar poner instrucciones especiales en la botell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en Cas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R incorrec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lvidar una dosis o dar dos veces la misma d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la medicina a la persona incorrec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la cantidad incorrec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mas pronto o mas tarde de lo sugerid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seguir las instruccion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a pesar de las indicaciones de que puede haber un proble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por las razones equivocad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uándo Preocuparse y Pregunt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píldoras tienen diferente color, forma o tamañ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indicaciones para la medicina son diferen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indicaciones de la etiqueta no tienen senti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persona se comporta en forma diferente o tienen síntomas nuevos o extrañ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es que la persona es alérgica a esa medicin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nsejos de Segurida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Si las indicaciones de la etiqueta no son claras, pregúntale a la persona de la farmacia o llama al doctor que prescribió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ompra siempre en la misma farmacia, así ellos tendrán un registro actualizado de medicinas y alergias de cada client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Trata de conocer a la persona encargada en la farmaci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Guarda la medicina en su envase origina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Asegúrate de comprar lo correct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Cómo leer un envase medicina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 la farmacia y numero de teléfon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úmero de prescripción para recibir más medicina cuando se termin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l doctor que prescribió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Para quién es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Forma y dosis de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uándo descartarla (botarla)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Cómo leer un envase medicinal? 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ntinuació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nsidad (cuánta medicina hay en cada píldora o cucharad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que tomar (cuantas píldoras o cucharada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ántas veces (una vez al día, cada dos horas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ómo administrarla (tragar, bajo la lengua, en los ojos o nariz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n qué condiciones (después de cada comida, solamente cuando sienta dolor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584640"/>
            <a:ext cx="88851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Adverso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Reacciones Medicinales Adversa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s secundari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acciones Alérgic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d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acciones inusuales e impredecibl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aborado en colaboración y con fondos d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Y la División del Estado de Washington de Discapacidades Generadas en la Niñe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lerta a las Reacciones Medicin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 muy importante conocer el comportamiento normal de la person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cualquier reacción que esté fuera de lo ordinari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s posible recordar todos los efectos secundarios de cada medicina que toman los resident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amiliarízate con los efectos secundarios más comunes de las medicinas tomadas por un largo plaz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tienes dudas, contacta a la persona encargada de la farmacia o al doctor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antener Registr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cribir en un calendario o registr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de inicio de la nueva medici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de cambio en la d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en la que termina la medici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en la que se hace algún camb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antener una lista actualizada de todas las medicinas para informar a los doctor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Genéricas contra 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Nombres de Mar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s nuevas medicinas tienen patente; solamente una compañía puede producirla por cierto número de añ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s nuevas medicinas tienen tanto un nombre de marca como nombre genérico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nombre genérico es el nombre químico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nombre de venta es el mismo que el nombre de la marc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uego de que la patente expire, otras compañías pueden producir la medicina bajo el nombre genérico y pueden añadir su propio nombre de marc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jemplos de Nombres Genéricos y Nombres de Mar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2514600"/>
            <a:ext cx="889632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ibuprofeno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ibuprofen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Motrin, Advil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difenhidramina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diphenhydramine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Benadryl, Compoz, Sominex 2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seudoefedrina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pseudoephedrine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Sudafed, Drixoral non-drowsy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phenytoin (Dilantin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acetaminofen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acetominophen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Tylenol, Panadol, Datril, Tempra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Compuest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tienen más de una medicina en cada píldora o líqui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nombre no siempre dice lo que contie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 importante saber lo que contiene, así el paciente no recibe doble d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ún en medicinas de mostrador, tales como medicinas para el resfria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de Mostrador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(OT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gual a las medicinas bajo prescripció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ambién tienen riesgo de efectos secundarios, sobredosis, reacciones alérgica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deben usar con precaució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r lo general las medicinas compuestas indican lo que contiene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Tipos de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clasifican por sus efectos principales y ac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unas medicinas pertenecen a más de una categor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unas medicinas se usan con un propósito distinto del que fueron creada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medicinas de la misma clase tienen algunos efectos secundarios semejan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jemplos de Tipos de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bió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bio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epilép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-epilep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psicó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estamina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histami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ongestionante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Decongesta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depresiv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inflamatorio no esteroidal 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Non-steroidal Anti-inflammato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 (NSAI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Psicoactiv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ambién llamadas psicofarmacológicas o psicotrópic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lases de medicin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ansiedad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anxiet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Xanax, BuSpar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depresiv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Elavil, Proza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psicotic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isperdal, Zyprexa, Haldol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íclic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mani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lithiu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dante / hipnótico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edative/hypno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estoril, Nocte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imulante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mula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ital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ombulsivos o Antiepiléptico 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seizure or Anti-epilep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Tegretol, Neuront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Psicoactiva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eadas para tratar pacientes con problemas psiquiátricos, pero por lo general usadas para controlar el comporta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mar a largo plaz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n tener varios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debe balancear su beneficio contra los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doctor encuentra el balance basado en la información que nosotros entregamos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uardar registro es una gran ayud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Personal del Proyec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aran Brown, JD, E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Investigador Princip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thleen Watson, PhD, R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Directora del Proyecto/Instructora y Madre de Fami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her Molone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Asistente del Proyecto y Madre de Fami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sas Básicas que Recor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la condición o comportamiento de la enfermedad para la que se está administrando la medicina (ejemplo: ataques, depresión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mayor atención si se empieza a administrar una nueva medicina, se termina la medicina o cambia la dos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mpezar un sistema de registro de comportamientos y efectos secunda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segurarse de que el paciente vaya a sus citas para sus exámenes de laboratori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alidad de Vi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edicina debe mejorar la calidad de vida del paciente, no empeorarl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mpieza con el doctor princip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la calidad de vida, en vez de mejorar, parece empeorar, pide ayuda al centro de salud mental mas cercan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esto no funciona, pide ayuda al Jefe de Casos de D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activa y persistent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psicóticas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prom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operid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orid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xap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psicóticas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No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piprazo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ilif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prasido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do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tiapi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oque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an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yprex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ido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d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ri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(AED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xisten ciertas medicinas comunes antiguas y muchísimas nuev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iertas medicinas nuevas también son usadas para controlar el comporta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 importante estar alerta a los efectos secundarios y mantener un registro de ataqu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unos necesitan, que en forma periódica, se realicen exámenes de laboratorio para ver si existen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Phenobarbit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Felb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38   Phenytoi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Gabapen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60   Ethosuximide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4   Lamotri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4   Carbamazepin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   Topir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8   Valproate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Tiagab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9   Levetiracet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Oxcarbazep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Zonisa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sas Importantes que Report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903132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Puede afectar el nivel de atención, equilibrio, músculos, apetito, peso, carácter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Informar cualquier aumento de sangrado o marcas en la pie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Si la piel u ojos comienzan a verse amarillo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Un sarpullido que empeora o no desaparec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ualquier fiebre o síntoma de infección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3840" y="22856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 Corto Plaz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Irritación o sarpullido en la pi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erdida de coordin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Nausea o vóm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Efectos en el pensamiento (pueden ser a larg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laz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ás comunes: mareo, dolor de cabeza, doble visión, adormec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ntibiót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evitar molestias estomacales, algunos se deben tomar junto con el alim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iertas comidas o medicinas pueden interferir con su absor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cualquier molestia estomacal o irritación de la pie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administrar nuevamente la medicina si se presenta sarpullido, picazón de la piel o dificultad respirator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lamar al 911 si existe dificultad respiratoria o dolor agud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2590560"/>
            <a:ext cx="8896320" cy="29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loración de la piel o temperatura repentina o inusu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iel azul, roja, pálida, amarill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arpullido u otras marcas inusual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siente caliente o fría al tocarl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Suposiciones Básic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Ú, como persona a cargo del cuidado y atención, tienes la oportunidad de mejorar la calidad de vida de cada una de las personas con las que trabaj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s hacerlo al darte cuenta que el cuidado depende únicamente de ti, y por lo tanto, puedes ser activa, correcta y actuar como un dete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ortamiento profesional en un ambiente de hog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7680" y="2590920"/>
            <a:ext cx="8896320" cy="32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defecar o al orin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arrea o estreñi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rinar en forma frecuente o infrecuen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, retrazo o dolor al orin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jar la c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camin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íd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inar lento o con pies arrastrad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ropezar, pérdida del equilibrio, pasos insegur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7680" y="23619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en el movimiento o múscul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mueve muy lento, problema para empez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quieto, ansioso, no puede permanecer quieto, mueve o tiembla las piernas constantemente, tiene que levantarse de su asiento luego de un corto tiemp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úsculos rígid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ausea, vómito o gas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896320" cy="28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dormi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uerme por mas tiempo o men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oblemas para dormi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sadill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esperados al comer o beb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e en mayor o menor cant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ebe en mayor o menor cant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esperados al habl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encia excesiva de saliva o boca sec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ece eliminar letras o sílabas al hab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ece no tener las mismas ganas de hablar que ant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sancio/Fatiga repentina o inesperad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 repente no quiere levantarse de la c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sancio, sueño durante el dí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arenta estar sedada, letárgic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omnolenc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768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de carácter repentinos o inesperad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rritabilidad, difícil de permanecer cerca de la person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ortamiento explosivo, fuera de su temperamento norm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nsibilidad, tristeza, lla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bio en la personal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889632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repentino o inesperado al concentrar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al prestar aten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para recordar cos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para realizar una actividad, trabajo o jueg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Qué Causa El Comportamiento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olor o incomodida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emocional debido a cierta situación o ambient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íntoma de un problema de salud menta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 secundario por el uso de un medicament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lamente el estado normal de esa person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lo un “comportamient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Sé un Consumidor Informad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285640"/>
            <a:ext cx="88963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ner un empleado a cargo de la salud para ayuda a cada cliente: desarrolla relaciones con los proveedo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Visita sitios web de organizaciones conocidas y confiables como universidades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ntén libros de referencia, como aquellos diseñados para enfermer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uías medic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ciclopedia/dicciona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gurida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Lo Correcto en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Medicina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 la Dosis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r la Vía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 el Momento corr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 la Persona 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Por las Razones correc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Medicinales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- 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Dónde Pueden Sucede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o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rma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ona escribiendo en la hoja de regist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ona administrando la medici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12:27Z</dcterms:created>
  <dc:creator>Kathleen Clotfelter Watson</dc:creator>
  <dc:description/>
  <dc:language>en-US</dc:language>
  <cp:lastModifiedBy>watsonkc</cp:lastModifiedBy>
  <dcterms:modified xsi:type="dcterms:W3CDTF">2005-06-23T19:31:10Z</dcterms:modified>
  <cp:revision>45</cp:revision>
  <dc:subject/>
  <dc:title>Medications:</dc:title>
</cp:coreProperties>
</file>