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6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7102800" cy="9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800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4024440" y="-360"/>
            <a:ext cx="307800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204560" y="704880"/>
            <a:ext cx="4692600" cy="351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move the slide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8918280"/>
            <a:ext cx="307800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4024440" y="8918280"/>
            <a:ext cx="307800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7C25B94-3BAE-4F1B-83E7-47C185B62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ered taste-may over season food or lose appetite-watch for increased use of sa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th may be more susceptible to injury and dental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be more nosebl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tures may irritate or n o longer f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not be able to smell – safety, food odors, body odor, fragrance use, smoke, g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dental and mouth ex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ntion to safety and hygiene 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sues of warmth, overheating , drying of skin (hygiene), fluid intake, sun damage, burns, easy damage and poor heal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ntinence of ur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ations more difficult to cle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feel like uncomfortable pressure, squeezing, fullness, or p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men often have discomfort in places other than the chest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u sh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 function requires directional, coordinated muscular mov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teopor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tructive sleep apn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izure free for one year or more should be weaned off drugs in case there is no more seizure probl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ay require increase or change in drugs to respond to change in seizure type or frequen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 increases in early childhood survival   related to heart surgery, general health manag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institutionalization led to fewer communicable dis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a chromosome 21 means extra proteins it codes for; one is superoxide dismutase—leads to increased production of reactive oxidative species (free radicals), defective repair of oxidative damage to DNA;  increased rate of programmed cell death (apoptosis); increased CV disease, leukemia, immune deficiency, increased frequency of osteoporosis, especially in males; increased prevalence of thyroid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anti-oxidants to decrease free radicals (eg melaton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s: dry eyes, blepharitis, kerataco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er risk for eye related disorders and age related eye diseases occur earlier for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probably has most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ree are intera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’t change genetic, but we can modify the environment and lifestyle behavi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onset usually begins about age 50 –age 40 for 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ease course usually lasts up to 20 years—8 for 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eyes and blepharitis less serious, but rubbing of eyes can lead to keratoco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MD-leads to central blind sp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racts lead to opaque lens, can be corrected with surg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betic retinopathy leads to vision loss up to total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ucoma, asymptomatic, may lead to gradual loss of peripheral vision and total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ratoconus disease of cornea; any 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 background noise and commoth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ing exa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ak lower tones,  face pers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ing loss leads to  social isolation and emotional conc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8703-FB2A-4206-9663-F05C0C422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7474-62ED-4D71-9A27-CB2EFD6DB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B694-9662-4D43-A5A6-D9571C027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DA02-2FE7-4C8C-851D-1091E2A46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F88EF-A61B-4D5C-A9C6-791E1EC10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B0E9C-92C4-4C53-A37C-7658C0A98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4CC80-FBCE-4733-A469-6770D9698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094A0-1E5C-497C-A834-7444C59EF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A3C4B-C868-4E63-9BC4-4D86409FB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F58A7-64CE-4184-8B34-F8FF2A23D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5DF1A-7F63-40B5-BA98-8D801E87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7C7C-581C-4CDE-ADB4-BA9F5C96C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1D207-2920-45D0-B42A-47FAC033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E612E-9329-4A83-83ED-3BF6BC57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5C96C-3753-416A-8968-75F499FA3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0011E-8411-4F7D-A0CC-45417BD87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16462-C048-4DB1-9CC9-F5F7C70D8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9C0B-3D62-4077-A386-61B114DA0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2F2C-3EDC-4E9F-BCF6-BA0B9D390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9205-E591-45A9-BC14-00B8CF6C0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D3F1-6E78-44C1-80E9-6440CA022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BB61-EE71-4CCB-9A7D-2F30B53A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7F30-9876-4084-95BE-D69B6DF3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0F1C-B0A8-49E7-B45B-509BCAAA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4000" cy="1905120"/>
            </a:xfrm>
            <a:prstGeom prst="rect">
              <a:avLst/>
            </a:prstGeom>
            <a:gradFill rotWithShape="0">
              <a:gsLst>
                <a:gs pos="0">
                  <a:srgbClr val="a38d77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rcRect l="0" t="66688" r="0" b="0"/>
            <a:stretch/>
          </p:blipFill>
          <p:spPr>
            <a:xfrm>
              <a:off x="0" y="0"/>
              <a:ext cx="914400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eae8e2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9F9FD-F3A6-4C4F-90AA-4D8C03868A6D}" type="slidenum"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0" y="1143000"/>
              <a:ext cx="9144000" cy="13716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rcRect l="5827" t="8501" r="35924" b="0"/>
            <a:stretch/>
          </p:blipFill>
          <p:spPr>
            <a:xfrm>
              <a:off x="0" y="0"/>
              <a:ext cx="9144000" cy="143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A7B6D-5AF9-4BC2-AE40-7511E3893DCC}" type="slidenum"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eae8e2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2362320"/>
            <a:ext cx="746784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dbc03"/>
                </a:solidFill>
                <a:latin typeface="Impact"/>
              </a:rPr>
              <a:t>Apoyo Durante el Proceso de Envejecimiento de Personas con Discapacidades Generadas en la Niñez</a:t>
            </a:r>
            <a:r>
              <a:rPr b="0" lang="es-ES_tradnl" sz="4400" spc="-1" strike="noStrike">
                <a:solidFill>
                  <a:srgbClr val="eae8e2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33160" y="4266720"/>
            <a:ext cx="7848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Posibles Síntomas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Ver la TV con volumen demasiado alto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Hablar en voz alta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Respuestas inapropiadas a las pregunta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Confusión en lugares de mucho ruido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Aislamiento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Comportamiento dañino hacia la misma persona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Estrategias de Apoyo para Escuchar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Revisiones regulares con un profesional en el campo auditivo, para revisar cera en el oído, enfermedades, pérdida auditiva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Si se requiere, equipo de ayuda auditiva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Hablar lento, en tonos bajos, en forma clara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Reducir el ruido ambiental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Hablar a la persona de frente, con la luz dirigida hacia tu cara, no en tu espalda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Mantener las baterías del equipo auditivo listas, y el equipo auditivo limpio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Problemas en la Boca Durante el Envejecimiento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8951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Glándulas del sabor empiezan a bajar su función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Las encías se recogen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El esmalte dental se adelgaza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Anormalidades y Enfermedades en la Boca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Falta de saliva por medicamentos o enfermedades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Caries dentales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Abscesos y caries que llegan al nervio / raíz de los dientes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Enfermedad en las encías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Lesiones, especialmente con dentaduras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Infección de las membranas mucosas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Cánceres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Estrategias de Soporte</a:t>
            </a:r>
            <a:br>
              <a:rPr sz="4400"/>
            </a:b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Boca / Sabor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Revisiones dentales regulares y buena higiene oral, incluso si se carece de diente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Uso de hilo dental o cepillo proxi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Considera el uso de cepillos que funcionan con batería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Enjuague bucal sin alcohol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Pide a tu dentista que te recete un enjuague bucal para eliminar bacterias e infecciones (chlorhexidine)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Aumenta el uso de condimentos, con excepción de la sal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Piel / Tacto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Reducción de glándulas sudoríparas, grasa subcutánea, flujo sanguíneo, elasticidad, grosor de la piel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Perdida de pigmento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Reducción de la producción de células para la piel y crecimiento de cabello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Cambios en la matriz de las uña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Reducción de la sensibilidad al tacto, dolor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Proteger la Piel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Reducir al máximo el uso de jabón y enjuagar bien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Secarla por completo y usar humectante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Si no se tiene mucha movilidad, cambiar de posición frecuentemente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Revisar constantemente la piel en búsqueda de problema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Colocar señales para agua fría y caliente, y revisar la temperatura del agua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Aumento de riesgo con Síndrome de Down, inmovilidad, mala nutrición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Usar protección contra el sol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Envejecimiento del Sistema Gástrico-Intestinal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Reducción de la necesidad de calorías por cada década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Menor cantidad de jugos gástricos puede llevar al aumento de indigestión y úlcera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Reducción de la actividad muscular, vaciado y digestión mas lenta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Menor absorción de nutriente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Estrategias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Promover la eliminación mediante fluidos, fibras y actividad física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Estar alertas al estreñimiento – mantener un registro de deposición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Ingerir las comidas en forma lenta, de pequeñas porciones y con mas frecuencia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Evitar consumo de calorías si existe tendencia al aumento de peso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Aumentar la cantidad de calorías si existe tendencia a la pérdida de peso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Urinario y Reproductivo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384280"/>
            <a:ext cx="7772400" cy="34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Reducción del tono muscular y capacidad de la vejiga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Los riñones son menos eficiente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En los varones, es muy común el aumento del tamaño de la próstata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Relajamiento de los músculos pélvico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Efectos por la reducción de las hormona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925040" cy="5562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bc03"/>
                </a:solidFill>
                <a:latin typeface="Impact"/>
              </a:rPr>
              <a:t>Elaborado en colaboración y con fondos de:</a:t>
            </a:r>
            <a:br>
              <a:rPr sz="2800"/>
            </a:br>
            <a:br>
              <a:rPr sz="2800"/>
            </a:br>
            <a:r>
              <a:rPr b="0" lang="es-ES_tradnl" sz="2800" spc="-1" strike="noStrike">
                <a:solidFill>
                  <a:srgbClr val="fdbc03"/>
                </a:solidFill>
                <a:latin typeface="Impact"/>
              </a:rPr>
              <a:t>El Concilio de Washington para Discapacidades Generadas en la Niñez,</a:t>
            </a:r>
            <a:br>
              <a:rPr sz="2800"/>
            </a:br>
            <a:br>
              <a:rPr sz="2800"/>
            </a:br>
            <a:r>
              <a:rPr b="0" lang="es-ES_tradnl" sz="2800" spc="-1" strike="noStrike">
                <a:solidFill>
                  <a:srgbClr val="fdbc03"/>
                </a:solidFill>
                <a:latin typeface="Impact"/>
              </a:rPr>
              <a:t>El Centro para el Desarrollo Humano y Discapacidades de la Universidad de Washington,</a:t>
            </a:r>
            <a:br>
              <a:rPr sz="2800"/>
            </a:br>
            <a:br>
              <a:rPr sz="2800"/>
            </a:br>
            <a:r>
              <a:rPr b="0" lang="es-ES_tradnl" sz="2800" spc="-1" strike="noStrike">
                <a:solidFill>
                  <a:srgbClr val="fdbc03"/>
                </a:solidFill>
                <a:latin typeface="Impact"/>
              </a:rPr>
              <a:t>Centro del Noroeste,</a:t>
            </a:r>
            <a:br>
              <a:rPr sz="2800"/>
            </a:br>
            <a:br>
              <a:rPr sz="2800"/>
            </a:br>
            <a:r>
              <a:rPr b="0" lang="es-ES_tradnl" sz="2800" spc="-1" strike="noStrike">
                <a:solidFill>
                  <a:srgbClr val="fdbc03"/>
                </a:solidFill>
                <a:latin typeface="Impact"/>
              </a:rPr>
              <a:t>Y la División del Estado De Washington de Discapacidades Generadas en la Niñez.</a:t>
            </a:r>
            <a:endParaRPr b="0" lang="en-US" sz="2800" spc="-1" strike="noStrike">
              <a:solidFill>
                <a:srgbClr val="fdbc03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Estrategias de Soporte para el Sistema Urinario y Reproductivo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Prestar atención a patrones de evacuación – aumento o reducción en la frecuencia, cambios en la continencia. 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Prestar atención a síntomas de infección – frecuencia, urgencia, accidentes, incomodidad, olor inusual, color o sangrado. Es posible que no se presente fiebre o síntomas generales de una infección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Exámenes regulares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Costumbre de buena higiene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556400" cy="95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Protegiendo el Corazón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5760" y="1828440"/>
            <a:ext cx="848016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Realizar ejercicio moderado en forma regular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Bajar el ritmo de las actividade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Estar alerta a señales de reducción de resistencia – mareo, confusión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Cambiar lentamente la posición para prevenir mareo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Reducir o dejar de fumar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Dietas saludables, bajas en sodio. Revisión de presión sanguínea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Reducir grasas de los alimento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Aprender señales y síntomas de un ataque cardíaco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Señales de un Ataque Cardíaco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Molestia en el pecho que dura más de unos minutos, o se pierde y regresa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Molestia en otras áreas superiores del cuerpo, incluyendo uno o dos brazos, cuello, quijada, espalda, estómago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Falta de respiración, con o sin molestias al pecho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Otros síntomas: nausea, mareo, sudores fríos, cambio de color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Pulmones – Sistema Respiratorio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Los pulmones son menos elásticos, con menos capacidad de recibir oxigeno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La respiración es menos eficiente, disminuye la tolerancia para el ejercicio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Disminuye el reflejo de la to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Reducción de cilios que alinean la zona respiratoria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Protegiendo los Pulmones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56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Evita fumar y convertirte en fumador indirecto (second-hand smoke)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Realiza actividades físicas que estimulen la respiración profunda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Personas con dificultad, bajar el ritmo de la actividad y permitir descanso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Inmunizaciones / vacunas contra enfermedades del pulmón (neumonía y gripe)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Prestar atención a signos de infección (mucha tos, falta de respiración, secreción con color, confusión)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Protegiendo los Pulmones (continuación)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22856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Prestar atención a síntomas de reflujo: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51"/>
              </a:spcBef>
              <a:buSzPct val="12489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Indigestión, molestias luego de las comidas, o en la noche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51"/>
              </a:spcBef>
              <a:buSzPct val="12489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Dificultad o dolor al tragar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51"/>
              </a:spcBef>
              <a:buSzPct val="12489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Exceso de saliva cuando no se está comiendo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51"/>
              </a:spcBef>
              <a:buSzPct val="12489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Tos durante la noche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Sistema Nervioso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Pérdida de células nerviosas y fibras, con disminución de conducción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Reducción del flujo sanguíneo y oxígeno al cerebro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Menor etapa REM de sueño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Respuesta alterada al dolor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Reducción del sentido del equilibrio debido a la pérdida de células de cabello en el oído medio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Movimientos lentos y menor sensibilidad llevan a  reacciones tardías y reducción de las respuestas de protección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Comportamiento y Cognitivo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Inteligencia, habilidad para aprender, no cambian necesariamente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Mayor dificultad procesando y organizando nueva información, y recuperando información antigua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Enfermedades mentales prevalecen más en aquellas personas con I/DD que en la población en general; depresión es muy común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Cambios Musculares-Óseos debido al Envejecimiento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880" y="28195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Disminución de la masa muscular, fortaleza y tono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Disminución de la movilidad de las articulaciones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Aumento de la porosidad y fragilidad de los huesos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Reducción de la columna vertebra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Mayor riesgo de artritis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Protegiendo el Sistema Muscular-Óseo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Estimular el movimiento y cuidado independiente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Promover el ejercicio regular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Implementar seguridades para prevenir caída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Promover el uso seguro de equipo de ayuda para movimiento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Usar asientos cómodos, firmes, y no muy profundo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Preguntar al doctor sobre suplementos de calcio y vitamina D, ejercicios para el peso, terapia para reemplazar las hormona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Personal del Proyecto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Sharan Brown, JD, EdD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8e2"/>
                </a:solidFill>
                <a:latin typeface="Arial Narrow"/>
              </a:rPr>
              <a:t>	</a:t>
            </a:r>
            <a:r>
              <a:rPr b="0" i="1" lang="es-ES_tradnl" sz="2800" spc="-1" strike="noStrike">
                <a:solidFill>
                  <a:srgbClr val="eae8e2"/>
                </a:solidFill>
                <a:latin typeface="Arial Narrow"/>
              </a:rPr>
              <a:t>Investigador Principal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Kathleen Watson, PhD, RN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8e2"/>
                </a:solidFill>
                <a:latin typeface="Arial Narrow"/>
              </a:rPr>
              <a:t>	</a:t>
            </a:r>
            <a:r>
              <a:rPr b="0" i="1" lang="es-ES_tradnl" sz="2800" spc="-1" strike="noStrike">
                <a:solidFill>
                  <a:srgbClr val="eae8e2"/>
                </a:solidFill>
                <a:latin typeface="Arial Narrow"/>
              </a:rPr>
              <a:t>Directora del Proyecto/Instructora y Madre de Familia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Esther Moloney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	</a:t>
            </a:r>
            <a:r>
              <a:rPr b="0" i="1" lang="es-ES_tradnl" sz="2800" spc="-1" strike="noStrike">
                <a:solidFill>
                  <a:srgbClr val="eae8e2"/>
                </a:solidFill>
                <a:latin typeface="Arial Narrow"/>
              </a:rPr>
              <a:t>Asistente del Proyecto y Madre de Familia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Parálisis Cerebral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Disminución del tiempo de vida de acuerdo al grado de severidad de la condición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Tono muscular anorma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Dolor muscular y de articulaciones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Deformaciones de la espalda y caderas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Deterioramiento de la función de la vejiga e intestino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Cirugías ortopédicas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Parálisis Cerebral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Movimiento anormal de la comida a través de la garganta y estomago: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Disfagia, forma anormal de tragar alimentos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Reflujo del ácido estomacal a la garganta (GERD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Desalojo del estómago en forma lenta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Todos contribuyen a la erosión dental, irritación del esófago, anemia, problemas alimenticios, aspiración y neumonía</a:t>
            </a: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Parálisis Cerebral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Movimiento anormal de la comida a través del intestino grueso y delgado</a:t>
            </a: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Alto grado de estreñimiento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Aumenta el riesgo de muerte por obstrucción y perforación intestinal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Parálisis Cerebral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Empeoran los problemas de alimentación y digestión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Empeora el deterioro y dolor de articulaciones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Debido a los problemas anteriores, la respiración se complica. Se dificulta el habla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Susceptibilidad a heridas debido a la inmovilidad y adelgazamiento de la piel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Aumenta el riesgo de osteoporosis debido a problemas alimenticios, movimiento limitado y uso de medicamentos</a:t>
            </a:r>
            <a:r>
              <a:rPr b="0" lang="en-US" sz="3000" spc="-1" strike="noStrike">
                <a:solidFill>
                  <a:srgbClr val="eae8e2"/>
                </a:solidFill>
                <a:latin typeface="Arial Narrow"/>
              </a:rPr>
              <a:t>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Síndrome Prader-Willi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28951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Hipogonadismo - bajos niveles hormonales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SzPct val="13374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Alto riesgo de osteoporosis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Problemas relacionados con obesidad sin contro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SzPct val="13374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Cardiovascular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SzPct val="13374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Diabetes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Síndrome de X Frágil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Aumenta la velocidad de prolapsos de la válvula mitra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Desórdenes musculares-óseos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Menopausia temprana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Epilepsia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Impedimento Visua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Osteoporosis temprana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Problemas de Convulsiones / Ataques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Cambio en la frecuencia de ataques, aumento o disminución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Efectos acumulativos por el uso de medicamentos durante un tiempo prolongado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La baja densidad de los huesos, y aumento de heridas y caídas debido a los ataques pueden resultar en fracturas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Síndrome de Down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Mayor tiempo de vida que en el pasado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El rápido envejecimiento a nivel celular afecta todos los sistemas del cuerpo. El envejecimiento sucede en forma temprana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Mala función del sistema inmune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Mayor riesgo de problemas de tiroides, generalmente hipotiroide.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Problemas visuales y auditivos tempranos debido al envejecimiento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Síndrome de Down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Aumento de incidentes de apnea del sueño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Sobrepeso, especialmente aquellos que viven con sus familiares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Muchos nacen con anormalidades del corazón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Luego de unos años, aumenta el riesgo de enfermedad de válvulas del corazón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Problema de articulaciones del cuello, rodilla, y cadera, y es muy probable la presencia de juanete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Piel reseca, infección por presencia de hongos en las uña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Síndrome de Down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Baja densidad de los huesos y riesgo temprano de osteoporosis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Menor riesgo de arterioesclerosis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Inestabilidad Atlanto-axial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5601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8e2"/>
                </a:solidFill>
                <a:latin typeface="Arial Narrow"/>
              </a:rPr>
              <a:t>Inestabilidad de la columna vertebral, aproximadamente un 14%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5601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8e2"/>
                </a:solidFill>
                <a:latin typeface="Arial Narrow"/>
              </a:rPr>
              <a:t>Puede comprimir el nervio, causando dolor de cuello, mala postura, pérdida de fuerza en la parte superior del cuerpo, reflejos neurológicos anormales, y cambios en la evacuación del intestino y vejiga.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5601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8e2"/>
                </a:solidFill>
                <a:latin typeface="Arial Narrow"/>
              </a:rPr>
              <a:t>Tratamiento controversial. Pregúntale a tu doctor.</a:t>
            </a: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dbc03"/>
                </a:solidFill>
                <a:latin typeface="Impact"/>
              </a:rPr>
              <a:t>Efectos en la Salud Durante el Proceso de Envejecimiento</a:t>
            </a:r>
            <a:endParaRPr b="0" lang="en-US" sz="40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2819160"/>
            <a:ext cx="40388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Proceso normal de envejecimiento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Elección de estilo de vida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Efectos genéticos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Ambiente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105520" y="2438280"/>
            <a:ext cx="2679480" cy="3308400"/>
          </a:xfrm>
          <a:prstGeom prst="rect">
            <a:avLst/>
          </a:prstGeom>
          <a:ln w="9360">
            <a:solidFill>
              <a:srgbClr val="eae8e2"/>
            </a:solidFill>
            <a:miter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9448920" y="0"/>
            <a:ext cx="1412640" cy="1800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9524880" y="2209680"/>
            <a:ext cx="1346400" cy="1800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9601200" y="4191120"/>
            <a:ext cx="1278000" cy="18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Síndrome de Down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Aumenta el riesgo de Demencia Alzheimer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3374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Presencia temprana de Demencia Alzheimer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3374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Se presenta mas pronto que en la población general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3374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Avanza con mayor rapidez?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3374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No es claro cuantos han sido afectados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3374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Puede causar la presencia de nuevos problemas de ataque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Qué es Demencia?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Mala función cerebral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Problemas con la memoria y razón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Acompañada de confusión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Pérdida de habilidad para usar información alguna vez aprendida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Pérdida de habilidades básicas para pensar y entender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Qué más puede causar este comportamiento?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Problemas médicos; anemia, presión alta, tumor cerebral, problema de válvulas del corazón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Efectos secundarios de las medicina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Problemas visuales o auditivo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Problemas metabólicos; diabetes o mala función de la tiroide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Abuso de alcohol u otra substancia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Problemas afectivos; delirio o depresión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Deficiencia de vitaminas; B12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924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Registrando las Funciones Normales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Usar un examen común / estandarizado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Hacer registros periódicos, antes de que empiece un problema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Incluir una grabación de video de la capacidad de las funciones de la persona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Cada cierto tiempo comparar el cambio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Proyecto PCAD (ver muestra)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Recibir Evaluación Médica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Realizar exámenes y análisis extensivos para descartar posibles causas de comportamientos o síntoma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Registrar el decaimiento progresivo desde el estado normal del paciente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Mediante el proceso de eliminación y patrones característicos del problema, obtener un diagnóstico probable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Tipos de Demencia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Demencia de Alzheimer (AD o DAT)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El tipo de demencia más común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Presencia gradual con etapas de grave aumento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Demencia de Múltiples Infartos (MID)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El segundo tipo de demencia más común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Varios infartos pequeños relacionados con problemas del corazón y presión alta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Puede presentarse en forma repentina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Otros tipos</a:t>
            </a: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61048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Etapas de la Demencia de Alzheimer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57200" y="1600200"/>
          <a:ext cx="8305920" cy="4546440"/>
        </p:xfrm>
        <a:graphic>
          <a:graphicData uri="http://schemas.openxmlformats.org/drawingml/2006/table">
            <a:tbl>
              <a:tblPr/>
              <a:tblGrid>
                <a:gridCol w="1660680"/>
                <a:gridCol w="1662120"/>
                <a:gridCol w="1660320"/>
                <a:gridCol w="1662120"/>
                <a:gridCol w="1660680"/>
              </a:tblGrid>
              <a:tr h="13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Leve</a:t>
                      </a:r>
                      <a:r>
                        <a:rPr b="0" lang="es-ES_tradnl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	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(etapa inicial)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Confusión y pérdida de memoria</a:t>
                      </a:r>
                      <a:r>
                        <a:rPr b="0" lang="es-ES_tradnl" sz="28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.</a:t>
                      </a:r>
                      <a:endParaRPr b="0" lang="en-US" sz="28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Desorientado en el lugar.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Problemas con tareas rutinarias.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Cambios en personalidad y razón.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1368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Moderado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(etapa media)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Dificultad con ADL’s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Ansiedad, paranoia, agitación.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Problemas para dormir.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Dificultad reconociendo personas familiares.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1368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</a:tr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Severo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(etapa final)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Pérdida del habla.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Pérdida de peso, apetito.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Pérdida de control del intestino y vejiga.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Dependencia total en otros</a:t>
                      </a:r>
                      <a:r>
                        <a:rPr b="0" lang="en-US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.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1368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Clases de Servicios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Envejecer en un mismo lugar; se adapta de acuerdo a las necesidades, habilidades y cambios de comportamiento del cliente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Ambientes específicamente para casos de demencia; personal y lugar especializado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Referencias, generalmente para instituciones de cuidado a largo plazo u otros programas genéricos de la comunidad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Referencias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8e2"/>
                </a:solidFill>
                <a:latin typeface="Arial Narrow"/>
              </a:rPr>
              <a:t>Partes de esta presentación fueron adaptadas de: Factor, A.R. (1997). </a:t>
            </a:r>
            <a:r>
              <a:rPr b="0" i="1" lang="es-ES_tradnl" sz="2400" spc="-1" strike="noStrike">
                <a:solidFill>
                  <a:srgbClr val="eae8e2"/>
                </a:solidFill>
                <a:latin typeface="Arial Narrow"/>
              </a:rPr>
              <a:t>Envejeciendo con Discapacidades Generadas en la Niñez: Cambios  Cognitivos y Físicos y sus Implicaciones</a:t>
            </a:r>
            <a:r>
              <a:rPr b="0" lang="es-ES_tradnl" sz="2400" spc="-1" strike="noStrike">
                <a:solidFill>
                  <a:srgbClr val="eae8e2"/>
                </a:solidFill>
                <a:latin typeface="Arial Narrow"/>
              </a:rPr>
              <a:t>. Chicago: Centro de Entrenamiento e Investigación de Rehabilitación para la Vejez con Retardo Mental, Universidad de Illinois en Chicago.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8e2"/>
                </a:solidFill>
                <a:latin typeface="Arial Narrow"/>
              </a:rPr>
              <a:t>Muchas más referencias en este sitio web:</a:t>
            </a:r>
            <a:r>
              <a:rPr b="0" lang="es-ES_tradnl" sz="3200" spc="-1" strike="noStrike">
                <a:solidFill>
                  <a:srgbClr val="eae8e2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http://www.uic.edu/orgs/rrtcamr/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Apoyo Durante el Proceso de Envejecimiento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eae8e2"/>
                </a:solidFill>
                <a:latin typeface="Arial Narrow"/>
              </a:rPr>
              <a:t>Es necesario documentar el nivel actual de las funciones corporales.</a:t>
            </a:r>
            <a:endParaRPr b="0" lang="en-US" sz="2600" spc="-1" strike="noStrike">
              <a:solidFill>
                <a:srgbClr val="eae8e2"/>
              </a:solidFill>
              <a:latin typeface="Arial Narrow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SzPct val="17028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eae8e2"/>
                </a:solidFill>
                <a:latin typeface="Arial Narrow"/>
              </a:rPr>
              <a:t>Considera una evaluación PCAD</a:t>
            </a:r>
            <a:endParaRPr b="0" lang="en-US" sz="2200" spc="-1" strike="noStrike">
              <a:solidFill>
                <a:srgbClr val="eae8e2"/>
              </a:solidFill>
              <a:latin typeface="Arial Narrow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eae8e2"/>
                </a:solidFill>
                <a:latin typeface="Arial Narrow"/>
              </a:rPr>
              <a:t>Reconocimiento de cambios que requieren atención, especialmente en pacientes que no puedan comunicarse verbalmente</a:t>
            </a: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.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SzPct val="17028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eae8e2"/>
                </a:solidFill>
                <a:latin typeface="Arial Narrow"/>
              </a:rPr>
              <a:t>Ejemplo: demencia vs. problemas que pueden recibir tratamiento</a:t>
            </a:r>
            <a:endParaRPr b="0" lang="en-US" sz="2200" spc="-1" strike="noStrike">
              <a:solidFill>
                <a:srgbClr val="eae8e2"/>
              </a:solidFill>
              <a:latin typeface="Arial Narrow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eae8e2"/>
                </a:solidFill>
                <a:latin typeface="Arial Narrow"/>
              </a:rPr>
              <a:t>Plan para permanecer en el mismo lugar, o en un lugar de cuidado alternativo durante la vejez</a:t>
            </a:r>
            <a:r>
              <a:rPr b="0" lang="en-US" sz="2600" spc="-1" strike="noStrike">
                <a:solidFill>
                  <a:srgbClr val="eae8e2"/>
                </a:solidFill>
                <a:latin typeface="Arial Narrow"/>
              </a:rPr>
              <a:t>.</a:t>
            </a:r>
            <a:endParaRPr b="0" lang="en-US" sz="2600" spc="-1" strike="noStrike">
              <a:solidFill>
                <a:srgbClr val="eae8e2"/>
              </a:solidFill>
              <a:latin typeface="Arial Narrow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eae8e2"/>
                </a:solidFill>
                <a:latin typeface="Arial Narrow"/>
              </a:rPr>
              <a:t>Planear para los últimos días.</a:t>
            </a:r>
            <a:endParaRPr b="0" lang="en-US" sz="2600" spc="-1" strike="noStrike">
              <a:solidFill>
                <a:srgbClr val="eae8e2"/>
              </a:solidFill>
              <a:latin typeface="Arial Narrow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eae8e2"/>
                </a:solidFill>
                <a:latin typeface="Arial Narrow"/>
              </a:rPr>
              <a:t>Cuidado para los últimos días</a:t>
            </a: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Cambios en la Visión al Envejecer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Pérdida de precisión (enfoque)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Pérdida al definir distancias (lejos o cerca)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Disminución de transmisión de luz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Cambios en percepción de color (verdes, azules, violetas)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Disminución de adaptación en la oscuridad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Menor capacidad para adaptarse al brillo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Disminución del campo visual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Enfermedades de los Ojos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eae8e2"/>
                </a:solidFill>
                <a:latin typeface="Arial Narrow"/>
              </a:rPr>
              <a:t>Ojos secos – picazón, irritación.</a:t>
            </a:r>
            <a:endParaRPr b="0" lang="en-US" sz="2700" spc="-1" strike="noStrike">
              <a:solidFill>
                <a:srgbClr val="eae8e2"/>
              </a:solidFill>
              <a:latin typeface="Arial Narrow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eae8e2"/>
                </a:solidFill>
                <a:latin typeface="Arial Narrow"/>
              </a:rPr>
              <a:t>Blefaritis – inflamación de los párpados, la persona puede rascarse demasiado.</a:t>
            </a:r>
            <a:endParaRPr b="0" lang="en-US" sz="2700" spc="-1" strike="noStrike">
              <a:solidFill>
                <a:srgbClr val="eae8e2"/>
              </a:solidFill>
              <a:latin typeface="Arial Narrow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eae8e2"/>
                </a:solidFill>
                <a:latin typeface="Arial Narrow"/>
              </a:rPr>
              <a:t>Degeneración macular debido a la edad (ARMD).</a:t>
            </a:r>
            <a:endParaRPr b="0" lang="en-US" sz="2700" spc="-1" strike="noStrike">
              <a:solidFill>
                <a:srgbClr val="eae8e2"/>
              </a:solidFill>
              <a:latin typeface="Arial Narrow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eae8e2"/>
                </a:solidFill>
                <a:latin typeface="Arial Narrow"/>
              </a:rPr>
              <a:t>Cataratas – la visión se nubla en forma gradual.</a:t>
            </a:r>
            <a:endParaRPr b="0" lang="en-US" sz="2700" spc="-1" strike="noStrike">
              <a:solidFill>
                <a:srgbClr val="eae8e2"/>
              </a:solidFill>
              <a:latin typeface="Arial Narrow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eae8e2"/>
                </a:solidFill>
                <a:latin typeface="Arial Narrow"/>
              </a:rPr>
              <a:t>Retinopatía diabética – daño a la retina llegando a la ceguera.</a:t>
            </a:r>
            <a:endParaRPr b="0" lang="en-US" sz="2700" spc="-1" strike="noStrike">
              <a:solidFill>
                <a:srgbClr val="eae8e2"/>
              </a:solidFill>
              <a:latin typeface="Arial Narrow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eae8e2"/>
                </a:solidFill>
                <a:latin typeface="Arial Narrow"/>
              </a:rPr>
              <a:t>Glaucoma – se empieza con visión de túnel, llegando a la ceguera.</a:t>
            </a:r>
            <a:endParaRPr b="0" lang="en-US" sz="2700" spc="-1" strike="noStrike">
              <a:solidFill>
                <a:srgbClr val="eae8e2"/>
              </a:solidFill>
              <a:latin typeface="Arial Narrow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eae8e2"/>
                </a:solidFill>
                <a:latin typeface="Arial Narrow"/>
              </a:rPr>
              <a:t>Keratoconus – enfermedad de la superficie del ojo (cornea). Más común en personas con el Síndrome de Down</a:t>
            </a: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9907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Estrategias de Ayuda para la Visión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Revisiones regulares de los ojos para tratar problemas sin síntomas o síntomas sin explicación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Buscar una explicación profesional del problema.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8e2"/>
                </a:solidFill>
                <a:latin typeface="Arial Narrow"/>
              </a:rPr>
              <a:t>Modifica tu ambiente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5601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8e2"/>
                </a:solidFill>
                <a:latin typeface="Arial Narrow"/>
              </a:rPr>
              <a:t>Usa colores de alto contraste, luz y superficies que no tengan reflejo, letras grandes.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5601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8e2"/>
                </a:solidFill>
                <a:latin typeface="Arial Narrow"/>
              </a:rPr>
              <a:t>Rojo, naranja, amarillo mejor que azules, verdes, violetas.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5601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8e2"/>
                </a:solidFill>
                <a:latin typeface="Arial Narrow"/>
              </a:rPr>
              <a:t>Aumentar la cantidad de luz, usar luz durante la noche.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5601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8e2"/>
                </a:solidFill>
                <a:latin typeface="Arial Narrow"/>
              </a:rPr>
              <a:t>Organizar las pertenencias y mantener una ubicación constante.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5601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8e2"/>
                </a:solidFill>
                <a:latin typeface="Arial Narrow"/>
              </a:rPr>
              <a:t>Mantener limpios los anteojos y evitar rayones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Cambios Auditivos al Envejecer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Pérdida de células y fibras nerviosas auditivas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Menor cantidad de sangre hacia el área de transmisión del nervio auditivo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Engrosamiento del tímpano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Aumento de cera en el oído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Pérdida auditiva de sonidos de alta frecuencia (Presbycusis)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ae8e2"/>
                </a:solidFill>
                <a:latin typeface="Arial Narrow"/>
              </a:rPr>
              <a:t>Disminución de la discriminación de tonos, localización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6T15:51:13Z</dcterms:created>
  <dc:creator>Kathleen Clotfelter Watson</dc:creator>
  <dc:description/>
  <dc:language>en-US</dc:language>
  <cp:lastModifiedBy>watsonkc</cp:lastModifiedBy>
  <dcterms:modified xsi:type="dcterms:W3CDTF">2005-06-30T15:44:09Z</dcterms:modified>
  <cp:revision>40</cp:revision>
  <dc:subject/>
  <dc:title>Supporting People with Developmental Disabilities During the Aging Process </dc:title>
</cp:coreProperties>
</file>