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81B0D5-089E-4D5D-A77B-626A6914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E8F-BF8E-4E9E-9AD2-89EFCD6C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C0C-1FD8-4F9F-A9D7-EF7ABEA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A0A-07CB-4B95-A49F-841E4155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154-1E7B-4A66-B35A-9C692E3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79DB-485C-4871-8313-EDBC2AB7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BF5-2A8F-41C7-B9BC-36028EA1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580F-6DF6-4BCF-909D-95D5B13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3498-5ABE-4939-8CF2-885B041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12AD-1E65-4FE7-B2FB-0F7784A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4BB4-8840-4746-9D8E-48C8D71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6AF-4F9E-4AD1-B884-CA52F25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0C4-3802-49A8-AFA2-7A6B1B7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DBB-2BAA-4CA8-8257-71ADF27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29E-1047-465F-892E-89ABE5A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B89-8F78-4291-AB42-7FF44282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8A39-D66E-4DDD-B5DD-6DF6CC27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802-19DA-42FE-92AE-A0422BBC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E4C-A2B1-4E66-B04D-C93ABC9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04E-27B1-417B-8D1E-E754F3C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76A-EFA3-4663-A9C7-8D885416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AC7-13B0-4C97-8EF8-3B685722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F6F-FD73-42BC-8E99-ABDEDBD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A1C-94B3-41B9-915B-EAF776B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00D-AFFE-4A32-A26C-E907430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D61-2185-4DD3-BFF9-4DA33DDB5989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F734-ABB3-40D9-9309-E0061EEE81D2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Apoyo Durante el Proceso de Envejecimiento de Personas con Discapacidades Generadas en la Niñez</a:t>
            </a:r>
            <a:r>
              <a:rPr b="0" lang="es-ES_tradnl" sz="44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osibles Síntom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Ver la TV con volumen demasiado al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blar en voz al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spuestas inapropiadas a las pregunt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nfusión en lugares de mucho rui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isla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mportamiento dañino hacia la mism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poyo para Escucha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con un profesional en el campo auditivo, para revisar cera en el oído, enfermedades, pérdi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se requiere, equipo de ayu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lento, en tonos bajos, en forma clar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el ruido ambient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a la persona de frente, con la luz dirigida hacia tu cara, no en tu espald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antener las baterías del equipo auditivo listas, y el equipo auditivo limpi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en la Boca Durante e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Glándulas del sabor empiezan a bajar su funció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s encías se recog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esmalte dental se adelgaz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normalidades y Enfermedades en la Bo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Falta de saliva por medicamentos o enfermedad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aries dental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bscesos y caries que llegan al nervio / raíz de los dient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fermedad en las encí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Lesiones, especialmente con dentadur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fección de las membranas mucos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áncer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</a:t>
            </a:r>
            <a:br>
              <a:rPr sz="4400"/>
            </a:b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Boca / Sabo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dentales regulares y buena higiene oral, incluso si se carece de die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o de hilo dental o cepillo proxi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nsidera el uso de cepillos que funcionan con baterí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njuague bucal sin alcoh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de a tu dentista que te recete un enjuague bucal para eliminar bacterias e infecciones (chlorhexidin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uso de condimentos, con excepción de la s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iel / Ta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glándulas sudoríparas, grasa subcutánea, flujo sanguíneo, elasticidad, grosor de la pie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dida de pigm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producción de células para la piel y crecimiento de cabell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s en la matriz de las uñ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sensibilidad al tacto, d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er la Pie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al máximo el uso de jabón y enjuagar bie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carla por completo y usar humecta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no se tiene mucha movilidad, cambiar de posición frecuentement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ar constantemente la piel en búsqueda de problem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locar señales para agua fría y caliente, y revisar la temperatura del agu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riesgo con Síndrome de Down, inmovilidad, mala nutr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ar protección contra el s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vejecimiento del Sistema Gástrico-Intestin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necesidad de calorías por cada déca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cantidad de jugos gástricos puede llevar al aumento de indigestión y úlcer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actividad muscular, vaciado y digestión mas len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absorción de nutr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mover la eliminación mediante fluidos, fibras y actividad físic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s al estreñimiento – mantener un registro de depos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Ingerir las comidas en forma lenta, de pequeñas porciones y con mas frecue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vitar consumo de calorías si existe tendencia al aumento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r la cantidad de calorías si existe tendencia a la pérdida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l tono muscular y capacidad de la vejig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riñones son menos efic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 los varones, es muy común el aumento del tamaño de la prósta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lajamiento de los músculos pélvic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por la reducción de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bc03"/>
                </a:solidFill>
                <a:latin typeface="Impact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 para el Sistema 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patrones de evacuación – aumento o reducción en la frecuencia, cambios en la continencia. 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síntomas de infección – frecuencia, urgencia, accidentes, incomodidad, olor inusual, color o sangrado. Es posible que no se presente fiebre o síntomas generales de una inf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ámenes regular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ostumbre de buena higien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Coraz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alizar ejercicio moderado en forma regul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ajar el ritmo de las activida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 a señales de reducción de resistencia – mareo, confu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ar lentamente la posición para prevenir mare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o dejar de fum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etas saludables, bajas en sodio. Revisión de presión sanguíne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grasas de los aliment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prender señales y síntomas de un ataque cardíac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eñales de un Ataque Cardíac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el pecho que dura más de unos minutos, o se pierde y regres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otras áreas superiores del cuerpo, incluyendo uno o dos brazos, cuello, quijada, espalda, estómag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Falta de respiración, con o sin molestias al pech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síntomas: nausea, mareo, sudores fríos, cambio de c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ulmones – Sistema Respiratori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pulmones son menos elásticos, con menos capacidad de recibir oxigen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respiración es menos eficiente, disminuye la tolerancia para el ejercic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ye el reflejo de la t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cilios que alinean la zona respiratori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vita fumar y convertirte en fumador indirecto (second-hand smoke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 actividades físicas que estimulen la respiración profun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sonas con dificultad, bajar el ritmo de la actividad y permitir descans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munizaciones / vacunas contra enfermedades del pulmón (neumonía y grip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ignos de infección (mucha tos, falta de respiración, secreción con color, confusió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 (continuación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íntomas de refluj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digestión, molestias luego de las comidas, o en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ficultad o dolor al traga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ceso de saliva cuando no se está comien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Tos durante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istema Nervios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nerviosas y fibras, con disminución de condu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flujo sanguíneo y oxígeno al cerebr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etapa REM de sueñ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spuesta alterada al dolo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sentido del equilibrio debido a la pérdida de células de cabello en el oído medi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ovimientos lentos y menor sensibilidad llevan a  reacciones tardías y reducción de las respuestas de prot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omportamiento y Cogni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teligencia, habilidad para aprender, no cambian necesariam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dificultad procesando y organizando nueva información, y recuperando información antigu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fermedades mentales prevalecen más en aquellas personas con I/DD que en la población en general; depresión es muy comú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Musculares-Óseos debido a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asa muscular, fortaleza y ton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ovilidad de las articulaci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o de la porosidad y fragilidad de los hues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columna verteb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art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Sistema Muscular-Óse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stimular el movimiento y cuidado independ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ejercicio regula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lementar seguridades para prevenir caíd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uso seguro de equipo de ayuda para mov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asientos cómodos, firmes, y no muy profund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guntar al doctor sobre suplementos de calcio y vitamina D, ejercicios para el peso, terapia para reemplazar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ersonal del Proye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Investigador Princip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Directora del Proyecto/Instructora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Asistente del Proyecto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l tiempo de vida de acuerdo al grado de severidad de la condi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Tono muscular anorm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olor muscular y de articulacion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ormaciones de la espalda y cader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terioramiento de la función de la vejiga e intestin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irugías ortopédic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 la garganta y estomag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fagia, forma anormal de tragar aliment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flujo del ácido estomacal a la garganta (GERD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salojo del estómago en forma len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Todos contribuyen a la erosión dental, irritación del esófago, anemia, problemas alimenticios, aspiración y neumonía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l intestino grueso y delgado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grado de estreñimient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riesgo de muerte por obstrucción y perforación intestin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n los problemas de alimentación y digest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 el deterioro y dolor de articulacion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ebido a los problemas anteriores, la respiración se complica. Se dificulta el habla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Susceptibilidad a heridas debido a la inmovilidad y adelgazamiento de la piel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a el riesgo de osteoporosis debido a problemas alimenticios, movimiento limitado y uso de medicamentos</a:t>
            </a: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Prader-Willi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ipogonadismo - bajos niveles hormon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riesgo de osteoporosi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relacionados con obesidad sin contro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X Frágil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la velocidad de prolapsos de la válvula mit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sórdenes musculares-óse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pausia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pileps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edimento Visu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steoporosis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de Convulsiones / Ataqu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 en la frecuencia de ataques, aumento o disminu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acumulativos por el uso de medicamentos durante un tiempo prolong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baja densidad de los huesos, y aumento de heridas y caídas debido a los ataques pueden resultar en fractur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tiempo de vida que en el pas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rápido envejecimiento a nivel celular afecta todos los sistemas del cuerpo. El envejecimiento sucede en forma tempra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del sistema inmu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problemas de tiroides, generalmente hipotiroid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visuales y auditivos tempranos debido al envejec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incidentes de apnea del sueñ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obrepeso, especialmente aquellos que viven con sus familiar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uchos nacen con anormalidade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Luego de unos años, aumenta el riesgo de enfermedad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 de articulaciones del cuello, rodilla, y cadera, y es muy probable la presencia de juane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el reseca, infección por presencia de hongos en las uñ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Baja densidad de los huesos y riesgo temprano de osteopo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riesgo de arterioescle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estabilidad Atlanto-axial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Inestabilidad de la columna vertebral, aproximadamente un 14%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uede comprimir el nervio, causando dolor de cuello, mala postura, pérdida de fuerza en la parte superior del cuerpo, reflejos neurológicos anormales, y cambios en la evacuación del intestino y vejiga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Tratamiento controversial. Pregúntale a tu doctor.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Efectos en la Salud Durante el Proceso de Envejecimiento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ceso normal de envejecimient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ección de estilo de vid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genétic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el riesgo de Demencia Alzheim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temprana de Demencia Alzheim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 presenta mas pronto que en la población gener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vanza con mayor rapidez?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No es claro cuantos han sido afectad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causar la presencia de nuevos problemas de ataqu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es Demenc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cerebra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con la memoria y raz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compañada de confus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 para usar información alguna vez aprendi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es básicas para pensar y entende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más puede causar este comportamiento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édicos; anemia, presión alta, tumor cerebral, problema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fectos secundarios de las medicin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visuales o auditiv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etabólicos; diabetes o mala función de la tiroi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buso de alcohol u otra substa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afectivos; delirio o depre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iciencia de vitaminas; B12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gistrando las Funciones Normal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un examen común / estandar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cer registros periódicos, antes de que empiece un problem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cluir una grabación de video de la capacidad de las funciones de l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da cierto tiempo comparar el camb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yecto PCAD (ver muestra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cibir Evaluación Médi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r exámenes y análisis extensivos para descartar posibles causas de comportamientos o síntom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gistrar el decaimiento progresivo desde el estado normal del pac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diante el proceso de eliminación y patrones característicos del problema, obtener un diagnóstico probabl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Tipos de Demenc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Alzheimer (AD o DA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gradual con etapas de grave aument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Múltiples Infartos (MID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segundo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Varios infartos pequeños relacionados con problemas del corazón y presión al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presentarse en forma repentin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tipos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tapas de la Demencia de Alzheim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305920" cy="45464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3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eve</a:t>
                      </a: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	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inici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ón y pérdida de memoria</a:t>
                      </a:r>
                      <a:r>
                        <a:rPr b="0" lang="es-ES_tradnl" sz="2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sorientado en el luga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con tareas rutinaria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ambios en personalidad y raz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d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media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con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siedad, paranoia, agitaci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para dormi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reconociendo personas familiare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fin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l habl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peso, apetito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control del intestino y vejig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pendencia total en otros</a:t>
                      </a: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lases de Servici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vejecer en un mismo lugar; se adapta de acuerdo a las necesidades, habilidades y cambios de comportamiento del cl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s específicamente para casos de demencia; personal y lugar especial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ferencias, generalmente para instituciones de cuidado a largo plazo u otros programas genéricos de la comunida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ferenc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artes de esta presentación fueron adaptadas de: Factor, A.R. (1997). </a:t>
            </a:r>
            <a:r>
              <a:rPr b="0" i="1" lang="es-ES_tradnl" sz="2400" spc="-1" strike="noStrike">
                <a:solidFill>
                  <a:srgbClr val="eae8e2"/>
                </a:solidFill>
                <a:latin typeface="Arial Narrow"/>
              </a:rPr>
              <a:t>Envejeciendo con Discapacidades Generadas en la Niñez: Cambios  Cognitivos y Físicos y sus Implicaciones</a:t>
            </a: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 Chicago: Centro de Entrenamiento e Investigación de Rehabilitación para la Vejez con Retardo Mental, Universidad de Illinois en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uchas más referencias en este sitio web:</a:t>
            </a: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poyo Durante el Proceso de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Es necesario documentar el nivel actual de las funciones corporale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Considera una evaluación PCAD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Reconocimiento de cambios que requieren atención, especialmente en pacientes que no puedan comunicarse verbalmente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Ejemplo: demencia vs. problemas que pueden recibir tratamiento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 para permanecer en el mismo lugar, o en un lugar de cuidado alternativo durante la vejez</a:t>
            </a:r>
            <a:r>
              <a:rPr b="0" lang="en-US" sz="26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ear para los últimos día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Cuidado para los últimos días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en la Visión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de precisión (enfoqu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al definir distancias (lejos o cerc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transmisión de luz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os en percepción de color (verdes, azules, violeta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adaptación en la oscurida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enor capacidad para adaptarse al brill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l campo visu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fermedades de los Oj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Ojos secos – picazón, irritación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Blefaritis – inflamación de los párpados, la persona puede rascarse demasiado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Degeneración macular debido a la edad (ARMD)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Cataratas – la visión se nubla en forma gradual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Retinopatía diabética – daño a la retina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Glaucoma – se empieza con visión de túnel,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Keratoconus – enfermedad de la superficie del ojo (cornea). Más común en personas con el Síndrome de Down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yuda para la Visi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de los ojos para tratar problemas sin síntomas o síntomas sin explica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uscar una explicación profesional del problema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odifica tu ambient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Usa colores de alto contraste, luz y superficies que no tengan reflejo, letras grande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Rojo, naranja, amarillo mejor que azules, verdes, violeta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Aumentar la cantidad de luz, usar luz durante la noch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Organizar las pertenencias y mantener una ubicación constant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antener limpios los anteojos y evitar rayon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Auditivos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y fibras nerviosas auditiv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cantidad de sangre hacia el área de transmisión del nervio auditiv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grosamiento del tímpan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o de cera en el oí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auditiva de sonidos de alta frecuencia (Presbycusis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sminución de la discriminación de tonos, localiza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watsonkc</cp:lastModifiedBy>
  <dcterms:modified xsi:type="dcterms:W3CDTF">2005-06-30T15:44:09Z</dcterms:modified>
  <cp:revision>40</cp:revision>
  <dc:subject/>
  <dc:title>Supporting People with Developmental Disabilities During the Aging Process </dc:title>
</cp:coreProperties>
</file>