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04560" y="70488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91828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891828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C6244D8-89F3-4021-A688-DED186B4F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ed taste-may over season food or lose appetite-watch for increased use of s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may be more susceptible to injury and dental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more nosebl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tures may irritate or n o longer 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ot be able to smell – safety, food odors, body odor, fragrance use, smoke,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dental and mouth ex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 to safety and hygiene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s of warmth, overheating , drying of skin (hygiene), fluid intake, sun damage, burns, easy damage and poor hea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ntinence of u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s more difficult to cl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feel like uncomfortable pressure, squeezing, fullness, or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often have discomfort in places other than the chest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 sh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function requires directional, coordinated muscular mov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eopo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tructive sleep ap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zure free for one year or more should be weaned off drugs in case there is no more seizure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ay require increase or change in drugs to respond to change in seizure type or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increases in early childhood survival   related to heart surgery, general health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institutionalization led to fewer communicable dis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chromosome 21 means extra proteins it codes for; one is superoxide dismutase—leads to increased production of reactive oxidative species (free radicals), defective repair of oxidative damage to DNA;  increased rate of programmed cell death (apoptosis); increased CV disease, leukemia, immune deficiency, increased frequency of osteoporosis, especially in males; increased prevalence of thyroi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anti-oxidants to decrease free radicals (eg melato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: dry eyes, blepharitis, kerataco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risk for eye related disorders and age related eye diseases occur earlier for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robably has mos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ree are inter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change genetic, but we can modify the environment and lifestyle behav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onset usually begins about age 50 –age 40 for 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course usually lasts up to 20 years—8 for 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eyes and blepharitis less serious, but rubbing of eyes can lead to keratoco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MD-leads to central blind s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racts lead to opaque lens, can be corrected with sur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betic retinopathy leads to vision loss up to total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ma, asymptomatic, may lead to gradual loss of peripheral vision and total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atoconus disease of cornea; an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background noise and commot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ing ex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ak lower tones,  face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ing loss leads to  social isolation and emotional conc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D1B-90A5-474C-A721-FB6DD506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5CF-24D4-4C21-8C7B-0B394561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12C-979D-4258-831B-FC86D00E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57B-8259-4BC0-A3F3-48166328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A76E-A8D8-4B37-BCCB-36EDB373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0CD6-28CC-4A37-8189-B85FB341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5214-A161-4017-9700-E5F9C827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D683-C3B4-4D45-A7CA-8ACF4D43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97F1-3B29-495C-B286-16E98307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B63D-08F7-424C-94CE-60AB6B4E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F967-0FB7-4377-B47E-50AD25A3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BB03-398A-47C7-8332-17B1A447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C14E-EEF6-461B-BA2E-93D734D9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35DC-3FE1-4DA6-B997-B060C984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3550-0DC8-4E9E-8437-8B2296B8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0EA0-3955-47CC-BB60-3B723DD3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04B8-AE9D-4C11-ADA2-4A64B0BB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F20-C1DC-4D98-9AC2-DD362E3E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D395-8B6A-4A26-9D15-41B8EF46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1A4-F1DE-498E-9FAB-EAF70C32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BEA5-8822-4774-9D20-4E38B886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3AF-CFA7-45A8-9725-80F3201B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C5D1-B2CB-487E-98BF-997A6C93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A84D-1443-42E2-B1C2-5D43D975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0C8B-6838-4590-A4E7-E3F80DF1A49C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F77B-119C-4F9F-A97F-C535E507974D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362320"/>
            <a:ext cx="74678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dbc03"/>
                </a:solidFill>
                <a:latin typeface="Impact"/>
              </a:rPr>
              <a:t>Apoyo Durante el Proceso de Envejecimiento de Personas con Discapacidades Generadas en la Niñez</a:t>
            </a:r>
            <a:r>
              <a:rPr b="0" lang="es-ES_tradnl" sz="44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160" y="426672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osibles Síntoma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Ver la TV con volumen demasiado alt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Hablar en voz alt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spuestas inapropiadas a las pregunt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Confusión en lugares de mucho ruid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islamient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Comportamiento dañino hacia la misma person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strategias de Apoyo para Escuchar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visiones regulares con un profesional en el campo auditivo, para revisar cera en el oído, enfermedades, pérdida auditiv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Si se requiere, equipo de ayuda auditiv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Hablar lento, en tonos bajos, en forma clar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ducir el ruido ambienta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Hablar a la persona de frente, con la luz dirigida hacia tu cara, no en tu espald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Mantener las baterías del equipo auditivo listas, y el equipo auditivo limpio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blemas en la Boca Durante el Envejecimient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Glándulas del sabor empiezan a bajar su funció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Las encías se recoge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l esmalte dental se adelgaz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Anormalidades y Enfermedades en la Boc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Falta de saliva por medicamentos o enfermedade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Caries dentale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Abscesos y caries que llegan al nervio / raíz de los diente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Enfermedad en las encías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Lesiones, especialmente con dentadura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Infección de las membranas mucosa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Cánceres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strategias de Soporte</a:t>
            </a:r>
            <a:br>
              <a:rPr sz="4400"/>
            </a:b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Boca / Sabor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visiones dentales regulares y buena higiene oral, incluso si se carece de dient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Uso de hilo dental o cepillo proxi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Considera el uso de cepillos que funcionan con batería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njuague bucal sin alcoho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ide a tu dentista que te recete un enjuague bucal para eliminar bacterias e infecciones (chlorhexidine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umenta el uso de condimentos, con excepción de la sa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iel / Tact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glándulas sudoríparas, grasa subcutánea, flujo sanguíneo, elasticidad, grosor de la piel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erdida de pigment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la producción de células para la piel y crecimiento de cabell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Cambios en la matriz de las uñ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la sensibilidad al tacto, dolor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teger la Pie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ducir al máximo el uso de jabón y enjuagar bie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Secarla por completo y usar humectant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Si no se tiene mucha movilidad, cambiar de posición frecuentement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visar constantemente la piel en búsqueda de problema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Colocar señales para agua fría y caliente, y revisar la temperatura del agu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umento de riesgo con Síndrome de Down, inmovilidad, mala nutrici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Usar protección contra el so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nvejecimiento del Sistema Gástrico-Intestina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la necesidad de calorías por cada décad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enor cantidad de jugos gástricos puede llevar al aumento de indigestión y úlcer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la actividad muscular, vaciado y digestión mas lent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enor absorción de nutrient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strategia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omover la eliminación mediante fluidos, fibras y actividad físic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star alertas al estreñimiento – mantener un registro de deposici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Ingerir las comidas en forma lenta, de pequeñas porciones y con mas frecuenci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vitar consumo de calorías si existe tendencia al aumento de peso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umentar la cantidad de calorías si existe tendencia a la pérdida de peso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Urinario y Reproductiv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384280"/>
            <a:ext cx="7772400" cy="34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l tono muscular y capacidad de la vejig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Los riñones son menos eficient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n los varones, es muy común el aumento del tamaño de la próstat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lajamiento de los músculos pélvico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fectos por la reducción de las hormon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925040" cy="556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bc03"/>
                </a:solidFill>
                <a:latin typeface="Impact"/>
              </a:rPr>
              <a:t>Elaborado en colaboración y con fondos de: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dbc03"/>
                </a:solidFill>
                <a:latin typeface="Impact"/>
              </a:rPr>
              <a:t>El Concilio de Washington para Discapacidades Generadas en la Niñez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dbc03"/>
                </a:solidFill>
                <a:latin typeface="Impact"/>
              </a:rPr>
              <a:t>El Centro para el Desarrollo Humano y Discapacidades de la Universidad de Washington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dbc03"/>
                </a:solidFill>
                <a:latin typeface="Impact"/>
              </a:rPr>
              <a:t>Centro del Noroeste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dbc03"/>
                </a:solidFill>
                <a:latin typeface="Impact"/>
              </a:rPr>
              <a:t>Y la División del Estado De Washington de Discapacidades Generadas en la Niñez.</a:t>
            </a:r>
            <a:endParaRPr b="0" lang="en-US" sz="2800" spc="-1" strike="noStrike">
              <a:solidFill>
                <a:srgbClr val="fdbc03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strategias de Soporte para el Sistema Urinario y Reproductiv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Prestar atención a patrones de evacuación – aumento o reducción en la frecuencia, cambios en la continencia. 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Prestar atención a síntomas de infección – frecuencia, urgencia, accidentes, incomodidad, olor inusual, color o sangrado. Es posible que no se presente fiebre o síntomas generales de una infección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Exámenes regulare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Costumbre de buena higiene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55640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tegiendo el Corazó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848016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alizar ejercicio moderado en forma regula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Bajar el ritmo de las actividad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star alerta a señales de reducción de resistencia – mareo, confusi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Cambiar lentamente la posición para prevenir mareo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ducir o dejar de fuma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ietas saludables, bajas en sodio. Revisión de presión sanguíne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ducir grasas de los alimento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prender señales y síntomas de un ataque cardíaco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eñales de un Ataque Cardíac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olestia en el pecho que dura más de unos minutos, o se pierde y regres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olestia en otras áreas superiores del cuerpo, incluyendo uno o dos brazos, cuello, quijada, espalda, estómag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Falta de respiración, con o sin molestias al pech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Otros síntomas: nausea, mareo, sudores fríos, cambio de color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ulmones – Sistema Respiratori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Los pulmones son menos elásticos, con menos capacidad de recibir oxigen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La respiración es menos eficiente, disminuye la tolerancia para el ejercici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isminuye el reflejo de la to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cilios que alinean la zona respiratori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tegiendo los Pulmon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56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vita fumar y convertirte en fumador indirecto (second-hand smoke)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aliza actividades físicas que estimulen la respiración profund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ersonas con dificultad, bajar el ritmo de la actividad y permitir descanso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Inmunizaciones / vacunas contra enfermedades del pulmón (neumonía y gripe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estar atención a signos de infección (mucha tos, falta de respiración, secreción con color, confusión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tegiendo los Pulmones (continuación)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estar atención a síntomas de reflujo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SzPct val="12489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Indigestión, molestias luego de las comidas, o en la noche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SzPct val="12489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Dificultad o dolor al tragar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SzPct val="12489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Exceso de saliva cuando no se está comiend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SzPct val="12489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Tos durante la noche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istema Nervios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Pérdida de células nerviosas y fibras, con disminución de conducción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Reducción del flujo sanguíneo y oxígeno al cerebr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Menor etapa REM de sueñ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Respuesta alterada al dolor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Reducción del sentido del equilibrio debido a la pérdida de células de cabello en el oído medi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Movimientos lentos y menor sensibilidad llevan a  reacciones tardías y reducción de las respuestas de protección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Comportamiento y Cognitiv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Inteligencia, habilidad para aprender, no cambian necesariament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ayor dificultad procesando y organizando nueva información, y recuperando información antigu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nfermedades mentales prevalecen más en aquellas personas con I/DD que en la población en general; depresión es muy comú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Cambios Musculares-Óseos debido al Envejecimient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isminución de la masa muscular, fortaleza y tono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isminución de la movilidad de las articulacion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umento de la porosidad y fragilidad de los hueso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la columna vertebra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ayor riesgo de artriti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tegiendo el Sistema Muscular-Óse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stimular el movimiento y cuidado independient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mover el ejercicio regular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Implementar seguridades para prevenir caíd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mover el uso seguro de equipo de ayuda para movimient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Usar asientos cómodos, firmes, y no muy profundo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eguntar al doctor sobre suplementos de calcio y vitamina D, ejercicios para el peso, terapia para reemplazar las hormon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ersonal del Proyect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haran Brown, JD, EdD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i="1" lang="es-ES_tradnl" sz="2800" spc="-1" strike="noStrike">
                <a:solidFill>
                  <a:srgbClr val="eae8e2"/>
                </a:solidFill>
                <a:latin typeface="Arial Narrow"/>
              </a:rPr>
              <a:t>Investigador Principa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Kathleen Watson, PhD, RN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i="1" lang="es-ES_tradnl" sz="2800" spc="-1" strike="noStrike">
                <a:solidFill>
                  <a:srgbClr val="eae8e2"/>
                </a:solidFill>
                <a:latin typeface="Arial Narrow"/>
              </a:rPr>
              <a:t>Directora del Proyecto/Instructora y Madre de Familia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sther Moloney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i="1" lang="es-ES_tradnl" sz="2800" spc="-1" strike="noStrike">
                <a:solidFill>
                  <a:srgbClr val="eae8e2"/>
                </a:solidFill>
                <a:latin typeface="Arial Narrow"/>
              </a:rPr>
              <a:t>Asistente del Proyecto y Madre de Familia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arálisis Cerebra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isminución del tiempo de vida de acuerdo al grado de severidad de la condició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Tono muscular anorma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olor muscular y de articulacion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eformaciones de la espalda y cadera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eterioramiento de la función de la vejiga e intestino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Cirugías ortopédica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arálisis Cerebra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ovimiento anormal de la comida a través de la garganta y estomago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isfagia, forma anormal de tragar alimento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flujo del ácido estomacal a la garganta (GERD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esalojo del estómago en forma lent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Todos contribuyen a la erosión dental, irritación del esófago, anemia, problemas alimenticios, aspiración y neumonía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arálisis Cerebra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ovimiento anormal de la comida a través del intestino grueso y delgado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lto grado de estreñimiento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umenta el riesgo de muerte por obstrucción y perforación intestina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arálisis Cerebra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Empeoran los problemas de alimentación y digestión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Empeora el deterioro y dolor de articulacione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Debido a los problemas anteriores, la respiración se complica. Se dificulta el habla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Susceptibilidad a heridas debido a la inmovilidad y adelgazamiento de la piel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Aumenta el riesgo de osteoporosis debido a problemas alimenticios, movimiento limitado y uso de medicamentos</a:t>
            </a: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índrome Prader-Willi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Hipogonadismo - bajos niveles hormonal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lto riesgo de osteoporosi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blemas relacionados con obesidad sin contro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Cardiovascula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iabet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índrome de X Frágil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umenta la velocidad de prolapsos de la válvula mitra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esórdenes musculares-óseo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enopausia tempran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pilepsi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Impedimento Visua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Osteoporosis tempran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blemas de Convulsiones / Ataqu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Cambio en la frecuencia de ataques, aumento o disminució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fectos acumulativos por el uso de medicamentos durante un tiempo prolongado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La baja densidad de los huesos, y aumento de heridas y caídas debido a los ataques pueden resultar en fractura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índrome de Dow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ayor tiempo de vida que en el pasado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l rápido envejecimiento a nivel celular afecta todos los sistemas del cuerpo. El envejecimiento sucede en forma tempran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ala función del sistema inmun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ayor riesgo de problemas de tiroides, generalmente hipotiroide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blemas visuales y auditivos tempranos debido al envejecimient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índrome de Dow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umento de incidentes de apnea del sueño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Sobrepeso, especialmente aquellos que viven con sus familiar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Muchos nacen con anormalidades del coraz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Luego de unos años, aumenta el riesgo de enfermedad de válvulas del coraz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oblema de articulaciones del cuello, rodilla, y cadera, y es muy probable la presencia de juanet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iel reseca, infección por presencia de hongos en las uña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índrome de Dow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Baja densidad de los huesos y riesgo temprano de osteoporosi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Menor riesgo de arterioesclerosi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Inestabilidad Atlanto-axial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Inestabilidad de la columna vertebral, aproximadamente un 14%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Puede comprimir el nervio, causando dolor de cuello, mala postura, pérdida de fuerza en la parte superior del cuerpo, reflejos neurológicos anormales, y cambios en la evacuación del intestino y vejiga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Tratamiento controversial. Pregúntale a tu doctor.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dbc03"/>
                </a:solidFill>
                <a:latin typeface="Impact"/>
              </a:rPr>
              <a:t>Efectos en la Salud Durante el Proceso de Envejecimiento</a:t>
            </a:r>
            <a:endParaRPr b="0" lang="en-US" sz="4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281916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ceso normal de envejecimiento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lección de estilo de vid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fectos genético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mbient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2679480" cy="3308400"/>
          </a:xfrm>
          <a:prstGeom prst="rect">
            <a:avLst/>
          </a:prstGeom>
          <a:ln w="9360">
            <a:solidFill>
              <a:srgbClr val="eae8e2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448920" y="0"/>
            <a:ext cx="1412640" cy="1800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9524880" y="2209680"/>
            <a:ext cx="1346400" cy="180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9601200" y="4191120"/>
            <a:ext cx="12780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índrome de Dow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umenta el riesgo de Demencia Alzheimer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esencia temprana de Demencia Alzheime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Se presenta mas pronto que en la población genera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vanza con mayor rapidez?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No es claro cuantos han sido afectado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uede causar la presencia de nuevos problemas de ataqu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Qué es Demencia?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ala función cerebral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blemas con la memoria y razó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compañada de confusió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érdida de habilidad para usar información alguna vez aprendid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érdida de habilidades básicas para pensar y entender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Qué más puede causar este comportamiento?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oblemas médicos; anemia, presión alta, tumor cerebral, problema de válvulas del coraz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fectos secundarios de las medicina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oblemas visuales o auditivo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oblemas metabólicos; diabetes o mala función de la tiroid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buso de alcohol u otra substanci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oblemas afectivos; delirio o depresi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eficiencia de vitaminas; B12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Registrando las Funciones Normal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Usar un examen común / estandarizad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Hacer registros periódicos, antes de que empiece un problem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Incluir una grabación de video de la capacidad de las funciones de la person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Cada cierto tiempo comparar el cambi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yecto PCAD (ver muestra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Recibir Evaluación Médic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alizar exámenes y análisis extensivos para descartar posibles causas de comportamientos o síntom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gistrar el decaimiento progresivo desde el estado normal del pacient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ediante el proceso de eliminación y patrones característicos del problema, obtener un diagnóstico probabl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Tipos de Demenci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emencia de Alzheimer (AD o DAT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l tipo de demencia más comú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esencia gradual con etapas de grave aumento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emencia de Múltiples Infartos (MID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l segundo tipo de demencia más comú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Varios infartos pequeños relacionados con problemas del corazón y presión alt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uede presentarse en forma repentin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Otros tipos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tapas de la Demencia de Alzheimer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600200"/>
          <a:ext cx="8305920" cy="454644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13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eve</a:t>
                      </a: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	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etapa inicial)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Confusión y pérdida de memoria</a:t>
                      </a:r>
                      <a:r>
                        <a:rPr b="0" lang="es-ES_tradnl" sz="2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.</a:t>
                      </a:r>
                      <a:endParaRPr b="0" lang="en-US" sz="2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esorientado en el lugar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roblemas con tareas rutinarias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Cambios en personalidad y razón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Moderado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etapa media)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ificultad con ADL’s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nsiedad, paranoia, agitación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roblemas para dormir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ificultad reconociendo personas familiares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Severo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etapa final)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érdida del habla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érdida de peso, apetito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érdida de control del intestino y vejiga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ependencia total en otros</a:t>
                      </a: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Clases de Servicio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nvejecer en un mismo lugar; se adapta de acuerdo a las necesidades, habilidades y cambios de comportamiento del client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mbientes específicamente para casos de demencia; personal y lugar especializad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ferencias, generalmente para instituciones de cuidado a largo plazo u otros programas genéricos de la comunida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Referencia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Partes de esta presentación fueron adaptadas de: Factor, A.R. (1997). </a:t>
            </a:r>
            <a:r>
              <a:rPr b="0" i="1" lang="es-ES_tradnl" sz="2400" spc="-1" strike="noStrike">
                <a:solidFill>
                  <a:srgbClr val="eae8e2"/>
                </a:solidFill>
                <a:latin typeface="Arial Narrow"/>
              </a:rPr>
              <a:t>Envejeciendo con Discapacidades Generadas en la Niñez: Cambios  Cognitivos y Físicos y sus Implicaciones</a:t>
            </a: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. Chicago: Centro de Entrenamiento e Investigación de Rehabilitación para la Vejez con Retardo Mental, Universidad de Illinois en Chicago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Muchas más referencias en este sitio web:</a:t>
            </a: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http://www.uic.edu/orgs/rrtcamr/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Apoyo Durante el Proceso de Envejecimient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eae8e2"/>
                </a:solidFill>
                <a:latin typeface="Arial Narrow"/>
              </a:rPr>
              <a:t>Es necesario documentar el nivel actual de las funciones corporales.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SzPct val="17028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8e2"/>
                </a:solidFill>
                <a:latin typeface="Arial Narrow"/>
              </a:rPr>
              <a:t>Considera una evaluación PCAD</a:t>
            </a:r>
            <a:endParaRPr b="0" lang="en-US" sz="22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eae8e2"/>
                </a:solidFill>
                <a:latin typeface="Arial Narrow"/>
              </a:rPr>
              <a:t>Reconocimiento de cambios que requieren atención, especialmente en pacientes que no puedan comunicarse verbalmente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SzPct val="1702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8e2"/>
                </a:solidFill>
                <a:latin typeface="Arial Narrow"/>
              </a:rPr>
              <a:t>Ejemplo: demencia vs. problemas que pueden recibir tratamiento</a:t>
            </a:r>
            <a:endParaRPr b="0" lang="en-US" sz="22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eae8e2"/>
                </a:solidFill>
                <a:latin typeface="Arial Narrow"/>
              </a:rPr>
              <a:t>Plan para permanecer en el mismo lugar, o en un lugar de cuidado alternativo durante la vejez</a:t>
            </a:r>
            <a:r>
              <a:rPr b="0" lang="en-US" sz="26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eae8e2"/>
                </a:solidFill>
                <a:latin typeface="Arial Narrow"/>
              </a:rPr>
              <a:t>Planear para los últimos días.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eae8e2"/>
                </a:solidFill>
                <a:latin typeface="Arial Narrow"/>
              </a:rPr>
              <a:t>Cuidado para los últimos días</a:t>
            </a: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Cambios en la Visión al Envejecer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érdida de precisión (enfoque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érdida al definir distancias (lejos o cerca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isminución de transmisión de luz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Cambios en percepción de color (verdes, azules, violetas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isminución de adaptación en la oscuridad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Menor capacidad para adaptarse al brillo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isminución del campo visua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nfermedades de los Ojo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Ojos secos – picazón, irritación.</a:t>
            </a:r>
            <a:endParaRPr b="0" lang="en-US" sz="27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Blefaritis – inflamación de los párpados, la persona puede rascarse demasiado.</a:t>
            </a:r>
            <a:endParaRPr b="0" lang="en-US" sz="27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Degeneración macular debido a la edad (ARMD).</a:t>
            </a:r>
            <a:endParaRPr b="0" lang="en-US" sz="27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Cataratas – la visión se nubla en forma gradual.</a:t>
            </a:r>
            <a:endParaRPr b="0" lang="en-US" sz="27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Retinopatía diabética – daño a la retina llegando a la ceguera.</a:t>
            </a:r>
            <a:endParaRPr b="0" lang="en-US" sz="27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Glaucoma – se empieza con visión de túnel, llegando a la ceguera.</a:t>
            </a:r>
            <a:endParaRPr b="0" lang="en-US" sz="27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Keratoconus – enfermedad de la superficie del ojo (cornea). Más común en personas con el Síndrome de Down</a:t>
            </a: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strategias de Ayuda para la Visió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visiones regulares de los ojos para tratar problemas sin síntomas o síntomas sin explicaci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Buscar una explicación profesional del problema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Modifica tu ambiente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Usa colores de alto contraste, luz y superficies que no tengan reflejo, letras grandes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Rojo, naranja, amarillo mejor que azules, verdes, violetas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Aumentar la cantidad de luz, usar luz durante la noch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Organizar las pertenencias y mantener una ubicación constant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Mantener limpios los anteojos y evitar rayone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Cambios Auditivos al Envejecer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Pérdida de células y fibras nerviosas auditivas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Menor cantidad de sangre hacia el área de transmisión del nervio auditiv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Engrosamiento del tímpan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Aumento de cera en el oíd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Pérdida auditiva de sonidos de alta frecuencia (Presbycusis)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Disminución de la discriminación de tonos, localización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5:51:13Z</dcterms:created>
  <dc:creator>Kathleen Clotfelter Watson</dc:creator>
  <dc:description/>
  <dc:language>en-US</dc:language>
  <cp:lastModifiedBy>watsonkc</cp:lastModifiedBy>
  <dcterms:modified xsi:type="dcterms:W3CDTF">2005-06-30T15:44:09Z</dcterms:modified>
  <cp:revision>40</cp:revision>
  <dc:subject/>
  <dc:title>Supporting People with Developmental Disabilities During the Aging Process </dc:title>
</cp:coreProperties>
</file>