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102800" cy="9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800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024440" y="-360"/>
            <a:ext cx="307800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204560" y="704880"/>
            <a:ext cx="4692600" cy="35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8918280"/>
            <a:ext cx="307800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024440" y="8918280"/>
            <a:ext cx="307800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C0F8C9E-5874-4486-AB0A-CD73CCDCE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eyes and blepharitis less serious, but rubbing of eyes can lead to keratoco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MD-leads to central blind sp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racts lead to opaque lens, can be corrected with surg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betic retinopathy leads to vision loss up to total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ucoma, asymptomatic, may lead to gradual loss of peripheral vision and total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ratoconus disease of cornea; any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ing peripheral vision allows safety in moving around familiar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 background noise and commoth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ing exa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ak lower tones,  face per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ing loss leads to  social isolation and emotional conc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ed taste-may over season food or lose appetite-watch for increased use of sa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 may be more susceptible to injury and dental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be more nosebl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tures may irritate or n o longer f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not be able to smell – safety, food odors, body odor, fragrance use, smoke, g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dental and mouth ex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tion to safety and hygiene 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sues of warmth, overheating , drying of skin (hygiene), fluid intake, sun damage, burns, easy damage and poor hea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ntinence of ur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tions more difficult to cl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feel like uncomfortable pressure, squeezing, fullness, or p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often have discomfort in places other than the chest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u sh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probably has most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ree are intera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’t change genetic, but we can modify the environment and lifestyle behav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increases in early childhood survival   related to heart surgery, general health manag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institutionalization led to fewer communicable dis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 chromosome 21 means extra proteins it codes for; one is superoxide dismutase—leads to increased production of reactive oxidative species (free radicals), defective repair of oxidative damage to DNA;  increased rate of programmed cell death (apoptosis); increased CV disease, leukemia, immune deficiency, increased frequency of osteoporosis, especially in males; increased prevalence of thyroid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anti-oxidants to decrease free radicals (eg melaton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onset usually begins about age 50 –age 40 for 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 course usually lasts up to 20 years—8 for 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s: dry eyes, blepharitis, kerataco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er risk for eye related disorders and age related eye diseases occur earlier for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function requires directional, coordinated muscular mov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teopor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tructive sleep ap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zure free for one year or more should be weaned off drugs in case there is no more seizure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ay require increase or change in drugs to respond to change in seizure type or frequ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E2D0-DE82-4308-904B-EB6F7A05A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33F1-108D-45AD-9D00-EFF97BF3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4001-FD07-425C-B59E-936305888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6A25-DB85-460A-9B5D-9E2EC2D66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FBA3-EDF9-4057-A8FA-015363474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0FA6-AA0C-4B56-94BF-87DBB3BA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46DC-BECB-4F0C-922F-E6BB83DE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A148-6CF3-4DC8-8BEE-7A9549C4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2A59-99B8-40C2-8973-21E87F1D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F142-9429-40FB-ACBD-155188B7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058F-EB8B-4661-A3AE-ECBB4365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4966-FE25-48AB-AF3B-24C5638D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2193-87C0-4EF4-8CF0-594D2AC8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7A35-1C25-47B5-8774-88144158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B2F4-5D00-43EC-BF22-070C3D4A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F1C6-4625-49CC-80AB-66316A5D4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78AC-9E19-4B18-828D-475FBAAB6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8928-3702-4667-8697-73BEE11B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A4AF-1D36-4035-95C3-F31E80EC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8730-525D-4488-92CC-7AFCAA7F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B7AA-6D14-41CB-86AB-8EFB537B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8413-BD9D-418C-AED8-85E94FC0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71C7-6D0D-481B-80B7-6A453D8A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7F99-1FF3-4D88-8EDA-40036A59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3" name="URBBANND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5CD1-D0E6-47F9-BBE2-4DBF6876FC6A}" type="slidenum"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48" name="URBBANND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F557-9E38-4C15-8E53-706B16A21B0B}" type="slidenum"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362320"/>
            <a:ext cx="746784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bc03"/>
                </a:solidFill>
                <a:latin typeface="Impact"/>
              </a:rPr>
              <a:t>Supporting People with Developmental Disabilities During the Aging Process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160" y="426672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Eye Disease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ry eyes - scratchy, irritated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Blepharitis - red, itchy lids, person may rub too much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ge-related macular degeneration (ARMD)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Cataracts -  gradual clouding of len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iabetic retinopathy -damage to retina leading to blindnes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Glaucoma – gradual tunnel vision, then blindnes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Keratoconus – disease of eye surface (cornea). More common in persons with Down Syndrome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Types of Vision Los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Loss of central vision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SzPct val="1170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Blind spot for central field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SzPct val="1170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Unable to see faces, read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Loss of acuity or clarity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SzPct val="1170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aused by macular disease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Types of Vision Loss (cont’d)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Loss of peripheral vision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From glaucoma or retinitis pigmentosa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ffects safe mobility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iffuse loss across visual field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From diabetes, cataracts, keratoconu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Vision may fluctuate based on amount and direction of light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Support Strategies for Vision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Get regular eye exams to check for asymptomatic problems or unexplained symptoms.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Get professional explanation of the problem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Modify the environment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Use high contrast colors, non-glare lighting and surfaces, large print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Red, oranges, yellows better than blues, greens, violets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Provide increased lighting, use night lights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Organize belongings and keep locations consistent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Keep eyeglasses clean and prevent scratches. 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Support Strategies for Vision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Modify activities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Engage in daytime activitie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Provide support for night-time activitie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llow time to adjust to change of light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Protect the “good” eye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Hearing Changes of Aging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Loss of auditory nerve cells and fiber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eduction of blood supply to auditory nerve transmission area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ckening of eardrum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ncreased ear wax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Presbycusis (loss for high pitched speech sounds)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ed tone discrimination, localizatio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Types of Hearing Los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Conductive –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Problem with the physical conduct of sound through the ear structures. 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From earwax, infection, head trauma, damage to ear drum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nsori-neural –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Problem with the conduct of the sound signal through the nerve to the brain or the processing of the information in the brain. 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5601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From head trauma, drugs, diabetes, high blood pressure, heredity, kidney failure, coronary artery disease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Possible Symptom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urning TV up loud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peaking loudly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nappropriate response to question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onfusion in noisy situations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solating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lf injurious behavior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Support Strategies for Hearing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Get regular exams with a hearing professional to check for wax, disease, gradual hearing loss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Hearing aid if indicated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peak slower, with lower tones, clearly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educe background noise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When speaking, face person with light on your face, not behind you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Keep hearing aid batteries fresh and aid clea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Aging Effects on Mouth/Tast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8951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e in taste bud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ecession of gums,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nning of dental enam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925040" cy="556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Prepared and funded through collaboration between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dbc03"/>
                </a:solidFill>
                <a:latin typeface="Impact"/>
              </a:rPr>
              <a:t>The Developmental Disabilities Council </a:t>
            </a:r>
            <a:br>
              <a:rPr sz="2800"/>
            </a:br>
            <a:r>
              <a:rPr b="0" lang="en-US" sz="2800" spc="-1" strike="noStrike">
                <a:solidFill>
                  <a:srgbClr val="fdbc03"/>
                </a:solidFill>
                <a:latin typeface="Impact"/>
              </a:rPr>
              <a:t>of Washington,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dbc03"/>
                </a:solidFill>
                <a:latin typeface="Impact"/>
              </a:rPr>
              <a:t>The University of Washington </a:t>
            </a:r>
            <a:br>
              <a:rPr sz="2800"/>
            </a:br>
            <a:r>
              <a:rPr b="0" lang="en-US" sz="2800" spc="-1" strike="noStrike">
                <a:solidFill>
                  <a:srgbClr val="fdbc03"/>
                </a:solidFill>
                <a:latin typeface="Impact"/>
              </a:rPr>
              <a:t>Center on Human Development and Disability, </a:t>
            </a:r>
            <a:br>
              <a:rPr sz="2800"/>
            </a:br>
            <a:r>
              <a:rPr b="0" lang="en-US" sz="2800" spc="-1" strike="noStrike">
                <a:solidFill>
                  <a:srgbClr val="fdbc03"/>
                </a:solidFill>
                <a:latin typeface="Impact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dbc03"/>
                </a:solidFill>
                <a:latin typeface="Impact"/>
              </a:rPr>
              <a:t>Northwest Center,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dbc03"/>
                </a:solidFill>
                <a:latin typeface="Impact"/>
              </a:rPr>
              <a:t>and Washington State </a:t>
            </a:r>
            <a:br>
              <a:rPr sz="2800"/>
            </a:br>
            <a:r>
              <a:rPr b="0" lang="en-US" sz="2800" spc="-1" strike="noStrike">
                <a:solidFill>
                  <a:srgbClr val="fdbc03"/>
                </a:solidFill>
                <a:latin typeface="Impact"/>
              </a:rPr>
              <a:t>Division of Developmental Disabilities</a:t>
            </a:r>
            <a:endParaRPr b="0" lang="en-US" sz="2800" spc="-1" strike="noStrike">
              <a:solidFill>
                <a:srgbClr val="fdbc03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Abnormalities and Disease in Mouth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ed saliva from drugs or diseas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ntal cari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oot caries and abscess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Periodontitis (gum disease)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ores, especially with dentur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nfection of mucus membran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ancer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Support Strategies</a:t>
            </a:r>
            <a:br>
              <a:rPr sz="4400"/>
            </a:b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Mouth/Tast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egular dental checkups and good oral hygiene, even if no teeth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loss or use proxi-brush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onsider battery-powered toothbrush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lcohol-free mouth wash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sk dentist about chlorhexidine mouthwash to decrease bacteria and infections (prescription)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ncrease seasonings of food except salt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Nose/Smell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e in nerve fiber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rying of mucous membranes in nose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ed sensitivity to odor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Support Strategies for</a:t>
            </a:r>
            <a:br>
              <a:rPr sz="4400"/>
            </a:b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Nose/Smell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Use of smoke detectors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are if using propane stoves or water heater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iscarding food after recommended time, check for spoilage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ssist with awareness of body odor or over-use of fragranc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Skin/Touch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e sweat glands, subcutaneous fat, blood supply, elasticity, thickness of skin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Loss of pigmen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e skin cell production and hair growth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hanges in nail matrix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ed sensation of touch, pain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Protecting Skin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Minimize use of soap and rinse well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ry well and use moisturizer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Reposition frequently if mobility is limited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Check skin frequently for problem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Label hot and cold water and monitor water temperature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Increased risk with Down Syndrome, immobility, poor nutritio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Use sun protectio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Aging of the GI System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ing total calorie needs every decade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Less gastric juice may lead to increased indigestion and ulcer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ed saliva production may lead to more gum disease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ed smooth muscle tone, slower emptying and digestion, less absorption of nutrient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Strategie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Promote elimination through fluids, fiber and physical activity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Observe for constipatio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Encourage slower eating, smaller, more frequent meal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void empty calori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Urinary and Reproductive -</a:t>
            </a:r>
            <a:br>
              <a:rPr sz="4400"/>
            </a:b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Genitourinary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384280"/>
            <a:ext cx="7772400" cy="34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Bladder capacity and muscle tone decrease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Kidneys become less  efficien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Enlargement of prostate common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elaxation of pelvic muscle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Effects of decreased  hormone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Support Strategie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Observe for voiding patterns- increased or decreased frequency, changes in continence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Observe for signs of infection- frequency, urgency, accidents, discomfort, unusual odor, color or bleeding. There may be no fever or usual symptom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egular screening tests and examination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Good hygiene practices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Project Staff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haran Brown, JD, EdD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8e2"/>
                </a:solidFill>
                <a:latin typeface="Arial Narrow"/>
              </a:rPr>
              <a:t>	</a:t>
            </a:r>
            <a:r>
              <a:rPr b="0" i="1" lang="en-US" sz="2800" spc="-1" strike="noStrike">
                <a:solidFill>
                  <a:srgbClr val="eae8e2"/>
                </a:solidFill>
                <a:latin typeface="Arial Narrow"/>
              </a:rPr>
              <a:t>Principal Investigator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Kathleen Watson, PhD, RN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8e2"/>
                </a:solidFill>
                <a:latin typeface="Arial Narrow"/>
              </a:rPr>
              <a:t>	</a:t>
            </a:r>
            <a:r>
              <a:rPr b="0" i="1" lang="en-US" sz="2800" spc="-1" strike="noStrike">
                <a:solidFill>
                  <a:srgbClr val="eae8e2"/>
                </a:solidFill>
                <a:latin typeface="Arial Narrow"/>
              </a:rPr>
              <a:t>Project Director/Trainer and Parent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Esther Moloney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	</a:t>
            </a:r>
            <a:r>
              <a:rPr b="0" i="1" lang="en-US" sz="2800" spc="-1" strike="noStrike">
                <a:solidFill>
                  <a:srgbClr val="eae8e2"/>
                </a:solidFill>
                <a:latin typeface="Arial Narrow"/>
              </a:rPr>
              <a:t>Project Assistant and Parent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Heart and Blood Vessel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ecreased responsiveness to stress, leading to difficult breathing, fatigue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Heart rate decreases due to slower contraction of muscle fiber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low return to normal HR after elevatio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Build up of calcifications and fat in arterie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ecreased elasticity of arteries leads to heart needing to pump faster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556400" cy="95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Protecting the Hear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5760" y="1828440"/>
            <a:ext cx="848016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8e2"/>
                </a:solidFill>
                <a:latin typeface="Arial Narrow"/>
              </a:rPr>
              <a:t>Encourage regular, moderate exercise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8e2"/>
                </a:solidFill>
                <a:latin typeface="Arial Narrow"/>
              </a:rPr>
              <a:t>Slow the pace of activities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8e2"/>
                </a:solidFill>
                <a:latin typeface="Arial Narrow"/>
              </a:rPr>
              <a:t>Watch for signs of decreased endurance - distress, dizziness, confusion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8e2"/>
                </a:solidFill>
                <a:latin typeface="Arial Narrow"/>
              </a:rPr>
              <a:t>Change position slowly to prevent dizziness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8e2"/>
                </a:solidFill>
                <a:latin typeface="Arial Narrow"/>
              </a:rPr>
              <a:t>Reduce or stop cigarette smoking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8e2"/>
                </a:solidFill>
                <a:latin typeface="Arial Narrow"/>
              </a:rPr>
              <a:t>Healthy, low sodium diet, blood pressure checks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8e2"/>
                </a:solidFill>
                <a:latin typeface="Arial Narrow"/>
              </a:rPr>
              <a:t>Decrease fat and trans fatty acids from diet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8e2"/>
                </a:solidFill>
                <a:latin typeface="Arial Narrow"/>
              </a:rPr>
              <a:t>Learn signs and symptoms of a heart attack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Signs of a Heart Attack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Chest discomfort that lasts more than a few minutes or goes away and comes back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iscomfort in other areas of the upper body, including one or both arms, neck, jaw, back, stomach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hortness of breath with or without chest discomfort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Other symptoms: nausea, lightheadedness, breaking out in a cold sweat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Lungs - Pulmonary System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Lungs become less elastic, less able to take in oxygen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Breathing becomes less efficient, tolerance for exercise decrease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ed cough reflex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e in cilia lining respiratory tract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Protecting the Lung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56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8e2"/>
                </a:solidFill>
                <a:latin typeface="Arial Narrow"/>
              </a:rPr>
              <a:t>Avoid smoking and second-hand smoke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8e2"/>
                </a:solidFill>
                <a:latin typeface="Arial Narrow"/>
              </a:rPr>
              <a:t>Encourage deep breathing, physical activity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8e2"/>
                </a:solidFill>
                <a:latin typeface="Arial Narrow"/>
              </a:rPr>
              <a:t>For persons with difficulty, slow pace of activity, allow rest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8e2"/>
                </a:solidFill>
                <a:latin typeface="Arial Narrow"/>
              </a:rPr>
              <a:t>Help alleviate stress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8e2"/>
                </a:solidFill>
                <a:latin typeface="Arial Narrow"/>
              </a:rPr>
              <a:t>Proper diet and enough fluids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8e2"/>
                </a:solidFill>
                <a:latin typeface="Arial Narrow"/>
              </a:rPr>
              <a:t>Immunizations for lung diseases (flu and pneumonia)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8e2"/>
                </a:solidFill>
                <a:latin typeface="Arial Narrow"/>
              </a:rPr>
              <a:t>Watch for signs of infection (increased coughing, shortness of breath, colored sputum, increased confusion).</a:t>
            </a:r>
            <a:endParaRPr b="0" lang="en-US" sz="3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Protecting the Lungs (cont’d)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23619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Observe for signs of reflux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Heartburn, discomfort after meals or at night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ifficulty or painful swallow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wallowing or excessive salivation when not eating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Coughing during night.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Nervous System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Loss of nerve cells and fibers with decreased conductio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ed blood flow and oxygen to brai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Less REM stage of sleep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ltered pain response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Behavior and Cognitiv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ntelligence, ability to learn, don’t necessarily change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More difficulty processing, organizing new information, recalling old information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Mental illness  more prevalent in those with I/DD than in general population -depression most commo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Balance and </a:t>
            </a:r>
            <a:br>
              <a:rPr sz="4400"/>
            </a:b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Protective Response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880" y="29718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nse of balance decreases due to loss of hair cells in middle ear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low movement and less sensation lead to slower reaction time and decreased protective responses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Age-related Musculo-skeletal Change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28195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e in muscle mass, strength and tone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e in joint mobility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ncreased porosity and fragility of bone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hortening of the spinal cord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ncreased likelihood of developing arthriti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Effects on Health During the Aging Proces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2819160"/>
            <a:ext cx="40388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Normal aging proces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Lifestyle choice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Genetic effect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Environmen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105520" y="2438280"/>
            <a:ext cx="2679480" cy="3308400"/>
          </a:xfrm>
          <a:prstGeom prst="rect">
            <a:avLst/>
          </a:prstGeom>
          <a:ln w="9360">
            <a:solidFill>
              <a:srgbClr val="eae8e2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448920" y="0"/>
            <a:ext cx="1412640" cy="1800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9524880" y="2209680"/>
            <a:ext cx="1346400" cy="1800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9601200" y="4191120"/>
            <a:ext cx="127800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Protecting the</a:t>
            </a:r>
            <a:br>
              <a:rPr sz="4400"/>
            </a:b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Musculo-skeletal System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Encourage independent movement and self-care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Promote regular exercise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Implement safeguards to prevent fall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Promote safe use of mobility aid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Provide seating that is comfortable, firm, and not too deep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sk health care provider about calcium and vitamin D supplements, weight-bearing exercise, hormone replacement therapy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Down Syndrom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Longer lifespan than in the pas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More rapid aging at the cellular level-affects all body system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Normal aging processes occur earlier than in persons without Down syndrome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Poor function of immune system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Down Syndrom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ncreased incidence of Alzheimer’s Dementia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Early onset type of AD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Begins at earlier age than in general populatio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First noticed in daily function rather than memory los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Progresses more rapidly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ffects about 25% of DS populatio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May have new onset of seizure disorder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Down Syndrom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ry skin, more fungal infections of nail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ncreased incidence lifelong risk of thyroid dysfunction, usually hypothyroid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Earlier onset of visual and hearing problems of aging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ncreased incidence of sleep apnea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Overweight, especially those living with family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Down Syndrom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Joint problems of neck, knee, and hip and more likely to develop bunion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Lower peak bone density and earlier risk for osteoporosi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Many born with heart abnormaliti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ncreased risk of heart valve disease later in life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ed risk of atherosclerosi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Down Syndrom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tlanto-axial Instability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pinal column instability-about 14%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May compress cord leading to neck pain, poor posture and gait, loss of upper body strength, abnormal neurological reflexes and changes in bowel and bladder emptying.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Treatment controversial- ask health care provider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erebral Palsy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mount of decrease in life expectancy related to degree of severity of conditio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bnormal muscle tone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Muscular and joint pain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Hip and back deformitie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Worsening bowel and bladder function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Orthopedic surgeries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erebral Palsy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bnormal movement of food through the throat and stomach: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ysphagia (abnormal swallowing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Reflux of stomach acid into throat (GERD gastro-esophageal reflux disease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elayed emptying of the stomach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337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ll contribute to dental erosion, irritation of the esophagus, anemia, feeding problems, aspiration and pneumonia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erebral Palsy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bnormal movement  of food and waste through the small and large intestine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High incidence constipation, fecal impaction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Increased risk of death from bowel obstruction and intestinal perforation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erebral Palsy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eeding and digestion problems worse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Joint pain and deterioration worsen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Breathing difficulties worsened by above problems. Speaking more difficult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More susceptible to pressure sores due to decreased mobility and thinning of ski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Nutritional deficits, limited movement and medication usage increase risk of osteoporosi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Aging With a Developmental Disability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3429000"/>
            <a:ext cx="205740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 with 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ability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1752480"/>
            <a:ext cx="2210040" cy="838440"/>
          </a:xfrm>
          <a:prstGeom prst="rect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 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s of aging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4572000"/>
            <a:ext cx="2971800" cy="838080"/>
          </a:xfrm>
          <a:prstGeom prst="rect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attitudes about 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with disabilities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67280" y="4343400"/>
            <a:ext cx="1600200" cy="762120"/>
          </a:xfrm>
          <a:prstGeom prst="rect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style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s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1828800"/>
            <a:ext cx="2209680" cy="1143000"/>
          </a:xfrm>
          <a:prstGeom prst="rect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ed access to 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 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lth care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24480" y="2743200"/>
            <a:ext cx="2514600" cy="1143000"/>
          </a:xfrm>
          <a:prstGeom prst="rect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ck of knowledge 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ut aging for 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with DD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5105520"/>
            <a:ext cx="1981080" cy="1295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ased 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 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Life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3048120"/>
            <a:ext cx="2514600" cy="914400"/>
          </a:xfrm>
          <a:prstGeom prst="rect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dequate funding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health care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133720" y="4266720"/>
            <a:ext cx="1295280" cy="304920"/>
          </a:xfrm>
          <a:prstGeom prst="line">
            <a:avLst/>
          </a:prstGeom>
          <a:ln w="9360">
            <a:solidFill>
              <a:srgbClr val="eae8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3505320"/>
            <a:ext cx="457200" cy="228600"/>
          </a:xfrm>
          <a:prstGeom prst="line">
            <a:avLst/>
          </a:prstGeom>
          <a:ln w="9360">
            <a:solidFill>
              <a:srgbClr val="eae8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2666880"/>
            <a:ext cx="533160" cy="762120"/>
          </a:xfrm>
          <a:prstGeom prst="line">
            <a:avLst/>
          </a:prstGeom>
          <a:ln w="9360">
            <a:solidFill>
              <a:srgbClr val="eae8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800240" y="2971800"/>
            <a:ext cx="228600" cy="380880"/>
          </a:xfrm>
          <a:prstGeom prst="line">
            <a:avLst/>
          </a:prstGeom>
          <a:ln w="9360">
            <a:solidFill>
              <a:srgbClr val="eae8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486400" y="3048120"/>
            <a:ext cx="838080" cy="609480"/>
          </a:xfrm>
          <a:prstGeom prst="line">
            <a:avLst/>
          </a:prstGeom>
          <a:ln w="9360">
            <a:solidFill>
              <a:srgbClr val="eae8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5486040" y="4267080"/>
            <a:ext cx="228600" cy="152640"/>
          </a:xfrm>
          <a:prstGeom prst="line">
            <a:avLst/>
          </a:prstGeom>
          <a:ln w="9360">
            <a:solidFill>
              <a:srgbClr val="eae8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00600" y="45720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53080" y="1143000"/>
            <a:ext cx="2133720" cy="1066680"/>
          </a:xfrm>
          <a:prstGeom prst="rect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s of the 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bility 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its treatment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181120" y="2209680"/>
            <a:ext cx="1219320" cy="1295640"/>
          </a:xfrm>
          <a:prstGeom prst="line">
            <a:avLst/>
          </a:prstGeom>
          <a:ln w="9360">
            <a:solidFill>
              <a:srgbClr val="eae8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Prader-Willi Syndrom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2895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Hypogonadism- low hormonal level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Problems related to uncontrolled obesity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Cardiovascular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iabete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Fragile X Syndrom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ncreased rates of mitral valve prolapse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Musculo-skeletal disorder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Early menopause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Epilepsy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Visual impairment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Earlier osteoporosi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Seizure Disorder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hange in seizure frequency, increase or  decrease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umulative effects of long term use of seizure medications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creased bone density and increased trauma and falls due to seizures may lead to fracture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What Is Dementia?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mpaired brain functio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Problems with memory and judgment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Often accompanied by confusion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Loss of ability to use information once known or learned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Loss of basic abilities to think and understand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Types of Dementia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lzheimer’s Dementia (AD or DAT)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601"/>
              </a:spcBef>
              <a:buSzPct val="1560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Most common type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601"/>
              </a:spcBef>
              <a:buSzPct val="1560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Gradual onset with stages of increasing severity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Multiple Infarct Dementia (MID).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601"/>
              </a:spcBef>
              <a:buSzPct val="1560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Second most common type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601"/>
              </a:spcBef>
              <a:buSzPct val="15601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Numerous tiny strokes-related to heart disease and high blood pressure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601"/>
              </a:spcBef>
              <a:buSzPct val="15601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Can have sudden onset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Other type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Stages of Alzheimer’s Dementia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57200" y="1600200"/>
          <a:ext cx="8305920" cy="4726080"/>
        </p:xfrm>
        <a:graphic>
          <a:graphicData uri="http://schemas.openxmlformats.org/drawingml/2006/table">
            <a:tbl>
              <a:tblPr/>
              <a:tblGrid>
                <a:gridCol w="1660680"/>
                <a:gridCol w="1662120"/>
                <a:gridCol w="1660320"/>
                <a:gridCol w="1662120"/>
                <a:gridCol w="166068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Mild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(early stage)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Confusion and memory loss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Disoriented in space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Problems with routine tasks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Changes in personality and judgment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Moderate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(mid stage)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Difficulty with ADL’s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Anxiety, paranoia,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agitation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Sleep difficulty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Difficulty recognizing familiar people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Severe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(late stage)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Loss of speech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Loss of weight, appetite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Loss of bladder/bowel control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Total dependence on others.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What Else Could Be Causing </a:t>
            </a:r>
            <a:br>
              <a:rPr sz="4400"/>
            </a:b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These Behaviors?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Medical problems- anemia, high blood pressure, brain tumor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Medication side effect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Hearing and/or vision problems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Metabolic disturbances-diabetes or thyroid dysfunctio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lcohol or other substance abuse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ffective disorders-delirium or depressio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Vitamin deficiencies.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Get Medical Evaluation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ule out other possible causes for symptoms, behavior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ocument a progressive decline from the person’s former or baseline statu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Possible or probable diagnosis by process of elimination and characteristic pattern of difficulti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Documenting Baseline Function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Use a standardized test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Give periodically beginning before you anticipate problem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nclude a video recording of the person’s functional abiliti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ompare change over time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e PCAD project (see sample handout)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Service Delivery Model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ging in place- adaptation as client needs, abilities and behaviors change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Dementia-specific environment-specialized staff and setting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eferral out, usually to long-term care facility or other generic community program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Support During the Aging Process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Need to document current level of functio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SzPct val="1560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Consider PCAD assessment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Recognition of changes that need attention, especially in non-verbal residents.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SzPct val="1560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e.g., dementia vs. more treatable problems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gency plan for aging in place or alternative care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End-of-life planning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End-of-life care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Reference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Parts of this presentation were adapted from: Factor, A.R. (1997). </a:t>
            </a:r>
            <a:r>
              <a:rPr b="0" i="1" lang="en-US" sz="2400" spc="-1" strike="noStrike">
                <a:solidFill>
                  <a:srgbClr val="eae8e2"/>
                </a:solidFill>
                <a:latin typeface="Arial Narrow"/>
              </a:rPr>
              <a:t>Growing Older with a Developmental Disability: Physical and Cognitive Changes and Their Implications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. Chicago: Rehabilitation Research and Training Center on Aging with Mental Retardation,, University of Illinois at Chicago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Many other resources at this website: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http://www.uic.edu/orgs/rrtcamr/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Vision Changes of Aging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Loss of acuity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Loss of accommodation (presbyopia)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ecrease in light transmissio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Changes in color perception (esp greens, blues, violets)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ecrease in dark adaptation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Less able to adapt to glare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ecreased visual field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Symptoms of a Problem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ubbing ey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quinting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hutting or covering one eye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ilting or thrusting head forward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edness of eye or area around ey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hanges in Function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tumbling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Hesitancy on a step or curb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Holding page or object closer to ey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efusing to participate in previous activities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tting close to TV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5:51:13Z</dcterms:created>
  <dc:creator>Kathleen Clotfelter Watson</dc:creator>
  <dc:description/>
  <dc:language>en-US</dc:language>
  <cp:lastModifiedBy>Kathleen Clotfelter Watson</cp:lastModifiedBy>
  <dcterms:modified xsi:type="dcterms:W3CDTF">2004-10-18T18:15:15Z</dcterms:modified>
  <cp:revision>12</cp:revision>
  <dc:subject/>
  <dc:title>Supporting People with Developmental Disabilities During the Aging Process </dc:title>
</cp:coreProperties>
</file>