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3F42510-571A-4BA6-9DC8-FBA0F2A43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eyes and blepharitis less serious, but rubbing of eyes can lead to kerato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D-leads to central blind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lead to opaque lens, can be corrected with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retinopathy leads to vision loss up to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, asymptomatic, may lead to gradual loss of peripheral vision and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atoconus disease of cornea; an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peripheral vision allows safety in moving around familiar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background noise and commot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ex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 lower tones,  face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loss leads to  social isolation and emotional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ed taste-may over season food or lose appetite-watch for increased use of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may be more susceptible to injury and dental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more nosebl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tures may irritate or n o longer 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ot be able to smell – safety, food odors, body odor, fragrance use, smoke,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dental and mouth ex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to safety and hygien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 of warmth, overheating , drying of skin (hygiene), fluid intake, sun damage, burns, easy damage and poor he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tinence of u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more difficult to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feel like uncomfortable pressure, squeezing, fullness, or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often have discomfort in places other than the chest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 sh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robably has mos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are inter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change genetic, but we can modify the environment and lifestyle 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increases in early childhood survival   related to heart surgery, general health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stitutionalization led to fewer communicable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chromosome 21 means extra proteins it codes for; one is superoxide dismutase—leads to increased production of reactive oxidative species (free radicals), defective repair of oxidative damage to DNA;  increased rate of programmed cell death (apoptosis); increased CV disease, leukemia, immune deficiency, increased frequency of osteoporosis, especially in males; increased prevalence of thyroi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anti-oxidants to decrease free radicals (eg melato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onset usually begins about age 50 –age 40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course usually lasts up to 20 years—8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: dry eyes, blepharitis, kerata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risk for eye related disorders and age related eye diseases occur earlier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unction requires directional, coordinated muscular mov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eopo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tructive sleep ap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zure free for one year or more should be weaned off drugs in case there is no more seizur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ay require increase or change in drugs to respond to change in seizure type or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68C-93E1-49F5-A552-BA0662DE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666-F482-4BA8-B3C6-A2275792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ED1-F824-4DA8-B2BB-FEE15172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F67-74E4-4A1B-A425-CA59B292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8366-BD11-4435-9FB5-56BF2D8F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5670-AD65-4CA9-BA97-590028A8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5EFA-AC5C-4F35-AFDC-8C64EAD3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1E48-C0D9-4743-911B-295A5C92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FC19-FAB6-420B-9C83-E235D5C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0AC2-8F89-4AE7-B228-B41EB748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A48-351B-4A6D-94C3-D63C62D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B8E-0291-4028-873B-D249E17D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3997-C21A-4553-88D2-27907DD3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7B22-C2DA-48CA-83F2-11A01E1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DB27-50AF-4998-BB0B-41360E40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F110-E038-4C20-8CC0-0EB324DB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4D88-9E43-4C69-B086-8FFACEEE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066-1E0C-453D-87BE-410AD740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4A3-1F7F-4833-AF6E-0A5A22D0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0E0-2F95-49F5-AB39-10C1B31C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1AF-3AA1-4571-A593-357EF4B2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BD8-894C-4181-866D-0B299287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9C7-DDF3-42BB-8A57-E4F2AC2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314-4F34-401F-B7A6-1D40ECBB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664F-BEED-4E24-B787-1E5246EF44ED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23D1-EA77-46EC-B680-5BCFDC4E31C4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Supporting People with Developmental Disabilities During the Aging Process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426672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Eye Diseas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ry eyes - scratchy, irritate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lepharitis - red, itchy lids, person may rub too mu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ge-related macular degeneration (ARMD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ataracts -  gradual clouding of len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abetic retinopathy -damage to retina leading to blindne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laucoma – gradual tunnel vision, then blindne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Keratoconus – disease of eye surface (cornea). More common in persons with Down Syndrom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Vision Los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central vis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lind spot for central fiel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nable to see faces, read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acuity or clarit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used by macular dis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Vision Loss (cont’d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peripheral vis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rom glaucoma or retinitis pigmentos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ffects safe mobilit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iffuse loss across visual fiel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rom diabetes, cataracts, keratoconu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ision may fluctuate based on amount and direction of l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 Vis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et regular eye exams to check for asymptomatic problems or unexplained symptom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et professional explanation of the problem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odify the environment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Use high contrast colors, non-glare lighting and surfaces, large prin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Red, oranges, yellows better than blues, greens, violet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vide increased lighting, use night light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Organize belongings and keep locations consisten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Keep eyeglasses clean and prevent scratches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 Vis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dify activitie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gage in daytime activiti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vide support for night-time activiti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low time to adjust to change of l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tect the “good” ey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Hearing Changes of Aging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auditory nerve cells and fiber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uction of blood supply to auditory nerve transmission are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ckening of eardru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ear wax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esbycusis (loss for high pitched speech sounds)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tone discrimination, localiza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Hearing Los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onductive –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blem with the physical conduct of sound through the ear structures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From earwax, infection, head trauma, damage to ear drum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nsori-neural –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blem with the conduct of the sound signal through the nerve to the brain or the processing of the information in the brain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From head trauma, drugs, diabetes, high blood pressure, heredity, kidney failure, coronary artery diseas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ossible Symptom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urning TV up lou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peaking loud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appropriate response to quest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nfusion in noisy situation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solat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lf injurious behavio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 Hearing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et regular exams with a hearing professional to check for wax, disease, gradual hearing loss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aring aid if indicat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peak slower, with lower tones, clear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uce background nois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When speaking, face person with light on your face, not behind you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Keep hearing aid batteries fresh and aid clea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ing Effects on Mouth/Tas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taste bud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cession of gums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nning of dental enam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epared and funded through collaboration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The Developmental Disabilities Council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of Washingt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The University of Washington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Center on Human Development and Disability,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Northwest Center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and Washington State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Division of Developmental Disabilities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bnormalities and Disease in Mout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aliva from drugs or diseas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ntal car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oot caries and abscess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eriodontitis (gum disease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ores, especially with dentur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fection of mucus membran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nce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Mouth/Tas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gular dental checkups and good oral hygiene, even if no teet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loss or use proxi-brus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nsider battery-powered toothbrus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lcohol-free mouth was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sk dentist about chlorhexidine mouthwash to decrease bacteria and infections (prescription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 seasonings of food except sal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ose/Smel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nerve fibe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rying of mucous membranes in nose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ensitivity to odo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ose/Smel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se of smoke detector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re if using propane stoves or water heate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iscarding food after recommended time, check for spoilag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ssist with awareness of body odor or over-use of fragranc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kin/Touc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sweat glands, subcutaneous fat, blood supply, elasticity, thickness of ski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pigme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skin cell production and hair growt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nges in nail matrix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ensation of touch, pai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Ski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inimize use of soap and rinse wel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ry well and use moisturizer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position frequently if mobility is limite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heck skin frequently for problem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abel hot and cold water and monitor water temperatur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creased risk with Down Syndrome, immobility, poor nutri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Use sun protec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ing of the GI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ing total calorie needs every decad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ess gastric juice may lead to increased indigestion and ulcer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aliva production may lead to more gum dis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mooth muscle tone, slower emptying and digestion, less absorption of nutrien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trategi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omote elimination through fluids, fiber and physical activit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constipa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ncourage slower eating, smaller, more frequent meal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void empty calor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Urinary and Reproductive -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enitourinar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ladder capacity and muscle tone decr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Kidneys become less  efficie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nlargement of prostate comm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laxation of pelvic muscl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ffects of decreased  hormon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voiding patterns- increased or decreased frequency, changes in continenc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signs of infection- frequency, urgency, accidents, discomfort, unusual odor, color or bleeding. There may be no fever or usual symptom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gular screening tests and examinat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ood hygiene practice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ject Staff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haran Brown, JD, Ed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Principal Investigat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Kathleen Watson, PhD, RN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Project Director/Trainer and Paren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sther Moloney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Project Assistant and Paren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Heart and Blood Vessel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d responsiveness to stress, leading to difficult breathing, fatigu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art rate decreases due to slower contraction of muscle fiber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low return to normal HR after elev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uild up of calcifications and fat in arteri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d elasticity of arteries leads to heart needing to pump faste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55640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 Hear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4801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Encourage regular, moderate exercise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Slow the pace of activitie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Watch for signs of decreased endurance - distress, dizziness, confusion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Change position slowly to prevent dizzines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Reduce or stop cigarette smoking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Healthy, low sodium diet, blood pressure check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Decrease fat and trans fatty acids from diet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Learn signs and symptoms of a heart attack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igns of a Heart Attack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hest discomfort that lasts more than a few minutes or goes away and comes back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scomfort in other areas of the upper body, including one or both arms, neck, jaw, back, stom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hortness of breath with or without chest discomfor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ther symptoms: nausea, lightheadedness, breaking out in a cold swea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ungs - Pulmonary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ungs become less elastic, less able to take in oxyge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eathing becomes less efficient, tolerance for exercise decreas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cough reflex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cilia lining respiratory tract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 Lung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56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Avoid smoking and second-hand smok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Encourage deep breathing, physical activity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For persons with difficulty, slow pace of activity, allow rest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Help alleviate stres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Proper diet and enough fluid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Immunizations for lung diseases (flu and pneumonia)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Watch for signs of infection (increased coughing, shortness of breath, colored sputum, increased confusion)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 Lungs (cont’d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signs of reflux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artburn, discomfort after meals or at n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fficulty or painful swallow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wallowing or excessive salivation when not eating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oughing during night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ervous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nerve cells and fibers with decreased conduc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blood flow and oxygen to brai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ess REM stage of sleep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ltered pain respon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ehavior and Cognitiv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telligence, ability to learn, don’t necessarily chang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difficulty processing, organizing new information, recalling old informat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ental illness  more prevalent in those with I/DD than in general population -depression most comm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alance and 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ve Respons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nse of balance decreases due to loss of hair cells in middle ear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low movement and less sensation lead to slower reaction time and decreased protective response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e-related Musculo-skeletal Chang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muscle mass, strength and ton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joint mobilit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porosity and fragility of bon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hortening of the spinal cor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likelihood of developing arthriti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Effects on Health During the Aging Proces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ormal aging proces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ifestyle choic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enetic effect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nvironme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679480" cy="3308400"/>
          </a:xfrm>
          <a:prstGeom prst="rect">
            <a:avLst/>
          </a:prstGeom>
          <a:ln w="9360">
            <a:solidFill>
              <a:srgbClr val="eae8e2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448920" y="0"/>
            <a:ext cx="1412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524880" y="2209680"/>
            <a:ext cx="134640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601200" y="4191120"/>
            <a:ext cx="12780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Musculo-skeletal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courage independent movement and self-c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mote regular exercis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mplement safeguards to prevent fall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mote safe use of mobility aid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vide seating that is comfortable, firm, and not too deep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sk health care provider about calcium and vitamin D supplements, weight-bearing exercise, hormone replacement therap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nger lifespan than in the pas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rapid aging at the cellular level-affects all body system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ormal aging processes occur earlier than in persons without Down syndrom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oor function of immune syste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incidence of Alzheimer’s Dement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arly onset type of A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egins at earlier age than in general popul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irst noticed in daily function rather than memory lo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gresses more rapidl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ffects about 25% of DS popul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have new onset of seizure disorde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ry skin, more fungal infections of nail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incidence lifelong risk of thyroid dysfunction, usually hypothyroi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arlier onset of visual and hearing problems of ag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incidence of sleep apne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verweight, especially those living with fami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Joint problems of neck, knee, and hip and more likely to develop bun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wer peak bone density and earlier risk for osteoporos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any born with heart abnormali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risk of heart valve disease later in lif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risk of atheroscleros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tlanto-axial Instability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pinal column instability-about 14%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compress cord leading to neck pain, poor posture and gait, loss of upper body strength, abnormal neurological reflexes and changes in bowel and bladder emptying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reatment controversial- ask health care provide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mount of decrease in life expectancy related to degree of severity of condi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bnormal muscle ton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uscular and joint pai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ip and back deformiti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Worsening bowel and bladder func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rthopedic surgeries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bnormal movement of food through the throat and stomach: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ysphagia (abnormal swallowing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flux of stomach acid into throat (GERD gastro-esophageal reflux disease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layed emptying of the stom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l contribute to dental erosion, irritation of the esophagus, anemia, feeding problems, aspiration and pneumon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bnormal movement  of food and waste through the small and large intestin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igh incidence constipation, fecal impac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creased risk of death from bowel obstruction and intestinal perfora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eeding and digestion problems worse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Joint pain and deterioration worse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eathing difficulties worsened by above problems. Speaking more difficul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susceptible to pressure sores due to decreased mobility and thinning of ski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utritional deficits, limited movement and medication usage increase risk of osteoporos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ing With a Developmental Disabili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429000"/>
            <a:ext cx="205740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with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ability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752480"/>
            <a:ext cx="2210040" cy="8384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aging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572000"/>
            <a:ext cx="2971800" cy="8380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attitudes about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th disabilitie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4343400"/>
            <a:ext cx="1600200" cy="76212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styl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1828800"/>
            <a:ext cx="2209680" cy="11430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ccess to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2743200"/>
            <a:ext cx="2514600" cy="11430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knowledge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aging for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th DD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105520"/>
            <a:ext cx="19810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f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048120"/>
            <a:ext cx="2514600" cy="9144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dequate funding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health car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33720" y="4266720"/>
            <a:ext cx="1295280" cy="30492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505320"/>
            <a:ext cx="457200" cy="22860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666880"/>
            <a:ext cx="533160" cy="76212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800240" y="2971800"/>
            <a:ext cx="228600" cy="3808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86400" y="3048120"/>
            <a:ext cx="838080" cy="6094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486040" y="4267080"/>
            <a:ext cx="228600" cy="15264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4572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1143000"/>
            <a:ext cx="2133720" cy="10666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the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bilit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ts treatmen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81120" y="2209680"/>
            <a:ext cx="1219320" cy="129564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ader-Willi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ypogonadism- low hormonal level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oblems related to uncontrolled obesit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ardiovascula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abet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Fragile X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rates of mitral valve prolap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usculo-skeletal disorder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arly menopau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pileps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Visual impairmen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arlier osteoporosi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eizure Disorder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nge in seizure frequency, increase or  decr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umulative effects of long term use of seizure medications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bone density and increased trauma and falls due to seizures may lead to fractur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What Is Dementia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mpaired brain func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oblems with memory and judgmen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ften accompanied by confus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ability to use information once known or learn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basic abilities to think and understan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Dementi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zheimer’s Dementia (AD or DAT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Most common typ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Gradual onset with stages of increasing severity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ultiple Infarct Dementia (MID)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econd most common typ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Numerous tiny strokes-related to heart disease and high blood pressur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an have sudden onse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ther typ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tages of Alzheimer’s Dementi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305920" cy="472608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ild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arly stage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onfusion and memory los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soriented in space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blems with routine task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hanges in personality and judgment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mid stage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ficulty with ADL’s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nxiety, paranoia,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gitation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leep difficulty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ficulty recognizing familiar people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evere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late stage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s of speech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s of weight, appetite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s of bladder/bowel control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Total dependence on other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What Else Could Be Causing 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hese Behaviors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edical problems- anemia, high blood pressure, brain tumo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edication side effect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aring and/or vision problem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etabolic disturbances-diabetes or thyroid dysfunc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cohol or other substance abus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ffective disorders-delirium or depress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itamin deficiencie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et Medical Evalua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ule out other possible causes for symptoms, behavio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ocument a progressive decline from the person’s former or baseline statu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ossible or probable diagnosis by process of elimination and characteristic pattern of difficul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cumenting Baseline Func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se a standardized tes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ive periodically beginning before you anticipate problem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lude a video recording of the person’s functional abili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mpare change over tim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PCAD project (see sample handout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ervice Delivery Model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ging in place- adaptation as client needs, abilities and behaviors chang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mentia-specific environment-specialized staff and sett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erral out, usually to long-term care facility or other generic community program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During the Aging Process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Need to document current level of func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onsider PCAD assessment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cognition of changes that need attention, especially in non-verbal resident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, dementia vs. more treatable problem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gency plan for aging in place or alternative c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d-of-life planning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d-of-life c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Referenc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arts of this presentation were adapted from: Factor, A.R. (1997). </a:t>
            </a:r>
            <a:r>
              <a:rPr b="0" i="1" lang="en-US" sz="2400" spc="-1" strike="noStrike">
                <a:solidFill>
                  <a:srgbClr val="eae8e2"/>
                </a:solidFill>
                <a:latin typeface="Arial Narrow"/>
              </a:rPr>
              <a:t>Growing Older with a Developmental Disability: Physical and Cognitive Changes and Their Implications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. Chicago: Rehabilitation Research and Training Center on Aging with Mental Retardation,, University of Illinois at Chicago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Many other resources at this website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http://www.uic.edu/orgs/rrtcamr/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Vision Changes of Aging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acuit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accommodation (presbyopia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 in light transmiss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hanges in color perception (esp greens, blues, violets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 in dark adapt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ess able to adapt to gl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d visual fiel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ymptoms of a Probl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ubbing ey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quint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hutting or covering one ey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ilting or thrusting head forward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ness of eye or area around ey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hanges in Func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tumbl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sitancy on a step or curb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olding page or object closer to ey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using to participate in previous activi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tting close to TV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51:13Z</dcterms:created>
  <dc:creator>Kathleen Clotfelter Watson</dc:creator>
  <dc:description/>
  <dc:language>en-US</dc:language>
  <cp:lastModifiedBy>Kathleen Clotfelter Watson</cp:lastModifiedBy>
  <dcterms:modified xsi:type="dcterms:W3CDTF">2004-10-18T18:15:15Z</dcterms:modified>
  <cp:revision>12</cp:revision>
  <dc:subject/>
  <dc:title>Supporting People with Developmental Disabilities During the Aging Process </dc:title>
</cp:coreProperties>
</file>