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03E9-06EA-4CEA-BF62-36600AFBE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haracteristics were age, level of MR, health status, mobility and arm/hand lim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aregivers perceived greater benefits of exercise, adults with CP were likely to exercise more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nursing home residents more likely to exercise than nursing home resi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inform caregivers about the benefits and importance of exercise for adults with C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A71D80-8672-4DFA-9F52-8221A3E95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1A79FB-86A0-48D9-A1F6-E6B439CEB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96C563-C03E-4A43-AA5F-0D4C10B92E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D68A59-C924-4A13-9F15-AC1C972206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F755D-2298-454F-9BC8-E6419A155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CD821-A364-47C9-BCDE-5F05E4A1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A2C7-02AD-4EBC-B5EC-483EAD4DA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2BD73-6637-4EE6-B4F2-FF964EFF3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F770B-4FE3-42F3-92CC-F51A3E96F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A29A3-A630-4E5F-9C4C-8A2890D75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9DA3-C88E-402F-B314-3AAA3A1C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CA5365-AEA4-438B-9D51-AE57DC6F7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0E5F-4A38-4A24-B797-E6C51394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B000E-7451-40E9-808B-C924DE001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8115B-C14C-4CF3-B046-85730466C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D92E1-BE5B-4837-B362-A655358FD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226E3-3DCE-40C6-BC0E-0FFF4810E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7FF54C-C235-42E6-B94B-2989E3093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77E650-6D7D-4754-84DD-EE34C5252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7990E8-5128-49C0-98FD-E0C22A469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6EE107-E93A-48E2-B969-D26CDF019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8BCC3-FA43-4D8D-A492-797700393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C85D6-E481-4580-BDD7-48DF09E37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69765-82D6-41E0-AE4B-3877E0025D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7FFE-791D-4323-8009-F68370525CEF}"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E294-0803-4ABC-95A9-05213B65603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www.cdc.gov/tobacco/sgr/sgr_2004/index.ht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Eras Demi ITC"/>
              </a:rPr>
              <a:t>Toward Healthy Aging:</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971800" y="4266720"/>
            <a:ext cx="60199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Promoting Health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Through Lifestyle</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Changes</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Solution Strategies: </a:t>
            </a:r>
            <a:endParaRPr b="0" lang="en-US" sz="4400" spc="-1" strike="noStrike">
              <a:solidFill>
                <a:srgbClr val="003300"/>
              </a:solidFill>
              <a:latin typeface="Eras Demi ITC"/>
            </a:endParaRPr>
          </a:p>
        </p:txBody>
      </p:sp>
      <p:sp>
        <p:nvSpPr>
          <p:cNvPr id="136" name="PlaceHolder 2"/>
          <p:cNvSpPr>
            <a:spLocks noGrp="1"/>
          </p:cNvSpPr>
          <p:nvPr>
            <p:ph/>
          </p:nvPr>
        </p:nvSpPr>
        <p:spPr>
          <a:xfrm>
            <a:off x="609480" y="2742840"/>
            <a:ext cx="426744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hysical Activit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Exercise</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utrition</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void or stop use of tobacco and/or excess alcohol.</a:t>
            </a:r>
            <a:endParaRPr b="0" lang="en-US" sz="3200" spc="-1" strike="noStrike">
              <a:solidFill>
                <a:srgbClr val="003300"/>
              </a:solidFill>
              <a:latin typeface="Georgia"/>
            </a:endParaRPr>
          </a:p>
        </p:txBody>
      </p:sp>
      <p:graphicFrame>
        <p:nvGraphicFramePr>
          <p:cNvPr id="137" name=""/>
          <p:cNvGraphicFramePr/>
          <p:nvPr/>
        </p:nvGraphicFramePr>
        <p:xfrm>
          <a:off x="5222880" y="2133720"/>
          <a:ext cx="2892600" cy="3886200"/>
        </p:xfrm>
        <a:graphic>
          <a:graphicData uri="http://schemas.openxmlformats.org/presentationml/2006/ole">
            <p:oleObj r:id="rId1" spid="">
              <p:embed/>
              <p:pic>
                <p:nvPicPr>
                  <p:cNvPr id="138" name="" descr=""/>
                  <p:cNvPicPr/>
                  <p:nvPr/>
                </p:nvPicPr>
                <p:blipFill>
                  <a:blip r:embed="rId2"/>
                  <a:stretch/>
                </p:blipFill>
                <p:spPr>
                  <a:xfrm>
                    <a:off x="5222880" y="2133720"/>
                    <a:ext cx="28926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an make a substantial difference in a person’s life, </a:t>
            </a:r>
            <a:r>
              <a:rPr b="0" i="1" lang="en-US" sz="3200" spc="-1" strike="noStrike">
                <a:solidFill>
                  <a:srgbClr val="003300"/>
                </a:solidFill>
                <a:latin typeface="Georgia"/>
              </a:rPr>
              <a:t>regardless of age or disability</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dd life to one’s years rather than adding years to one’s lif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ecrease blood pressur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strength, CV endur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bal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lung and breathing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e immune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duce depression and anxiet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trol obesity</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Quitting Tobac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has immediate as well as long term health benefi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improves the health of those around you.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provides a good role model for everyone around you, including your childre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83772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omponents of Physical Fitnes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2285640"/>
            <a:ext cx="8229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Muscle strength and enduranc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Flexibility</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Body composition </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Cardiovascular endurance</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eterminants of Exercise in Adults with CP</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search study on impact of environment and caregiver attitud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frequency was the variable studied.</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ther variables compared were personal characteristics, type of residence, exercise facility access and caregiver-perceived benefits of exercise for the person.</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regiver attitude and place of residence were the determinants.</a:t>
            </a:r>
            <a:endParaRPr b="0" lang="en-US" sz="2800" spc="-1" strike="noStrike">
              <a:solidFill>
                <a:srgbClr val="003300"/>
              </a:solidFill>
              <a:latin typeface="Georgia"/>
            </a:endParaRPr>
          </a:p>
        </p:txBody>
      </p:sp>
      <p:sp>
        <p:nvSpPr>
          <p:cNvPr id="149" name=""/>
          <p:cNvSpPr/>
          <p:nvPr/>
        </p:nvSpPr>
        <p:spPr>
          <a:xfrm>
            <a:off x="4267080" y="6019920"/>
            <a:ext cx="4267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Heller, Ying, Rimmer &amp; Marks, 2002.)</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gram Ideas</a:t>
            </a:r>
            <a:endParaRPr b="0" lang="en-US" sz="4400" spc="-1" strike="noStrike">
              <a:solidFill>
                <a:srgbClr val="003300"/>
              </a:solidFill>
              <a:latin typeface="Eras Demi ITC"/>
            </a:endParaRPr>
          </a:p>
        </p:txBody>
      </p:sp>
      <p:sp>
        <p:nvSpPr>
          <p:cNvPr id="151" name="PlaceHolder 2"/>
          <p:cNvSpPr>
            <a:spLocks noGrp="1"/>
          </p:cNvSpPr>
          <p:nvPr>
            <p:ph/>
          </p:nvPr>
        </p:nvSpPr>
        <p:spPr>
          <a:xfrm>
            <a:off x="380520" y="2362320"/>
            <a:ext cx="8153640" cy="31240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Education of staff and participants:</a:t>
            </a:r>
            <a:endParaRPr b="0" lang="en-US" sz="36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ing quality of available food choices.</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tegrating increased activity and exercise into daily life.</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Becoming healthier role model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Keys to Successfully Increasing</a:t>
            </a:r>
            <a:br>
              <a:rPr sz="4400"/>
            </a:br>
            <a:r>
              <a:rPr b="0" lang="en-US" sz="4400" spc="-1" strike="noStrike">
                <a:solidFill>
                  <a:srgbClr val="003300"/>
                </a:solidFill>
                <a:latin typeface="Eras Demi ITC"/>
              </a:rPr>
              <a:t>Physical Activity</a:t>
            </a:r>
            <a:endParaRPr b="0" lang="en-US" sz="4400" spc="-1" strike="noStrike">
              <a:solidFill>
                <a:srgbClr val="003300"/>
              </a:solidFill>
              <a:latin typeface="Eras Demi ITC"/>
            </a:endParaRPr>
          </a:p>
        </p:txBody>
      </p:sp>
      <p:sp>
        <p:nvSpPr>
          <p:cNvPr id="153"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et physician approval firs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nsider age and lifestyle in plan for each individual</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Increase physical activity throughout the day.</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tilize resources in the community - YMCA, Senior Centers or Special Olympic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quest adapted programs for special need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at least three days per week.</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eep the program fun and rewarding.</a:t>
            </a:r>
            <a:endParaRPr b="0" lang="en-US" sz="2800" spc="-1" strike="noStrike">
              <a:solidFill>
                <a:srgbClr val="003300"/>
              </a:solidFill>
              <a:latin typeface="Georgi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hat Is a Healthy Diet?</a:t>
            </a:r>
            <a:endParaRPr b="0" lang="en-US" sz="4400" spc="-1" strike="noStrike">
              <a:solidFill>
                <a:srgbClr val="003300"/>
              </a:solidFill>
              <a:latin typeface="Eras Demi ITC"/>
            </a:endParaRPr>
          </a:p>
        </p:txBody>
      </p:sp>
      <p:sp>
        <p:nvSpPr>
          <p:cNvPr id="155"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ruits and vegetabl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ole  grains and other high fibe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ean meats or meat alternativ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ow fat dairy food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Variety of food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SELF EFFICACY THEORY</a:t>
            </a:r>
            <a:endParaRPr b="0" lang="en-US" sz="4000" spc="-1" strike="noStrike">
              <a:solidFill>
                <a:srgbClr val="003300"/>
              </a:solidFill>
              <a:latin typeface="Eras Demi ITC"/>
            </a:endParaRPr>
          </a:p>
        </p:txBody>
      </p:sp>
      <p:sp>
        <p:nvSpPr>
          <p:cNvPr id="157" name="PlaceHolder 2"/>
          <p:cNvSpPr>
            <a:spLocks noGrp="1"/>
          </p:cNvSpPr>
          <p:nvPr>
            <p:ph/>
          </p:nvPr>
        </p:nvSpPr>
        <p:spPr>
          <a:xfrm>
            <a:off x="380880" y="220932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lf Efficacy is a person’s belief in their ability to change their behavior.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 person’s belief in their own ability to change a specific behavior strongly predicts their ability to make that change.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ategies which increase self efficacy are powerful tools to foster behavioral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3760" y="1065240"/>
            <a:ext cx="8196840" cy="472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d and funded through collaboration between:</a:t>
            </a:r>
            <a:br>
              <a:rPr sz="2800"/>
            </a:br>
            <a:br>
              <a:rPr sz="2800"/>
            </a:br>
            <a:r>
              <a:rPr b="0" lang="en-US" sz="2800" spc="-1" strike="noStrike">
                <a:solidFill>
                  <a:srgbClr val="000000"/>
                </a:solidFill>
                <a:latin typeface="Times New Roman"/>
              </a:rPr>
              <a:t>The Developmental Disabilities Council of Washington,</a:t>
            </a:r>
            <a:br>
              <a:rPr sz="2800"/>
            </a:br>
            <a:br>
              <a:rPr sz="2800"/>
            </a:br>
            <a:r>
              <a:rPr b="0" lang="en-US" sz="2800" spc="-1" strike="noStrike">
                <a:solidFill>
                  <a:srgbClr val="000000"/>
                </a:solidFill>
                <a:latin typeface="Times New Roman"/>
              </a:rPr>
              <a:t>The University of Washington </a:t>
            </a:r>
            <a:br>
              <a:rPr sz="2800"/>
            </a:br>
            <a:r>
              <a:rPr b="0" lang="en-US" sz="2800" spc="-1" strike="noStrike">
                <a:solidFill>
                  <a:srgbClr val="000000"/>
                </a:solidFill>
                <a:latin typeface="Times New Roman"/>
              </a:rPr>
              <a:t>Center on Human Development and Disability, </a:t>
            </a:r>
            <a:br>
              <a:rPr sz="2800"/>
            </a:b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Northwest Center, </a:t>
            </a:r>
            <a:br>
              <a:rPr sz="2800"/>
            </a:br>
            <a:br>
              <a:rPr sz="2800"/>
            </a:br>
            <a:r>
              <a:rPr b="0" lang="en-US" sz="2800" spc="-1" strike="noStrike">
                <a:solidFill>
                  <a:srgbClr val="000000"/>
                </a:solidFill>
                <a:latin typeface="Times New Roman"/>
              </a:rPr>
              <a:t>and Washington State </a:t>
            </a:r>
            <a:br>
              <a:rPr sz="2800"/>
            </a:br>
            <a:r>
              <a:rPr b="0" lang="en-US" sz="2800" spc="-1" strike="noStrike">
                <a:solidFill>
                  <a:srgbClr val="000000"/>
                </a:solidFill>
                <a:latin typeface="Times New Roman"/>
              </a:rPr>
              <a:t>Division of Developmental Disabilities</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Four Strategies to </a:t>
            </a:r>
            <a:br>
              <a:rPr sz="4400"/>
            </a:br>
            <a:r>
              <a:rPr b="0" lang="en-US" sz="4400" spc="-1" strike="noStrike">
                <a:solidFill>
                  <a:srgbClr val="000000"/>
                </a:solidFill>
                <a:latin typeface="Eras Demi ITC"/>
              </a:rPr>
              <a:t>Increase Self Efficacy</a:t>
            </a:r>
            <a:endParaRPr b="0" lang="en-US" sz="4400" spc="-1" strike="noStrike">
              <a:solidFill>
                <a:srgbClr val="003300"/>
              </a:solidFill>
              <a:latin typeface="Eras Demi ITC"/>
            </a:endParaRPr>
          </a:p>
        </p:txBody>
      </p:sp>
      <p:sp>
        <p:nvSpPr>
          <p:cNvPr id="159"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lanning for small steps that can be master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oviding role model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arifying the meaning of symptoms or condition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ersuasive reasons for change and a supportive environmen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Success</a:t>
            </a:r>
            <a:endParaRPr b="0" lang="en-US" sz="4400" spc="-1" strike="noStrike">
              <a:solidFill>
                <a:srgbClr val="003300"/>
              </a:solidFill>
              <a:latin typeface="Eras Demi ITC"/>
            </a:endParaRPr>
          </a:p>
        </p:txBody>
      </p:sp>
      <p:sp>
        <p:nvSpPr>
          <p:cNvPr id="161"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elping people master specific tasks creates successful  experiences and  builds the confidence to continu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Goals are broken down into very small tasks and each task is mastered before adding a new tas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HELPING PEOPLE</a:t>
            </a:r>
            <a:r>
              <a:rPr b="1" lang="en-US" sz="4400" spc="-1" strike="noStrike">
                <a:solidFill>
                  <a:srgbClr val="000000"/>
                </a:solidFill>
                <a:latin typeface="Arial"/>
              </a:rPr>
              <a:t> </a:t>
            </a:r>
            <a:endParaRPr b="0" lang="en-US" sz="4400" spc="-1" strike="noStrike">
              <a:solidFill>
                <a:srgbClr val="003300"/>
              </a:solidFill>
              <a:latin typeface="Eras Demi ITC"/>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art with a task the person chooses and be SURE they can achieve it.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ave the person say what they want to do (like going for a walk two days a week).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en that goal is reached, build on the success by increasing the goal only a small amount.</a:t>
            </a:r>
            <a:endParaRPr b="0" lang="en-US" sz="3200" spc="-1" strike="noStrike">
              <a:solidFill>
                <a:srgbClr val="003300"/>
              </a:solidFill>
              <a:latin typeface="Georgi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Models</a:t>
            </a:r>
            <a:endParaRPr b="0" lang="en-US" sz="4400" spc="-1" strike="noStrike">
              <a:solidFill>
                <a:srgbClr val="003300"/>
              </a:solidFill>
              <a:latin typeface="Eras Demi ITC"/>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like us.</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whom we admire or respect.</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coping with a similar problem, who know what we are  experiencing.</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ives us confidence we are not facing the challenge alone and we can be successful too!</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uper achievers are not helpful model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IGUE AND REST</a:t>
            </a:r>
            <a:endParaRPr b="0" lang="en-US" sz="4000" spc="-1" strike="noStrike">
              <a:solidFill>
                <a:srgbClr val="003300"/>
              </a:solidFill>
              <a:latin typeface="Eras Demi ITC"/>
            </a:endParaRPr>
          </a:p>
        </p:txBody>
      </p:sp>
      <p:sp>
        <p:nvSpPr>
          <p:cNvPr id="167" name="PlaceHolder 2"/>
          <p:cNvSpPr>
            <a:spLocks noGrp="1"/>
          </p:cNvSpPr>
          <p:nvPr>
            <p:ph/>
          </p:nvPr>
        </p:nvSpPr>
        <p:spPr>
          <a:xfrm>
            <a:off x="380880" y="19810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is a side effect of many chronic conditions.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can also be caused by depression, stress, medications or weakness.</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A common response to fatigue is rest.</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When fatigue is caused by depression, stress, or weakness, exercise will alleviate the fatigue and </a:t>
            </a:r>
            <a:r>
              <a:rPr b="0" i="1" lang="en-US" sz="2800" spc="-1" strike="noStrike">
                <a:solidFill>
                  <a:srgbClr val="003300"/>
                </a:solidFill>
                <a:latin typeface="Georgia"/>
              </a:rPr>
              <a:t>rest will only increase it</a:t>
            </a:r>
            <a:r>
              <a:rPr b="0" lang="en-US" sz="2800" spc="-1" strike="noStrike">
                <a:solidFill>
                  <a:srgbClr val="003300"/>
                </a:solidFill>
                <a:latin typeface="Georgia"/>
              </a:rPr>
              <a:t>.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nce a person starts exercising, s/he will gain confidence in their ability to control their symptom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ymptoms</a:t>
            </a:r>
            <a:endParaRPr b="0" lang="en-US" sz="4000" spc="-1" strike="noStrike">
              <a:solidFill>
                <a:srgbClr val="003300"/>
              </a:solidFill>
              <a:latin typeface="Eras Demi ITC"/>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Behavior change programs need to help people learn to understand symptom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hey also need to reach logical conclusions to minimize them.</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often fear their symptoms have serious health consequenc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aching people which symptoms can be a serious threat is crucial. </a:t>
            </a:r>
            <a:endParaRPr b="0" lang="en-US" sz="2800" spc="-1" strike="noStrike">
              <a:solidFill>
                <a:srgbClr val="003300"/>
              </a:solidFill>
              <a:latin typeface="Georg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Give the clear message that a person is capabl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Encourage them to take steps toward chang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reate an atmosphere that is supportiv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upport helps people do the hard wor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In a group you need a sensitive leader, shared group norms, and a consistent agenda building trust, safety, and support.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orking with a partner offers the opportunity to both give and receive suppor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rousing fear can be a form of persuasion when used in the right situations and in a very limited wa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should be used with great sensitivity and caution or not at all.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can cause defensiveness and make the person less likely to want to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people try to change they often don’t reach their goal on the first try. </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Only 20% reach their goal on their first tr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People who take action toward a new behavior and fail, are twice as likely to take action again in the next 6 months and succeed.</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ject Staff</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incipal Investigator</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oject Director/Trainer and Parent</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	</a:t>
            </a:r>
            <a:r>
              <a:rPr b="0" i="1" lang="en-US" sz="2800" spc="-1" strike="noStrike">
                <a:solidFill>
                  <a:srgbClr val="003300"/>
                </a:solidFill>
                <a:latin typeface="Georgia"/>
              </a:rPr>
              <a:t>Project Assistant and Parent</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Y DO PEOPLE RELAPSE? Old behaviors meet a ne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they are eliminated, the need still exis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That is why substituting a new behavior for an old one is effectiv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often try to change through trial and error rather than using a careful plan and specific techniqu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may take action before they are really ready to change when someone else insists that they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Change often costs more than people expect in terms of time, energy and mone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forget it took years to create the situation.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don’t realize that it takes a lots of time and energy to change i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tress can cause relaps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 response to stress is to return to comfortable old habits and stop putting forth the effort change requir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ocial pressure or lack of social support can cause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et an expectation in the beginning of an intervention that a lapse is likely and can be overcom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Help the person see the return to old behavio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all it a slip or a lapse, rather than a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9140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Remind them of the progress they made up to the point of the slip - most people laps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 </a:t>
            </a:r>
            <a:r>
              <a:rPr b="0" lang="en-US" sz="2800" spc="-1" strike="noStrike">
                <a:solidFill>
                  <a:srgbClr val="003300"/>
                </a:solidFill>
                <a:latin typeface="Georgia"/>
                <a:ea typeface="Times New Roman"/>
              </a:rPr>
              <a:t>Encourage the person NOT to beat up on themselv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Feeling guilt and shame is not useful.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Move forward by revising your plan based on what you learned</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ebsites </a:t>
            </a:r>
            <a:endParaRPr b="0" lang="en-US" sz="4400" spc="-1" strike="noStrike">
              <a:solidFill>
                <a:srgbClr val="003300"/>
              </a:solidFill>
              <a:latin typeface="Eras Demi ITC"/>
            </a:endParaRPr>
          </a:p>
        </p:txBody>
      </p:sp>
      <p:sp>
        <p:nvSpPr>
          <p:cNvPr id="191"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University of Illinois at Chicago Rehabilitation Research and Training Center on Aging with Developmental Disabilities (RRTCAAD)</a:t>
            </a:r>
            <a:endParaRPr b="0" lang="en-US" sz="20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National Center on Physical Activity and Disability, Dr. James Rimmer, Director.</a:t>
            </a:r>
            <a:endParaRPr b="0" lang="en-US" sz="2000" spc="-1" strike="noStrike">
              <a:solidFill>
                <a:srgbClr val="003300"/>
              </a:solidFill>
              <a:latin typeface="Georgia"/>
            </a:endParaRPr>
          </a:p>
          <a:p>
            <a:pPr lvl="1" marL="857160" indent="-39996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a:t>
            </a:r>
            <a:r>
              <a:rPr b="0" lang="en-US" sz="2000" spc="-1" strike="noStrike" u="sng">
                <a:solidFill>
                  <a:srgbClr val="333300"/>
                </a:solidFill>
                <a:uFillTx/>
                <a:latin typeface="Georgia"/>
                <a:hlinkClick r:id="rId3"/>
              </a:rPr>
              <a:t>www.ncpad.org</a:t>
            </a:r>
            <a:r>
              <a:rPr b="0" lang="en-US" sz="2000" spc="-1" strike="noStrike" u="sng">
                <a:solidFill>
                  <a:srgbClr val="333300"/>
                </a:solidFill>
                <a:uFillTx/>
                <a:latin typeface="Georgia"/>
                <a:hlinkClick r:id="rId4"/>
              </a:rPr>
              <a:t>/</a:t>
            </a:r>
            <a:endParaRPr b="0" lang="en-US" sz="20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Northwest Geriatric Education Center, Changing Behaviors to Improve Health Module</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washington.edu/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Surgeon General’s Report on the Health Consequences of Smoking</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7"/>
              </a:rPr>
              <a:t>http://www.cdc.gov/tobacco/sgr/sgr_2004/index.htm</a:t>
            </a:r>
            <a:endParaRPr b="0" lang="en-US" sz="18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Health Promotion:</a:t>
            </a:r>
            <a:br>
              <a:rPr sz="4400"/>
            </a:br>
            <a:r>
              <a:rPr b="0" lang="en-US" sz="4400" spc="-1" strike="noStrike">
                <a:solidFill>
                  <a:srgbClr val="003300"/>
                </a:solidFill>
                <a:latin typeface="Eras Demi ITC"/>
              </a:rPr>
              <a:t> A Paradigm Shift</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ast emphasis on prevention of disabling conditions. Neglect of individual health.</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ew focus on evaluating and improving the health of individuals, prevention of secondary conditions and chronic illness</a:t>
            </a:r>
            <a:endParaRPr b="0" lang="en-US" sz="3200" spc="-1" strike="noStrike">
              <a:solidFill>
                <a:srgbClr val="003300"/>
              </a:solidFill>
              <a:latin typeface="Georgia"/>
            </a:endParaRPr>
          </a:p>
        </p:txBody>
      </p:sp>
      <p:sp>
        <p:nvSpPr>
          <p:cNvPr id="121" name=""/>
          <p:cNvSpPr/>
          <p:nvPr/>
        </p:nvSpPr>
        <p:spPr>
          <a:xfrm>
            <a:off x="5715000" y="52578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oor Lifestyle Choices </a:t>
            </a:r>
            <a:endParaRPr b="0" lang="en-US" sz="4400" spc="-1" strike="noStrike">
              <a:solidFill>
                <a:srgbClr val="003300"/>
              </a:solidFill>
              <a:latin typeface="Eras Demi ITC"/>
            </a:endParaRPr>
          </a:p>
        </p:txBody>
      </p:sp>
      <p:sp>
        <p:nvSpPr>
          <p:cNvPr id="123" name="PlaceHolder 2"/>
          <p:cNvSpPr>
            <a:spLocks noGrp="1"/>
          </p:cNvSpPr>
          <p:nvPr>
            <p:ph/>
          </p:nvPr>
        </p:nvSpPr>
        <p:spPr>
          <a:xfrm>
            <a:off x="456840" y="1980720"/>
            <a:ext cx="396252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dentary lifestyle.</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oor food choi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alcohol.</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tobacco product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understanding of consequen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motivation to change.</a:t>
            </a:r>
            <a:endParaRPr b="0" lang="en-US" sz="2800" spc="-1" strike="noStrike">
              <a:solidFill>
                <a:srgbClr val="003300"/>
              </a:solidFill>
              <a:latin typeface="Georgi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graphicFrame>
        <p:nvGraphicFramePr>
          <p:cNvPr id="124" name=""/>
          <p:cNvGraphicFramePr/>
          <p:nvPr/>
        </p:nvGraphicFramePr>
        <p:xfrm>
          <a:off x="4653000" y="2558880"/>
          <a:ext cx="4033800" cy="2730600"/>
        </p:xfrm>
        <a:graphic>
          <a:graphicData uri="http://schemas.openxmlformats.org/presentationml/2006/ole">
            <p:oleObj r:id="rId1" spid="">
              <p:embed/>
              <p:pic>
                <p:nvPicPr>
                  <p:cNvPr id="125" name="" descr=""/>
                  <p:cNvPicPr/>
                  <p:nvPr/>
                </p:nvPicPr>
                <p:blipFill>
                  <a:blip r:embed="rId2"/>
                  <a:stretch/>
                </p:blipFill>
                <p:spPr>
                  <a:xfrm>
                    <a:off x="4653000" y="2558880"/>
                    <a:ext cx="4033800" cy="27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ycle of De-conditioning</a:t>
            </a:r>
            <a:endParaRPr b="0" lang="en-US" sz="4400" spc="-1" strike="noStrike">
              <a:solidFill>
                <a:srgbClr val="003300"/>
              </a:solidFill>
              <a:latin typeface="Eras Demi ITC"/>
            </a:endParaRPr>
          </a:p>
        </p:txBody>
      </p:sp>
      <p:sp>
        <p:nvSpPr>
          <p:cNvPr id="127" name="PlaceHolder 2"/>
          <p:cNvSpPr>
            <a:spLocks noGrp="1"/>
          </p:cNvSpPr>
          <p:nvPr>
            <p:ph/>
          </p:nvPr>
        </p:nvSpPr>
        <p:spPr>
          <a:xfrm>
            <a:off x="304920" y="2286000"/>
            <a:ext cx="8229600" cy="2819520"/>
          </a:xfrm>
          <a:prstGeom prst="rect">
            <a:avLst/>
          </a:prstGeom>
          <a:noFill/>
          <a:ln w="0">
            <a:noFill/>
          </a:ln>
        </p:spPr>
        <p:txBody>
          <a:bodyPr lIns="90000" rIns="90000" tIns="46800" bIns="46800" anchor="t">
            <a:normAutofit fontScale="97000"/>
          </a:bodyPr>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igher level of fatigue and pain with aging.</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ay lead to decrease in physical activity.</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sult is downward spiral in fitness and increase in health problem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iet Concerns</a:t>
            </a:r>
            <a:endParaRPr b="0" lang="en-US" sz="4400" spc="-1" strike="noStrike">
              <a:solidFill>
                <a:srgbClr val="003300"/>
              </a:solidFill>
              <a:latin typeface="Eras Demi ITC"/>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dependent living leads to more responsibility for food choices,  BUT…</a:t>
            </a:r>
            <a:endParaRPr b="0" lang="en-US" sz="32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Nutrition  knowledge is low.</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od preparation skills limited.</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Diets high in fat and calories.</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fruits and vegetables is low.</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Outcomes: </a:t>
            </a:r>
            <a:br>
              <a:rPr sz="4400"/>
            </a:br>
            <a:r>
              <a:rPr b="0" lang="en-US" sz="4400" spc="-1" strike="noStrike">
                <a:solidFill>
                  <a:srgbClr val="003300"/>
                </a:solidFill>
                <a:latin typeface="Eras Demi ITC"/>
              </a:rPr>
              <a:t>Hypokinetic Diseases</a:t>
            </a:r>
            <a:endParaRPr b="0" lang="en-US" sz="4400" spc="-1" strike="noStrike">
              <a:solidFill>
                <a:srgbClr val="003300"/>
              </a:solidFill>
              <a:latin typeface="Eras Demi ITC"/>
            </a:endParaRPr>
          </a:p>
        </p:txBody>
      </p:sp>
      <p:sp>
        <p:nvSpPr>
          <p:cNvPr id="131"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Heart Diseas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Strok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Diabetes</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32"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Tobacco Outcomes</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harms nearly every organ of the bod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low tar and nicotine cigarettes has not been shown to be any bette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eless tobacco also causes cancer.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also causes gum disease, bone loss, ulcers and many other diseases.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kwatson</cp:lastModifiedBy>
  <dcterms:modified xsi:type="dcterms:W3CDTF">2005-01-17T21:16:19Z</dcterms:modified>
  <cp:revision>30</cp:revision>
  <dc:subject/>
  <dc:title>Toward Healthy Aging:</dc:title>
</cp:coreProperties>
</file>