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9336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A49-BE89-4FF0-9737-DBFDF093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5C3-B61A-4636-8830-E983D4C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7D0-F241-4E97-BCBC-D34B20A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E83-A3E0-47C5-BD7D-92FDAA0B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77C-ED79-456A-98F6-AB28C560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3BCB-30DD-4F59-96E2-F2231FF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FC30-2AD2-4819-B00D-CF6C6D43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45D3-A5C0-4B8A-B140-F7C6735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74A-3121-4162-934E-E69674D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E2C-4A62-4F6F-BFD8-8FF4E70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0762-4B60-4452-BA75-2342981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811-16E6-4971-A818-C70AE392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6123-9955-4B32-A1BC-96E1527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602-2D76-41D6-AEC6-1AA1392E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651-6B30-4C21-9417-2DA655B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EA1B-25DD-4501-9E01-BFC0B693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126-BC38-4BD0-B8B3-9BF1078E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2C1-E3B3-4628-B439-399B46DF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E7E-DFB9-41B2-9349-DCE1508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82D-F995-4DB3-8022-448791DB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18F-6221-47D4-857F-7229169C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CAC-36A8-46A3-82B6-BD1460F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283-C4A0-4BE9-8E37-A8B2F8A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192-BF34-470F-937A-7C26DF8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2120" y="17524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668-409D-401F-AC7F-C2A8A29E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0" y="6324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Text Box 18"/>
          <p:cNvSpPr/>
          <p:nvPr/>
        </p:nvSpPr>
        <p:spPr>
          <a:xfrm>
            <a:off x="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50F-A4C9-4225-B4CB-0DC9F4CC4BD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2128"/>
                </a:solidFill>
                <a:latin typeface="Tahoma"/>
              </a:rPr>
              <a:t>Fish 553; 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652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94320" y="2133720"/>
            <a:ext cx="72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ximum Likelihood Primer-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Tahoma"/>
              </a:rPr>
              <a:t>What is Maximum Likelihood-II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25780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188320" y="2514600"/>
            <a:ext cx="362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hich of these curv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re ”most likely” to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enerated the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252760" y="4876920"/>
            <a:ext cx="34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se two seem pret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imilar – is one bett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F02-26F2-4373-9236-6B7F3E06E0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Basics of Likelih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5160" y="2362320"/>
            <a:ext cx="81860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data consists of two parts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he 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f the data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s the product of the likelih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f each of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676520" y="3886200"/>
          <a:ext cx="609588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0958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8"/>
          <p:cNvSpPr/>
          <p:nvPr/>
        </p:nvSpPr>
        <p:spPr>
          <a:xfrm>
            <a:off x="3840480" y="53341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 point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278760" y="53341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 point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648320" y="449568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 flipH="1" flipV="1">
            <a:off x="6552720" y="457200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C98-CD44-464A-A4CB-E2F5440CB8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183600" y="3352680"/>
            <a:ext cx="877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deterministic (model) relationship between the inp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variables (covariates) and the (expected)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ow the data pertain to the model prediction –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ampling” distribution (in this case normal), i.e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ahoma"/>
              </a:rPr>
              <a:t>Further Likelihood Considerations-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3048120" y="4241880"/>
          <a:ext cx="233496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241880"/>
                    <a:ext cx="23349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-24120" y="220968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o compute the likelihood for a given set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arameters we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2971800" y="5638680"/>
          <a:ext cx="266400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638680"/>
                    <a:ext cx="26640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0"/>
          <p:cNvSpPr/>
          <p:nvPr/>
        </p:nvSpPr>
        <p:spPr>
          <a:xfrm>
            <a:off x="2196000" y="632448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Model 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410080" y="6308640"/>
            <a:ext cx="70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4038480" y="5943600"/>
            <a:ext cx="4572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3"/>
          <p:cNvSpPr/>
          <p:nvPr/>
        </p:nvSpPr>
        <p:spPr>
          <a:xfrm flipH="1" flipV="1">
            <a:off x="4876920" y="5943600"/>
            <a:ext cx="76176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9C7-F615-4A47-AFFF-53ECD3047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9"/>
          <p:cNvSpPr/>
          <p:nvPr/>
        </p:nvSpPr>
        <p:spPr>
          <a:xfrm>
            <a:off x="2454840" y="380988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dnorm(observed, expected, sig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ahoma"/>
              </a:rPr>
              <a:t>Further Likelihood Considerations-I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438280" y="2590920"/>
          <a:ext cx="266400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90920"/>
                    <a:ext cx="266400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4"/>
          <p:cNvSpPr/>
          <p:nvPr/>
        </p:nvSpPr>
        <p:spPr>
          <a:xfrm>
            <a:off x="604080" y="20574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 R, the te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5400" y="327672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s evaluated using the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41160" y="54864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r in 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33800" y="4343400"/>
            <a:ext cx="67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full likelihood is the product over all 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Object 12"/>
          <p:cNvGraphicFramePr/>
          <p:nvPr/>
        </p:nvGraphicFramePr>
        <p:xfrm>
          <a:off x="2514600" y="4800600"/>
          <a:ext cx="311940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800600"/>
                    <a:ext cx="31194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4"/>
          <p:cNvSpPr/>
          <p:nvPr/>
        </p:nvSpPr>
        <p:spPr>
          <a:xfrm>
            <a:off x="1659240" y="5943600"/>
            <a:ext cx="56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dnorm(observed_vector, expected_vector, sig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6217-4D1E-4126-8245-366B252F56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Back to our original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371600" y="30481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pred_vec &lt;- Linfs[II]*(1-exp(-Kappa[II]*age_ve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likelihood &lt;- prod(dnorm(len_vec, pred_vec, sigm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print(likelihoo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-71640" y="2362320"/>
            <a:ext cx="89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e can compare the four parameters choices using th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271160" y="4343400"/>
            <a:ext cx="2209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4.82e-14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2.74e-8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2.744-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3.64e-8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3200040" y="53341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1000" y="50626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est (so f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3709-DB07-4EB1-B9A8-66ACFD27C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Over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Given a data 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the underlying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the uncertainty of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lect a model for how the data differ from the expected values for the data given the model (this selection depends on how the data were collect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rite the likelihood for one data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ultiply the likelihoods across all data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ind the values for the parameters which maximize the likelihood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0AB4-5A45-4644-B9C2-7BEE0234A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97640" y="2057400"/>
            <a:ext cx="812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et the probability of “jumping” be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(and hence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obability of not “jumping” be (1-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)). The probability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30 “jumps” and 20 “non-jumps” is then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</a:rPr>
              <a:t>3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1-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ssuming “jumps” and “non-jumps” are independent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1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6" name="Object 12"/>
          <p:cNvGraphicFramePr/>
          <p:nvPr/>
        </p:nvGraphicFramePr>
        <p:xfrm>
          <a:off x="1295280" y="4191120"/>
          <a:ext cx="609624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60962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14"/>
          <p:cNvSpPr/>
          <p:nvPr/>
        </p:nvSpPr>
        <p:spPr>
          <a:xfrm>
            <a:off x="281520" y="5410080"/>
            <a:ext cx="83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* This is assumption is actually very important – will it b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valid – when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975-1025-482E-A72F-5A7F0943C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0680" y="2057400"/>
            <a:ext cx="808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et the probability of “jumping” be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(and hence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obability of not “jumping” be (1-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)). The probability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30 “jumps” and 20 “non-jumps” is then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</a:rPr>
              <a:t>3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1-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ssuming “jumps” and “non-jumps” are independ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leads to the following likelihood fun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1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600200" y="4495680"/>
          <a:ext cx="29876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95680"/>
                    <a:ext cx="2987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144720" y="5105520"/>
            <a:ext cx="85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e refer to the value for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hich maximizes the likelih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unction as 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aximum likelihood estimat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enote it as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2438280" y="5816520"/>
          <a:ext cx="3812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5816520"/>
                    <a:ext cx="381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9FD8-7165-49A7-92C4-99B2086D33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1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94120" y="2286000"/>
            <a:ext cx="87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hat assumptions did I make when said that the likelih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unctions w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2819520" y="3276720"/>
          <a:ext cx="2385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2385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5AD-7B10-4AD7-9AD7-D76888DCA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1 (Part 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rcRect l="0" t="0" r="50750" b="50882"/>
          <a:stretch/>
        </p:blipFill>
        <p:spPr>
          <a:xfrm>
            <a:off x="5257800" y="1523880"/>
            <a:ext cx="3733920" cy="3714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76320" y="2209680"/>
            <a:ext cx="4952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n R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b &lt;- seq(from=0.01,to=0.99,by=0.0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ke &lt;- Probs^30*(1-Probs)^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lot(Prob,lik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65160" y="4419720"/>
            <a:ext cx="5116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e can find the MLE in 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best &lt;- which(Like==max(Like),arr.ind=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nt(Probs[Ibest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9D1-65E6-487F-8C53-64E991B908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-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36560" y="2057400"/>
            <a:ext cx="757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You monitor an intersection for cars which “jump”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d light. Based on 50 days of observation, you det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30 days on which “light jumping” took place. You repeat the “experiment” after a red light camera is installed and now observe 10 days on which “jumping” occur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17800" y="4267080"/>
            <a:ext cx="867996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hat is the probability of “light jumping” before the camer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as install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Has the probability of “light jumping” changed significantl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8A4-0F69-48F1-90D1-AD2EC37F83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Negative log-likeliho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914400" y="4495680"/>
          <a:ext cx="3433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495680"/>
                    <a:ext cx="3433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4"/>
          <p:cNvSpPr/>
          <p:nvPr/>
        </p:nvSpPr>
        <p:spPr>
          <a:xfrm>
            <a:off x="88200" y="2133720"/>
            <a:ext cx="869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ather than working with likelihoods we often work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gative log-likelihoods. Therefore, rather than maximiz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ikelihood, we minimize the negative log-likelihood 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leads to same point estim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rcRect l="0" t="0" r="50750" b="50882"/>
          <a:stretch/>
        </p:blipFill>
        <p:spPr>
          <a:xfrm>
            <a:off x="5410080" y="3179880"/>
            <a:ext cx="3468960" cy="344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276480" y="55627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stimate of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   , is again 0.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Object 10"/>
          <p:cNvGraphicFramePr/>
          <p:nvPr/>
        </p:nvGraphicFramePr>
        <p:xfrm>
          <a:off x="2819520" y="5562720"/>
          <a:ext cx="38088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5562720"/>
                    <a:ext cx="380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7F8-5B06-41B4-B784-8E4528F41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6560" y="205740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blow time for a given whale species is Poisson-distributed and it is “known” that the average length of a blow for males and females is different. We monitor a population and find the following distribution of blow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0" r="50750" b="50882"/>
          <a:stretch/>
        </p:blipFill>
        <p:spPr>
          <a:xfrm>
            <a:off x="3009960" y="3738600"/>
            <a:ext cx="2857320" cy="28414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0E8-AFEB-40F3-B517-660118995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6560" y="205740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blow time for a given whale species is Poisson-distributed and it is “known” that the average length of a blow for males and females is different. We monitor a population and find the following distribution of blow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28920" y="4191120"/>
            <a:ext cx="8413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hat is the fraction of females in the population (females ha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longer blow time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an we conclude that females and males really do differ in me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length of bl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D91-C11B-4D7E-9345-C684A6CA1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36560" y="1968480"/>
            <a:ext cx="757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ength of a fish is related to its age according to the von Bertalanffy growth cur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elow find some data for a random f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43000" y="3666960"/>
            <a:ext cx="6553080" cy="6543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1374840" y="2819520"/>
          <a:ext cx="251136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4840" y="2819520"/>
                    <a:ext cx="2511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8"/>
          <p:cNvGraphicFramePr/>
          <p:nvPr/>
        </p:nvGraphicFramePr>
        <p:xfrm>
          <a:off x="5535720" y="2819520"/>
          <a:ext cx="162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5720" y="2819520"/>
                    <a:ext cx="162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9828-0892-408A-97CB-EE4B8BC56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36560" y="1968480"/>
            <a:ext cx="757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ength of a fish is related to its age according to the von Bertalanffy growth cur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1447920" y="2819520"/>
          <a:ext cx="251136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19520"/>
                    <a:ext cx="2511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5535720" y="2819520"/>
          <a:ext cx="162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5720" y="2819520"/>
                    <a:ext cx="162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7"/>
          <p:cNvSpPr/>
          <p:nvPr/>
        </p:nvSpPr>
        <p:spPr>
          <a:xfrm>
            <a:off x="163440" y="3809880"/>
            <a:ext cx="93902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stimate the parameters of this equation (what are they?)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males and females,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nd compute 95% confidence intervals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symptotic leng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an we conclude that the asymptotic sizes for females and ma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re the sa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4AB-30D5-4639-A5FA-995C75E72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Tahoma"/>
              </a:rPr>
              <a:t>What is Maximum Likelihood-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5960" y="2362320"/>
            <a:ext cx="903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aximum likelihood is a method (in fact THE optimal metho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 fitting a mathematical model to some data. “Fitting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volves estimating the values for the parameters of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81880" y="3889440"/>
            <a:ext cx="852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Examples of parameters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Question 1: The probability of “jumping” before and af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introduction of a ca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Question 2: The average blow rate for males and femal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d the proportion of fem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Question 3:     ,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for males and fem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2286000" y="5743440"/>
          <a:ext cx="380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74344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098B-6715-4E1A-8AAE-8CF3D023D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Tahoma"/>
              </a:rPr>
              <a:t>What is Maximum Likelihood-I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14400" y="2971800"/>
          <a:ext cx="251136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25113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"/>
          <p:cNvSpPr/>
          <p:nvPr/>
        </p:nvSpPr>
        <p:spPr>
          <a:xfrm>
            <a:off x="53640" y="228600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s, data and error distrib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Object 7"/>
          <p:cNvGraphicFramePr/>
          <p:nvPr/>
        </p:nvGraphicFramePr>
        <p:xfrm>
          <a:off x="5486400" y="2895480"/>
          <a:ext cx="162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895480"/>
                    <a:ext cx="162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9"/>
          <p:cNvSpPr/>
          <p:nvPr/>
        </p:nvSpPr>
        <p:spPr>
          <a:xfrm>
            <a:off x="360360" y="40384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838080" y="3504960"/>
            <a:ext cx="1526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1066680" y="3200400"/>
            <a:ext cx="1676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364920" y="4038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 flipV="1">
            <a:off x="1828800" y="3428640"/>
            <a:ext cx="190512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4"/>
          <p:cNvSpPr/>
          <p:nvPr/>
        </p:nvSpPr>
        <p:spPr>
          <a:xfrm flipH="1" flipV="1">
            <a:off x="2590560" y="3200400"/>
            <a:ext cx="1600200" cy="9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4343400" y="3276720"/>
            <a:ext cx="22860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760800" y="40384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7"/>
          <p:cNvSpPr/>
          <p:nvPr/>
        </p:nvSpPr>
        <p:spPr>
          <a:xfrm flipH="1" flipV="1">
            <a:off x="5714640" y="327636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18"/>
          <p:cNvSpPr/>
          <p:nvPr/>
        </p:nvSpPr>
        <p:spPr>
          <a:xfrm flipH="1" flipV="1">
            <a:off x="3428640" y="3276720"/>
            <a:ext cx="3352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-136440" y="4876920"/>
            <a:ext cx="86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n you explain this equation in wo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n you explain how the data “came to be” based on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qu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A47-2EFF-455C-B2CC-2BA0911FD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3399"/>
                </a:solidFill>
                <a:latin typeface="Tahoma"/>
              </a:rPr>
              <a:t>What is Maximum Likelihood-II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4960" y="2133720"/>
            <a:ext cx="86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iven a set of data, and a probability model, maxim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lihood chooses the values for the parameters that m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data “most likely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2684520" y="3530520"/>
          <a:ext cx="34876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4520" y="3530520"/>
                    <a:ext cx="3487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7"/>
          <p:cNvSpPr/>
          <p:nvPr/>
        </p:nvSpPr>
        <p:spPr>
          <a:xfrm>
            <a:off x="289080" y="4343400"/>
            <a:ext cx="863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ikelihood of the data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given the parameter(s)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p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s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obability of the data given the parameter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Probability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 knowing parameters -&gt; predict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Likelihood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 knowing data -&gt; parameter esti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817-130F-41E6-AA7A-88BA18CF77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00:23:14Z</dcterms:created>
  <dc:creator>Paul Boult</dc:creator>
  <dc:description/>
  <cp:keywords/>
  <dc:language>en-US</dc:language>
  <cp:lastModifiedBy>Punt, Andre (CMAR, Hobart)</cp:lastModifiedBy>
  <cp:lastPrinted>1998-05-27T11:59:50Z</cp:lastPrinted>
  <dcterms:modified xsi:type="dcterms:W3CDTF">2012-11-07T01:07:37Z</dcterms:modified>
  <cp:revision>266</cp:revision>
  <dc:subject/>
  <dc:title>Presentation Template</dc:title>
</cp:coreProperties>
</file>