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10800" y="4356000"/>
            <a:ext cx="5033880" cy="41306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43000" y="69336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0800" y="4356000"/>
            <a:ext cx="5033880" cy="41306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0DE-FEA3-435A-A5E8-65D1C142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589-2E2B-454C-B18F-D7CB4AA3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E7C-79D5-4162-A32E-EDBD56A8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A0C-1FF2-495A-AFD8-BCA66F3C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D3CF-C1B1-4318-BBE6-689F4C1A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3824-FCAD-4CCF-AEEE-3DB3C7F1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F364-8D91-4D73-8333-AAC09B5A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43F2-5881-4AD4-A5F0-F1496D4B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725C-A13B-41E9-8839-B3228B2D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40AC-ACB8-41CA-94E7-0746F35B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9D29-810D-4A5A-8552-26411C93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E31-4E52-4FBD-9025-C52EDAF2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7EE6-5870-4A7F-8450-2982C76F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7CC7-7825-4020-BAF6-6091DED2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A655-EC52-40DA-958F-6748AD79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C786-58BB-4959-BB70-3C3768F5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7EB7-C272-445E-A70C-BE26AF13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804-D90C-4FAB-BF94-C21B30E1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DA36-AB25-4EC4-98E1-788EF68E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9EB1-3841-4160-B859-8400E7EF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E52-18F7-4886-8603-7BA82EB2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A6E-9F9F-49D2-AEED-5A503A3E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B8DE-BBB1-44CA-96F9-2AF7C6D5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E98-C471-4CDD-9E2E-33BA177F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62120" y="175248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9B70-280D-43C7-85B4-B83B5FBB9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0" y="6324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990720"/>
            <a:ext cx="9009000" cy="1052280"/>
            <a:chOff x="0" y="990720"/>
            <a:chExt cx="9009000" cy="1052280"/>
          </a:xfrm>
        </p:grpSpPr>
        <p:grpSp>
          <p:nvGrpSpPr>
            <p:cNvPr id="50" name="Group 3"/>
            <p:cNvGrpSpPr/>
            <p:nvPr/>
          </p:nvGrpSpPr>
          <p:grpSpPr>
            <a:xfrm>
              <a:off x="290520" y="1098360"/>
              <a:ext cx="711360" cy="474480"/>
              <a:chOff x="290520" y="1098360"/>
              <a:chExt cx="711360" cy="47448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0520" y="10983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3560" y="10983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4360" y="1520640"/>
              <a:ext cx="737640" cy="474480"/>
              <a:chOff x="414360" y="1520640"/>
              <a:chExt cx="737640" cy="47448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4360" y="15206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3000" y="15206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14475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9907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18118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Text Box 18"/>
          <p:cNvSpPr/>
          <p:nvPr/>
        </p:nvSpPr>
        <p:spPr>
          <a:xfrm>
            <a:off x="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1282-CF74-41C5-B33A-2D1352BA513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4038120"/>
            <a:ext cx="7619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2128"/>
                </a:solidFill>
                <a:latin typeface="Tahoma"/>
              </a:rPr>
              <a:t>Fish 553; Lecture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965240" y="224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924120" y="2133720"/>
            <a:ext cx="740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ximum Likelihood Primer-I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Question 2 (Part 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5257800" cy="5243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4108680" y="5867280"/>
            <a:ext cx="494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is is a plot of the 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negative log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kelihood su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6"/>
          <p:cNvSpPr/>
          <p:nvPr/>
        </p:nvSpPr>
        <p:spPr>
          <a:xfrm flipH="1">
            <a:off x="2361960" y="3124080"/>
            <a:ext cx="327636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848480" y="2606760"/>
            <a:ext cx="357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minimum neg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og-likelih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84F5-B8D1-4A1E-91CE-A1938A8A2E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Question 2 (Part 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04920" y="1968480"/>
            <a:ext cx="4572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[1,]  0.050 2058.54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[2,]  0.075 1988.53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[3,]  0.100 1940.59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[4,]  0.125 1904.76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[5,]  0.150 1876.65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[6,]  0.175 1854.3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[7,]  0.200 1836.25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[8,]  0.225 1821.59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[9,]  0.250 1809.67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[10,]  0.275 1800.0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[11,]  0.300 1792.45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[12,]  0.325 1786.58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[13,]  0.350 1782.28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[14,]  0.375 1779.42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[15,]  0.400 1777.90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[16,]  0.425 1777.66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[17,]  0.450 1778.65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[18,]  0.475 1780.8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[19,]  0.500 1784.23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rcRect l="0" t="0" r="42288" b="42400"/>
          <a:stretch/>
        </p:blipFill>
        <p:spPr>
          <a:xfrm>
            <a:off x="4114800" y="1295280"/>
            <a:ext cx="4724280" cy="47037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3485880" y="5442120"/>
            <a:ext cx="563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ach point here is the minimu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gative log-likelihood over all val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 the blow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2C5F-874C-405F-B3DD-0AA70E201E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Remin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o apply Maximum Likelihood estim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dentify a model for the data (it must be a probability model of some sor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ode a function which calculates the likelihood (or negative log-likelihood) of the data given the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earch for the set of parameters which maximize the likelihood function (or minimize the negative of the log-likelihood fun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oday’s lecture was based on the grid search method – we will look at more efficient methods in the next lec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152E-33AD-49BE-B1FE-77C2B6C72D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736560" y="1968480"/>
            <a:ext cx="757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length of a fish is related to its age according to the von Bertalanffy growth cur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elow find some data for a random f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143000" y="3666960"/>
            <a:ext cx="6553080" cy="6543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1374840" y="2819520"/>
          <a:ext cx="2511360" cy="48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4840" y="2819520"/>
                    <a:ext cx="25113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6"/>
          <p:cNvGraphicFramePr/>
          <p:nvPr/>
        </p:nvGraphicFramePr>
        <p:xfrm>
          <a:off x="5535720" y="2819520"/>
          <a:ext cx="162720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35720" y="2819520"/>
                    <a:ext cx="162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EBE4-392C-4DC6-BB73-BCF60D6EDF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36560" y="1968480"/>
            <a:ext cx="757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length of a fish is related to its age according to the von Bertalanffy growth cur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1447920" y="2819520"/>
          <a:ext cx="251136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819520"/>
                    <a:ext cx="25113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"/>
          <p:cNvGraphicFramePr/>
          <p:nvPr/>
        </p:nvGraphicFramePr>
        <p:xfrm>
          <a:off x="5535720" y="2819520"/>
          <a:ext cx="1627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35720" y="2819520"/>
                    <a:ext cx="162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6"/>
          <p:cNvSpPr/>
          <p:nvPr/>
        </p:nvSpPr>
        <p:spPr>
          <a:xfrm>
            <a:off x="425520" y="3809880"/>
            <a:ext cx="8866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stimate the parameters of this equation for males and female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and compute 95% confidence intervals for asymptotic leng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Can we conclude that the asymptotic sizes for females and mal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are the sa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CCFA-ECB5-4E34-9D91-DBE1AC7060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Doing it yoursel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2017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ets look at Question 3 (Lect3b.dat). The columns are: sex: age, leng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ask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Read in the data and select the males (sex=1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Plot length against 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dentify a likelihood function for these data (hint: the errors are normal – look at </a:t>
            </a:r>
            <a:r>
              <a:rPr b="1" lang="en-AU" sz="2000" spc="-1" strike="noStrike">
                <a:solidFill>
                  <a:srgbClr val="000000"/>
                </a:solidFill>
                <a:latin typeface="Tahoma"/>
              </a:rPr>
              <a:t>dnorm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Use “grid search” to find the best estimates for     and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(assume that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=9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Report the negative log-likelihood corresponding to the maximum likelih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Plot the fit of the “best” model to the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629400" y="4343400"/>
          <a:ext cx="3808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343400"/>
                    <a:ext cx="380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E829-94AD-4AAE-929B-7DD14E3DC8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And final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5643000" y="3276720"/>
            <a:ext cx="292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 created this u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illed.conto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instead of pers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D768-9376-402A-A2E5-2D7DD8D093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Overview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Given a data s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elect a model for the underlying pro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elect a model for the uncertainty of the dat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elect a model for how the data differ from the expected values for the data given the model (this selection depends on how the data were collecte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rite the likelihood for one data poi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ultiply the likelihoods across all data poi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ind the values for the parameters which maximize the likelihood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550F-67F1-4666-8F0E-B0000B1092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736560" y="2057400"/>
            <a:ext cx="757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blow time for a given whale species is Poisson-distributed and it is “known” that the average length of a blow for males and females is different. We monitor a population and find the following distribution of blow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0" r="50750" b="50882"/>
          <a:stretch/>
        </p:blipFill>
        <p:spPr>
          <a:xfrm>
            <a:off x="3009960" y="3738600"/>
            <a:ext cx="2857320" cy="284148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6E96-2152-45AC-B0AC-EAB1C8163A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36560" y="2057400"/>
            <a:ext cx="757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blow time for a given whale species is Poisson-distributed and it is “known” that the average length of a blow for males and females is different. We monitor a population and find the following distribution of blow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28920" y="4191120"/>
            <a:ext cx="84132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What is the fraction of females in the population (females hav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longer blow times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Can we conclude that females and males really do differ in mea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length of blow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290C-81D1-493C-8A11-E7AA848758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7"/>
          <p:cNvSpPr/>
          <p:nvPr/>
        </p:nvSpPr>
        <p:spPr>
          <a:xfrm>
            <a:off x="238680" y="3505320"/>
            <a:ext cx="8651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w, an animal is either male or female and letting th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ean blow rate for males be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and that for females be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d assuming that the proportion of females is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Question 2 (Part 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1" name="Object 5"/>
          <p:cNvGraphicFramePr/>
          <p:nvPr/>
        </p:nvGraphicFramePr>
        <p:xfrm>
          <a:off x="3581280" y="2666880"/>
          <a:ext cx="205920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666880"/>
                    <a:ext cx="20592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4"/>
          <p:cNvSpPr/>
          <p:nvPr/>
        </p:nvSpPr>
        <p:spPr>
          <a:xfrm>
            <a:off x="492480" y="2209680"/>
            <a:ext cx="40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Poisson distribution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Object 8"/>
          <p:cNvGraphicFramePr/>
          <p:nvPr/>
        </p:nvGraphicFramePr>
        <p:xfrm>
          <a:off x="2089080" y="4952880"/>
          <a:ext cx="498492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9080" y="4952880"/>
                    <a:ext cx="498492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F3B4-8A1A-4AED-8BE0-A97580F27F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Question 2 (Part 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In Englis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n animal is selected at random; the probability it is male is </a:t>
            </a:r>
            <a:r>
              <a:rPr b="0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blow rate is generated given the appropriate Poisson distribu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3F49-1A22-41C2-9F40-98DD9A5313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Question 2 (Part 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Object 5"/>
          <p:cNvGraphicFramePr/>
          <p:nvPr/>
        </p:nvGraphicFramePr>
        <p:xfrm>
          <a:off x="1609560" y="2895480"/>
          <a:ext cx="581688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2895480"/>
                    <a:ext cx="58168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331920" y="2286000"/>
            <a:ext cx="45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likelihood function is th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2840" y="4267080"/>
            <a:ext cx="793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is looks pretty complicated but R is there to help u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dpois(x,lambda) 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Object 8"/>
          <p:cNvGraphicFramePr/>
          <p:nvPr/>
        </p:nvGraphicFramePr>
        <p:xfrm>
          <a:off x="3352680" y="4800600"/>
          <a:ext cx="20592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800600"/>
                    <a:ext cx="2059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DEBE-2F1D-4EC4-BCEE-2923AB8328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Question 2 (Part 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28600" y="1905120"/>
            <a:ext cx="8610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TheData &lt;- matrix(scan("C:\\Lect3a.dat",skip=1),byrow=T,ncol=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TheData &lt;- TheData[,2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Blow1 &lt;- seq(from=1,to=40,by=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Blow2 &lt;- seq(from=1,to=60,by=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Likes &lt;- matrix(0,nrow=length(Blow1),ncol=length(Blow2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for (ii in 1:length(Blow1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for (jj in 1:length(Blow2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LikeOut &lt;- Propn*dpois(TheData,Blow1[ii])+(1-Propn)*dpois(TheData,Blow2[jj]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Likes[ii,jj] &lt;- -1*sum(log(LikeOut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par(mfrow=c(1,1));  persp(x=Blow1,y=Blow2,z=Like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Ibest &lt;- which(Likes==min(Likes),arr.ind=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cat(Propn,Blow1[Ibest[1]],Blow2[Ibest[2]],min(Likes),"\n"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253200" y="2362320"/>
            <a:ext cx="26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Tahoma"/>
              </a:rPr>
              <a:t>This is all GIV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Tahoma"/>
              </a:rPr>
              <a:t>a value for Prop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F8C6-587F-4A07-AC9C-5F38D46049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Question 2 (Part 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-159120" y="2286000"/>
            <a:ext cx="89024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tes on the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dpois is taking a vector and returning a vec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ersp is producing a 3d plo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best is now a vector and not a sca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e are computing the negative log-likelih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You can create a function which takes “propn”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eturns the lowest value of the negative log-likelih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D812-12EF-4E4E-9104-2683FC30EA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3T00:23:14Z</dcterms:created>
  <dc:creator>Paul Boult</dc:creator>
  <dc:description/>
  <cp:keywords/>
  <dc:language>en-US</dc:language>
  <cp:lastModifiedBy>Punt, Andre (CMAR, Hobart)</cp:lastModifiedBy>
  <cp:lastPrinted>1998-05-27T11:59:50Z</cp:lastPrinted>
  <dcterms:modified xsi:type="dcterms:W3CDTF">2012-11-07T01:08:35Z</dcterms:modified>
  <cp:revision>265</cp:revision>
  <dc:subject/>
  <dc:title>Presentation Template</dc:title>
</cp:coreProperties>
</file>