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72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7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910800" y="4356000"/>
            <a:ext cx="5033880" cy="41306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ldImg"/>
          </p:nvPr>
        </p:nvSpPr>
        <p:spPr>
          <a:xfrm>
            <a:off x="1143000" y="69336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0800" y="4356000"/>
            <a:ext cx="5033880" cy="41306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DC19-EB1D-41D0-832B-7AA357295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FD96-E99B-49E3-B3A4-2F2F74F5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7509-899A-4183-9B51-6C59DD6B0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5DC4-E90E-46AD-AF5B-A36949CF9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51AB-5B86-4620-AA92-27C07F4D7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E24D-FE11-4059-A032-F662D15B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294D-5EDA-4D0F-9F85-48AB31E0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AD34-C9BC-40BD-BC47-B4349F44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78E0-D4CE-43CB-9CED-8D7BEBA4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593F-F59A-4FEB-BE01-F7A6091E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07AF-8523-4472-AA00-E37D7DAB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F1A8-33E6-4C16-953A-12774F29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12B0-AE27-4A37-9824-F0CBFFA7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38B3-18F7-4D01-A81E-B3FFD53D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BF51-01C4-4018-94A3-54B815CB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3475-CAB6-4F32-AA8D-6AFD38908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9124-D272-43CE-91FE-EF48AA7D5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94FF-EDF9-4701-86F3-91DCC15A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D4D7-82D8-460C-8537-776C8ED0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BADB-8980-42C4-9613-6CDA7E7E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40FF-ED15-4A8A-944D-30CDE785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70F4-5EFA-4BDF-8E7D-A130C195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E3A2-5298-42D7-A3C2-D8AAB847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C128-0B8F-4F1D-97DD-8C8C4259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62120" y="1752480"/>
            <a:ext cx="8226360" cy="3204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4413-E8B6-4554-A827-0F1D6DC6A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Text Box 14"/>
          <p:cNvSpPr/>
          <p:nvPr/>
        </p:nvSpPr>
        <p:spPr>
          <a:xfrm>
            <a:off x="0" y="6324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5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990720"/>
            <a:ext cx="9009000" cy="1052280"/>
            <a:chOff x="0" y="990720"/>
            <a:chExt cx="9009000" cy="1052280"/>
          </a:xfrm>
        </p:grpSpPr>
        <p:grpSp>
          <p:nvGrpSpPr>
            <p:cNvPr id="50" name="Group 3"/>
            <p:cNvGrpSpPr/>
            <p:nvPr/>
          </p:nvGrpSpPr>
          <p:grpSpPr>
            <a:xfrm>
              <a:off x="290520" y="1098360"/>
              <a:ext cx="711360" cy="474480"/>
              <a:chOff x="290520" y="1098360"/>
              <a:chExt cx="711360" cy="47448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0520" y="109836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3560" y="10983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4360" y="1520640"/>
              <a:ext cx="737640" cy="474480"/>
              <a:chOff x="414360" y="1520640"/>
              <a:chExt cx="737640" cy="47448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4360" y="152064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3000" y="15206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14475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99072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18118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Text Box 18"/>
          <p:cNvSpPr/>
          <p:nvPr/>
        </p:nvSpPr>
        <p:spPr>
          <a:xfrm>
            <a:off x="0" y="6248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5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6523-6634-4F43-B5C6-CF85EA437A8F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1980720"/>
            <a:ext cx="8763120" cy="221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4038120"/>
            <a:ext cx="76197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32128"/>
                </a:solidFill>
                <a:latin typeface="Tahoma"/>
              </a:rPr>
              <a:t>Fish 553; Lecture 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965240" y="224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469960" y="2133720"/>
            <a:ext cx="435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timization in 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Intermission – Example 3-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201960" y="2133720"/>
            <a:ext cx="803376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stimate the values for    ,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from the age an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growth 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Hints-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reate vectors with the age, sex, and length 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reate a function which takes values for th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arameters as well as the data, and computes t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gative log-likeliho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en-AU" sz="1800" spc="-1" strike="noStrike">
                <a:solidFill>
                  <a:srgbClr val="000000"/>
                </a:solidFill>
                <a:latin typeface="Tahoma"/>
              </a:rPr>
              <a:t>LL4 &lt;- function(Linf1,Kappa1,Linf2,Kappa2,Sigma,Age,Length,Sex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1" lang="en-AU" sz="2400" spc="-1" strike="noStrike">
                <a:solidFill>
                  <a:srgbClr val="000000"/>
                </a:solidFill>
                <a:latin typeface="Tahoma"/>
              </a:rPr>
              <a:t>mle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o find the maximum likelihood estim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2" name="Object 5"/>
          <p:cNvGraphicFramePr/>
          <p:nvPr/>
        </p:nvGraphicFramePr>
        <p:xfrm>
          <a:off x="3581280" y="2209680"/>
          <a:ext cx="33840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2209680"/>
                    <a:ext cx="3384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Slide Number Placeholder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CB6B-FB5C-41BC-86EA-EEA727CA3D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Intermission – Example 3-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745200" y="2286000"/>
            <a:ext cx="6712200" cy="25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Hints-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o extract all ages for animals of sex = 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1800" spc="-1" strike="noStrike">
                <a:solidFill>
                  <a:srgbClr val="000000"/>
                </a:solidFill>
                <a:latin typeface="Tahoma"/>
              </a:rPr>
              <a:t>AgeUse &lt;- Age[Sex==1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ce lower bounds of 0.001 on all of th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Slide Number Placeholder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90FB-FD45-4CEC-BB8F-8E6225414D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Hints for optim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Consider different parameterizations (e.g. log(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) rather tha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s may work better if the variables are all scaled to approximately 1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ver trust a non-linear minimizer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different starting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e different methods (e.g. apply Simplex and then a conjugate gradient method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your code with data for which you know the correct answ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Slide Number Placeholder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5EB2-7AD2-4255-8B47-62184F59CC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The Optim Function-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762120" y="20574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le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function is based on the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optim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function. Opti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s called somewhat different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1083240" y="3276720"/>
            <a:ext cx="3414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ret5 &lt;- optim(par=c(10,10,0.4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                               </a:t>
            </a: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fn = LL3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lower=c(0.01,0.01,0.00001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upper=c(Inf,Inf,0.99999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method="L-BFGS-B"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print(ret5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5132160" y="3048120"/>
            <a:ext cx="19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nitial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5158440" y="373392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Line 9"/>
          <p:cNvSpPr/>
          <p:nvPr/>
        </p:nvSpPr>
        <p:spPr>
          <a:xfrm flipH="1">
            <a:off x="4419720" y="3276720"/>
            <a:ext cx="83808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Line 10"/>
          <p:cNvSpPr/>
          <p:nvPr/>
        </p:nvSpPr>
        <p:spPr>
          <a:xfrm flipH="1" flipV="1">
            <a:off x="4343400" y="3809880"/>
            <a:ext cx="914400" cy="152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Slide Number Placeholder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3DC8-98A8-4AF3-9EFD-07D0AF1CF7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762120" y="3200400"/>
            <a:ext cx="7772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LL3 &lt;- function(x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p &lt;- x[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lam1 &lt;- x[1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lam2 &lt;- x[2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LikeOut &lt;- p*dpois(Blows,lam1)+(1-p)*dpois(Blows,lam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NegLogLike &lt;- -1*sum(log(LikeOut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return(NegLogLike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The Optim Function-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112320" y="2286000"/>
            <a:ext cx="884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parameters are passed to the function being minimize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different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4559760" y="2971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arameter vec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Line 8"/>
          <p:cNvSpPr/>
          <p:nvPr/>
        </p:nvSpPr>
        <p:spPr>
          <a:xfrm flipH="1">
            <a:off x="2895120" y="3200400"/>
            <a:ext cx="16765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Slide Number Placeholder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5E33-516B-40DB-B8A7-163ED65434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What is Optimizatio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95760" y="2209680"/>
            <a:ext cx="9152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ptimization involves finding the values for the parameters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 function such that the function is minimized (or maximized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athematical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 us, the function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ill be the negative of the logarithm 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likelihood fun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0" name="Object 5"/>
          <p:cNvGraphicFramePr/>
          <p:nvPr/>
        </p:nvGraphicFramePr>
        <p:xfrm>
          <a:off x="3200400" y="3733920"/>
          <a:ext cx="2089080" cy="9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3733920"/>
                    <a:ext cx="208908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Slide Number Placeholder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0A60-C346-447D-B2E1-742A839EF2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The Optim/MLE routi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85680" y="2209680"/>
            <a:ext cx="814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AU" sz="2400" spc="-1" strike="noStrike">
                <a:solidFill>
                  <a:srgbClr val="000000"/>
                </a:solidFill>
                <a:latin typeface="Tahoma"/>
              </a:rPr>
              <a:t>optim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function is in the </a:t>
            </a:r>
            <a:r>
              <a:rPr b="1" lang="en-AU" sz="2400" spc="-1" strike="noStrike">
                <a:solidFill>
                  <a:srgbClr val="000000"/>
                </a:solidFill>
                <a:latin typeface="Tahoma"/>
              </a:rPr>
              <a:t>base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package and the </a:t>
            </a:r>
            <a:r>
              <a:rPr b="1" lang="en-AU" sz="2400" spc="-1" strike="noStrike">
                <a:solidFill>
                  <a:srgbClr val="000000"/>
                </a:solidFill>
                <a:latin typeface="Tahoma"/>
              </a:rPr>
              <a:t>mle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unction is in the </a:t>
            </a:r>
            <a:r>
              <a:rPr b="1" lang="en-AU" sz="2400" spc="-1" strike="noStrike">
                <a:solidFill>
                  <a:srgbClr val="000000"/>
                </a:solidFill>
                <a:latin typeface="Tahoma"/>
              </a:rPr>
              <a:t>stats4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package – I will focus on </a:t>
            </a:r>
            <a:r>
              <a:rPr b="1" lang="en-AU" sz="2400" spc="-1" strike="noStrike">
                <a:solidFill>
                  <a:srgbClr val="000000"/>
                </a:solidFill>
                <a:latin typeface="Tahoma"/>
              </a:rPr>
              <a:t>mle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ut we will also use </a:t>
            </a:r>
            <a:r>
              <a:rPr b="1" lang="en-AU" sz="2400" spc="-1" strike="noStrike">
                <a:solidFill>
                  <a:srgbClr val="000000"/>
                </a:solidFill>
                <a:latin typeface="Tahoma"/>
              </a:rPr>
              <a:t>optim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228600" y="373392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ll1 &lt;- function(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obj &lt;- (x-0.3)^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return(obj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ret1 &lt;- mle(ll1,start=list(x=1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print(summary(ret1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4141440" y="3657600"/>
            <a:ext cx="38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unction to be minim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4428360" y="4495680"/>
            <a:ext cx="310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nitial values for th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Line 8"/>
          <p:cNvSpPr/>
          <p:nvPr/>
        </p:nvSpPr>
        <p:spPr>
          <a:xfrm flipH="1">
            <a:off x="2666520" y="4724280"/>
            <a:ext cx="17528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Line 9"/>
          <p:cNvSpPr/>
          <p:nvPr/>
        </p:nvSpPr>
        <p:spPr>
          <a:xfrm flipH="1">
            <a:off x="2209680" y="3886200"/>
            <a:ext cx="198144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Slide Number Placeholder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DA40-6F75-49D9-B134-5AFEE328A6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Some options for MLE-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569160" y="2514600"/>
            <a:ext cx="7891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ahoma"/>
              </a:rPr>
              <a:t>mle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Func, start=list(), method, lower, upp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Tahoma"/>
              </a:rPr>
              <a:t>Func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– function to be minim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Tahoma"/>
              </a:rPr>
              <a:t>start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– initial values for the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– method for minimization (e.g. “L-BFGS-B”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lder-Mead”, “BFGS”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Tahoma"/>
              </a:rPr>
              <a:t>lower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– lower bounds for the variables (including –In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Tahoma"/>
              </a:rPr>
              <a:t>upper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- upper bounds for the variables (including In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Slide Number Placeholder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2F7B-5E55-4B92-B7E2-7EBE2FC38C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Options for M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23640" y="2971800"/>
            <a:ext cx="876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LE has other options to help control how the minim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orks, but you should not have to use thes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Slide Number Placeholder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EB7F-B0E0-4875-953A-3AF074C393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Example 1 - revisit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09480" y="220968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LL2 &lt;- function(p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obj &lt;- -1*30*log(p)-20*log(1-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return(obj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ret2 &lt;- mle(LL2,start=list(p=0.1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lower=c(0.00001),upper=c(0.999999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method="L-BFGS-B"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print(summary(ret2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696200" y="2057400"/>
            <a:ext cx="29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Negative log-likelihoo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Line 6"/>
          <p:cNvSpPr/>
          <p:nvPr/>
        </p:nvSpPr>
        <p:spPr>
          <a:xfrm flipH="1">
            <a:off x="4114440" y="2286000"/>
            <a:ext cx="6858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4180680" y="4724280"/>
            <a:ext cx="42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Method” must be L-BFGS-B if yo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want to bound the parame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Slide Number Placeholder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A337-9EBB-4BC0-B858-A1157A7078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Example 2 - revisit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152280" y="2286000"/>
            <a:ext cx="7772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LL3 &lt;- function(lam1,lam2,p,Blow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LikeOut &lt;- p*dpois(Blows,lam1)+(1-p)*dpois(Blows,lam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NegLogLike &lt;- -1*sum(log(LikeOut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return(NegLogLik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TheData &lt;- matrix(scan("Lect3a.dat",skip=1),byrow=T,ncol=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Blows &lt;- TheData[,2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ret3 &lt;- mle(LL3,start=list(lam1=10,lam2=10,p=0.4),fixed=list(Blows=Blows),lower=c(0.01,0.01,0.00001),upper=c(Inf,Inf,0.99999),method="L-BFGS-B"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print(summary(ret3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Slide Number Placeholder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22B4-A127-4E00-8593-F8ADB5C739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Dissecting Example 2-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457200" y="2743200"/>
            <a:ext cx="784872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LL3 &lt;- function(lam1,lam2,p,Blow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LikeOut &lt;- p*dpois(Blows,lam1)+(1-p)*dpois(Blows,lam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NegLogLike &lt;- -1*sum(log(LikeOut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return(NegLogLik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1577160" y="198108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4470480" y="205740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2057400" y="2362320"/>
            <a:ext cx="3049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Line 9"/>
          <p:cNvSpPr/>
          <p:nvPr/>
        </p:nvSpPr>
        <p:spPr>
          <a:xfrm>
            <a:off x="2666880" y="2362320"/>
            <a:ext cx="3049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Line 10"/>
          <p:cNvSpPr/>
          <p:nvPr/>
        </p:nvSpPr>
        <p:spPr>
          <a:xfrm>
            <a:off x="3048120" y="2438280"/>
            <a:ext cx="3045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Line 11"/>
          <p:cNvSpPr/>
          <p:nvPr/>
        </p:nvSpPr>
        <p:spPr>
          <a:xfrm flipH="1">
            <a:off x="3962520" y="243828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6036120" y="4419720"/>
            <a:ext cx="297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is is a vector 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kelihoods for ea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data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Line 13"/>
          <p:cNvSpPr/>
          <p:nvPr/>
        </p:nvSpPr>
        <p:spPr>
          <a:xfrm flipH="1" flipV="1">
            <a:off x="5257800" y="3886200"/>
            <a:ext cx="99072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1767960" y="5410080"/>
            <a:ext cx="502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is is the negati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og-likelihood (sum over negati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og-likelihoods for each datu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Line 15"/>
          <p:cNvSpPr/>
          <p:nvPr/>
        </p:nvSpPr>
        <p:spPr>
          <a:xfrm flipH="1" flipV="1">
            <a:off x="2971800" y="4495320"/>
            <a:ext cx="990720" cy="838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6355080" y="1828800"/>
            <a:ext cx="2547360" cy="155700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Tahoma"/>
              </a:rPr>
              <a:t>Hint! If yo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Tahoma"/>
              </a:rPr>
              <a:t>don’t know wh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Tahoma"/>
              </a:rPr>
              <a:t>a line does –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Tahoma"/>
              </a:rPr>
              <a:t>add a “print”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Slide Number Placeholder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DD5C-EDE0-4E98-98D6-F7BD48811F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Dissecting Example 2-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774360" y="2209680"/>
            <a:ext cx="5112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et3 &lt;- mle(LL3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=list(lam1=10,lam2=10,p=0.4)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ixed=list(Blows=Blows)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ower=c(0.01,0.01,0.00001)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upper=c(Inf,Inf,0.99999)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ethod="L-BFGS-B"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6510960" y="2133720"/>
            <a:ext cx="18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Starting valu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(must be a lis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Line 6"/>
          <p:cNvSpPr/>
          <p:nvPr/>
        </p:nvSpPr>
        <p:spPr>
          <a:xfrm flipH="1">
            <a:off x="5334120" y="2438280"/>
            <a:ext cx="121896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6401160" y="3581280"/>
            <a:ext cx="175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(must be a lis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Line 8"/>
          <p:cNvSpPr/>
          <p:nvPr/>
        </p:nvSpPr>
        <p:spPr>
          <a:xfrm flipH="1">
            <a:off x="4267080" y="396252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Line 9"/>
          <p:cNvSpPr/>
          <p:nvPr/>
        </p:nvSpPr>
        <p:spPr>
          <a:xfrm flipH="1" flipV="1">
            <a:off x="4724280" y="4648320"/>
            <a:ext cx="182880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Line 10"/>
          <p:cNvSpPr/>
          <p:nvPr/>
        </p:nvSpPr>
        <p:spPr>
          <a:xfrm flipH="1">
            <a:off x="4647960" y="5105520"/>
            <a:ext cx="190476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6424200" y="4572000"/>
            <a:ext cx="202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Upper 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lower bounds f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each parame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Slide Number Placeholder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F575-CA39-4DB8-8E6F-947A6A3FBF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3T00:23:14Z</dcterms:created>
  <dc:creator>Paul Boult</dc:creator>
  <dc:description/>
  <cp:keywords/>
  <dc:language>en-US</dc:language>
  <cp:lastModifiedBy>Punt, Andre (CMAR, Hobart)</cp:lastModifiedBy>
  <cp:lastPrinted>1998-05-27T11:59:50Z</cp:lastPrinted>
  <dcterms:modified xsi:type="dcterms:W3CDTF">2012-11-13T00:19:52Z</dcterms:modified>
  <cp:revision>259</cp:revision>
  <dc:subject/>
  <dc:title>Presentation Template</dc:title>
</cp:coreProperties>
</file>