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855F-3BEA-4C4F-89B2-0163819AA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aftern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o talk with you about my CSS497 work on the AgentTeamwork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bile-agent-based grid-computing project, funded by NSF, under the direction of Prof. Fukuda.  Also Shinya Kobayashi, Koichi Kashiwagi (Dept. of Computer Science, Ehime University, Japa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a brief introduction to GridComputing and AgentTeam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f you have probably taken CSS434, and/or attended Prof. Fukuda’s recent presentation, and are familiar with this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rid-computing packages, focusing on different aspects of grid-compu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or, University of Wisconsin-Madison.  Mature package, emphasizing high-throughput computing (large amounts of CPU computational power over long period of tim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, Globus, Legion, Net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pite all these packages, grid-computing still has problems which limit its widespread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areas that AgentTeamwork seeks to focus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7F640-BCFD-4776-85B1-BD219076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FE8AD-6313-4E5F-81CC-41907C36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A3D07-09CC-4E9F-9DFD-E483381F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A03AC-B379-4664-B6A5-FE8EB482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7A99-D72D-4E8E-BDFF-8865294D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1B13-FB89-4E68-B3F0-73291B42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B2D8-8840-4BB9-9250-7319DC81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6D90-855F-44B9-850F-86087528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2E22-FC1F-4BCC-9B02-9604677B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557D-F776-45B1-AB3E-028AE0BC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76CA-6337-4DD4-A2E0-3F901FD3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3BDDE-2385-43F7-AFF3-9FCFE76D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4156-1D73-41B7-9D03-81946746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4A0F-0CAE-4EAE-8039-4C4027C2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9E37-F6A4-442A-A638-85AB823B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EAC5-8BBB-4318-AED6-6A2BA536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B024-46CA-4B89-A6ED-DA363F38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1C44D-91B7-4D1C-94D1-0469ACD9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11D0C-5B0A-4E38-89AC-81231810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EA568-CC4F-4CF6-989D-C5EEDAC0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C0221-70A0-431E-9F89-24E47A61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CA958-2E9D-45AA-BD0A-B8F7FD26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7191D-298E-4A74-97A4-366B20E5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55E33-D2E4-4303-B951-BE7156DD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B666-C9C2-4CD9-BBCB-02B91540F3D8}" type="slidenum">
              <a:rPr b="0" lang="en-US" sz="16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7856-478F-4C4C-AAC7-0FF1BABDDD91}" type="slidenum">
              <a:rPr b="0" lang="en-US" sz="16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-cluster Job Deployment by AgentTeamwork Sentinel 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ory Horv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S497 Spring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sor: Dr. Munehiro Fuk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-Cluster Job Re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" y="3886200"/>
            <a:ext cx="2438280" cy="2590920"/>
          </a:xfrm>
          <a:custGeom>
            <a:avLst/>
            <a:gdLst/>
            <a:ahLst/>
            <a:rect l="l" t="t" r="r" b="b"/>
            <a:pathLst>
              <a:path w="1536" h="1632">
                <a:moveTo>
                  <a:pt x="768" y="0"/>
                </a:moveTo>
                <a:lnTo>
                  <a:pt x="96" y="672"/>
                </a:lnTo>
                <a:lnTo>
                  <a:pt x="0" y="1632"/>
                </a:lnTo>
                <a:lnTo>
                  <a:pt x="1536" y="1632"/>
                </a:lnTo>
                <a:lnTo>
                  <a:pt x="1392" y="672"/>
                </a:lnTo>
                <a:lnTo>
                  <a:pt x="768" y="0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49528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952880" y="1523880"/>
            <a:ext cx="752760" cy="752400"/>
            <a:chOff x="4952880" y="1523880"/>
            <a:chExt cx="752760" cy="752400"/>
          </a:xfrm>
        </p:grpSpPr>
        <p:sp>
          <p:nvSpPr>
            <p:cNvPr id="456" name="computr1"/>
            <p:cNvSpPr/>
            <p:nvPr/>
          </p:nvSpPr>
          <p:spPr>
            <a:xfrm>
              <a:off x="4952880" y="1523880"/>
              <a:ext cx="752760" cy="75240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68440" y="154620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4038480" y="16002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a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24382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590920" y="33526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343400" y="40384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-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41148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23880" y="49528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66680" y="49528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001000" y="26668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ookkee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9480" y="26668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43400" y="2286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914040" y="2286000"/>
            <a:ext cx="3429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343400" y="2286000"/>
            <a:ext cx="3962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8000640" y="33526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8153280" y="33526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3352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05920" y="33526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3123720" y="31240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3520" y="579132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5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343400" y="312408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676160" y="3962520"/>
            <a:ext cx="1066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971800" y="40384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990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447560" y="4800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00200" y="4800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0020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838080" y="56386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9480" y="49528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3040" y="396252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uster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3352680" y="4724280"/>
            <a:ext cx="2290320" cy="1752840"/>
            <a:chOff x="3352680" y="4724280"/>
            <a:chExt cx="2290320" cy="1752840"/>
          </a:xfrm>
        </p:grpSpPr>
        <p:sp>
          <p:nvSpPr>
            <p:cNvPr id="487" name=""/>
            <p:cNvSpPr/>
            <p:nvPr/>
          </p:nvSpPr>
          <p:spPr>
            <a:xfrm>
              <a:off x="3352680" y="4800600"/>
              <a:ext cx="2210040" cy="1676520"/>
            </a:xfrm>
            <a:custGeom>
              <a:avLst/>
              <a:gdLst/>
              <a:ahLst/>
              <a:rect l="l" t="t" r="r" b="b"/>
              <a:pathLst>
                <a:path w="1392" h="1056">
                  <a:moveTo>
                    <a:pt x="624" y="0"/>
                  </a:moveTo>
                  <a:lnTo>
                    <a:pt x="48" y="672"/>
                  </a:lnTo>
                  <a:lnTo>
                    <a:pt x="0" y="864"/>
                  </a:lnTo>
                  <a:lnTo>
                    <a:pt x="144" y="1056"/>
                  </a:lnTo>
                  <a:lnTo>
                    <a:pt x="1296" y="1056"/>
                  </a:lnTo>
                  <a:lnTo>
                    <a:pt x="1392" y="864"/>
                  </a:lnTo>
                  <a:lnTo>
                    <a:pt x="1296" y="624"/>
                  </a:lnTo>
                  <a:lnTo>
                    <a:pt x="672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800600" y="57913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5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38480" y="495288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13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43400" y="57913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5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86200" y="57913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52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4419360" y="47242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3809880" y="5638680"/>
              <a:ext cx="5335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4267080" y="5638680"/>
              <a:ext cx="763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343400" y="563868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343400" y="5638680"/>
              <a:ext cx="8380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429000" y="57913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52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650120" y="5181480"/>
              <a:ext cx="99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uste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2208600" y="3048120"/>
            <a:ext cx="148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99"/>
                </a:solidFill>
                <a:latin typeface="Arial"/>
                <a:ea typeface="Arial"/>
              </a:rPr>
              <a:t>Cluster gateway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961080" y="3733920"/>
            <a:ext cx="148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99"/>
                </a:solidFill>
                <a:latin typeface="Arial"/>
                <a:ea typeface="Arial"/>
              </a:rPr>
              <a:t>Cluster gateway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105160" y="2971800"/>
            <a:ext cx="160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99"/>
                </a:solidFill>
                <a:latin typeface="Arial"/>
                <a:ea typeface="Arial"/>
              </a:rPr>
              <a:t>Desktop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638680" y="3352680"/>
            <a:ext cx="533520" cy="914400"/>
          </a:xfrm>
          <a:custGeom>
            <a:avLst/>
            <a:gdLst/>
            <a:ahLst/>
            <a:rect l="l" t="t" r="r" b="b"/>
            <a:pathLst>
              <a:path w="336" h="576">
                <a:moveTo>
                  <a:pt x="192" y="0"/>
                </a:moveTo>
                <a:lnTo>
                  <a:pt x="0" y="576"/>
                </a:lnTo>
                <a:lnTo>
                  <a:pt x="336" y="576"/>
                </a:lnTo>
                <a:lnTo>
                  <a:pt x="192" y="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600200" y="5791320"/>
            <a:ext cx="1218960" cy="685800"/>
            <a:chOff x="1600200" y="5791320"/>
            <a:chExt cx="1218960" cy="685800"/>
          </a:xfrm>
        </p:grpSpPr>
        <p:sp>
          <p:nvSpPr>
            <p:cNvPr id="504" name=""/>
            <p:cNvSpPr/>
            <p:nvPr/>
          </p:nvSpPr>
          <p:spPr>
            <a:xfrm>
              <a:off x="2133360" y="57913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600200" y="57913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457200" y="5867280"/>
            <a:ext cx="762120" cy="5335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114800"/>
            <a:ext cx="762120" cy="5335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6172200" y="3809880"/>
            <a:ext cx="2728080" cy="2667240"/>
            <a:chOff x="6172200" y="3809880"/>
            <a:chExt cx="2728080" cy="2667240"/>
          </a:xfrm>
        </p:grpSpPr>
        <p:sp>
          <p:nvSpPr>
            <p:cNvPr id="509" name=""/>
            <p:cNvSpPr/>
            <p:nvPr/>
          </p:nvSpPr>
          <p:spPr>
            <a:xfrm>
              <a:off x="6172200" y="4800600"/>
              <a:ext cx="2209680" cy="1676520"/>
            </a:xfrm>
            <a:custGeom>
              <a:avLst/>
              <a:gdLst/>
              <a:ahLst/>
              <a:rect l="l" t="t" r="r" b="b"/>
              <a:pathLst>
                <a:path w="1392" h="1056">
                  <a:moveTo>
                    <a:pt x="624" y="0"/>
                  </a:moveTo>
                  <a:lnTo>
                    <a:pt x="48" y="672"/>
                  </a:lnTo>
                  <a:lnTo>
                    <a:pt x="0" y="864"/>
                  </a:lnTo>
                  <a:lnTo>
                    <a:pt x="144" y="1056"/>
                  </a:lnTo>
                  <a:lnTo>
                    <a:pt x="1296" y="1056"/>
                  </a:lnTo>
                  <a:lnTo>
                    <a:pt x="1392" y="864"/>
                  </a:lnTo>
                  <a:lnTo>
                    <a:pt x="1296" y="624"/>
                  </a:lnTo>
                  <a:lnTo>
                    <a:pt x="672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19760" y="57913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162560" y="403848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u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58000" y="495288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62560" y="57913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705360" y="57913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7238520" y="47242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6629040" y="5638680"/>
              <a:ext cx="5331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7086240" y="5638680"/>
              <a:ext cx="759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162560" y="5638680"/>
              <a:ext cx="381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162560" y="5638680"/>
              <a:ext cx="8384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48160" y="57913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45960" y="5029200"/>
              <a:ext cx="135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a Clus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50920" y="3809880"/>
              <a:ext cx="1778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6699"/>
                  </a:solidFill>
                  <a:latin typeface="Arial"/>
                  <a:ea typeface="Arial"/>
                </a:rPr>
                <a:t>Extra Cluster gate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343080" y="5410080"/>
            <a:ext cx="1942560" cy="1270080"/>
            <a:chOff x="343080" y="5410080"/>
            <a:chExt cx="1942560" cy="1270080"/>
          </a:xfrm>
        </p:grpSpPr>
        <p:sp>
          <p:nvSpPr>
            <p:cNvPr id="524" name=""/>
            <p:cNvSpPr/>
            <p:nvPr/>
          </p:nvSpPr>
          <p:spPr>
            <a:xfrm>
              <a:off x="1600200" y="5791320"/>
              <a:ext cx="68544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3080" y="5410080"/>
              <a:ext cx="1257120" cy="1270080"/>
            </a:xfrm>
            <a:custGeom>
              <a:avLst/>
              <a:gdLst/>
              <a:ahLst/>
              <a:rect l="l" t="t" r="r" b="b"/>
              <a:pathLst>
                <a:path w="792" h="800">
                  <a:moveTo>
                    <a:pt x="168" y="0"/>
                  </a:moveTo>
                  <a:cubicBezTo>
                    <a:pt x="108" y="72"/>
                    <a:pt x="48" y="144"/>
                    <a:pt x="24" y="240"/>
                  </a:cubicBezTo>
                  <a:cubicBezTo>
                    <a:pt x="0" y="336"/>
                    <a:pt x="8" y="496"/>
                    <a:pt x="24" y="576"/>
                  </a:cubicBezTo>
                  <a:cubicBezTo>
                    <a:pt x="40" y="656"/>
                    <a:pt x="40" y="688"/>
                    <a:pt x="120" y="720"/>
                  </a:cubicBezTo>
                  <a:cubicBezTo>
                    <a:pt x="200" y="752"/>
                    <a:pt x="392" y="800"/>
                    <a:pt x="504" y="768"/>
                  </a:cubicBezTo>
                  <a:cubicBezTo>
                    <a:pt x="616" y="736"/>
                    <a:pt x="744" y="568"/>
                    <a:pt x="792" y="52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2857680" y="4038480"/>
            <a:ext cx="4305240" cy="2718000"/>
          </a:xfrm>
          <a:custGeom>
            <a:avLst/>
            <a:gdLst/>
            <a:ahLst/>
            <a:rect l="l" t="t" r="r" b="b"/>
            <a:pathLst>
              <a:path w="2712" h="1712">
                <a:moveTo>
                  <a:pt x="72" y="0"/>
                </a:moveTo>
                <a:cubicBezTo>
                  <a:pt x="36" y="208"/>
                  <a:pt x="0" y="416"/>
                  <a:pt x="24" y="672"/>
                </a:cubicBezTo>
                <a:cubicBezTo>
                  <a:pt x="48" y="928"/>
                  <a:pt x="8" y="1376"/>
                  <a:pt x="216" y="1536"/>
                </a:cubicBezTo>
                <a:cubicBezTo>
                  <a:pt x="424" y="1696"/>
                  <a:pt x="1008" y="1632"/>
                  <a:pt x="1272" y="1632"/>
                </a:cubicBezTo>
                <a:cubicBezTo>
                  <a:pt x="1536" y="1632"/>
                  <a:pt x="1656" y="1712"/>
                  <a:pt x="1800" y="1536"/>
                </a:cubicBezTo>
                <a:cubicBezTo>
                  <a:pt x="1944" y="1360"/>
                  <a:pt x="2024" y="800"/>
                  <a:pt x="2136" y="576"/>
                </a:cubicBezTo>
                <a:cubicBezTo>
                  <a:pt x="2248" y="352"/>
                  <a:pt x="2376" y="256"/>
                  <a:pt x="2472" y="192"/>
                </a:cubicBezTo>
                <a:cubicBezTo>
                  <a:pt x="2568" y="128"/>
                  <a:pt x="2640" y="160"/>
                  <a:pt x="2712" y="19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urrent &amp; Ongoing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Teamwork is an ongoing project, with parallel contributions by many other team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I to Java Socket enhancements, developed by Duncan Smith, were integr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 file I/O enhancements (Jumpei Miyauchi), and sensor agent enhancements (Jun Morisaki) were also integr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I am presenting now, I will be continuing on the project over the summ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ion of inter-cluster fault tolerance and job redeploy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ion of inter-cluster performance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ing Cuong Ngo as needed with the implementation of dynamic resource allo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or Fukuda, my advi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F Middleware Initi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W-Bothell CSS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 and other slide content contributed by Prof. Fukuda from earlier AgentTeamwork presentations and pap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rid Compu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 Computing seeks to pool together large numbers of computers, allowing unused CPU cycles to be shared for CPU-intensive ta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I@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b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installation and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gentTeam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ble Java-based grid computing platform, based on the mobile agent paradig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entralized architecture, without a central mana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installation and particip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with fault tolerance in m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ing computers run a Java process (UWPla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UWPlace can host one or more mobile agent Java processes (UWAge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FTP server hosts the list of available compu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gentTeamwork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74800" y="375444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590920" y="4602240"/>
            <a:ext cx="4190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191840" y="5364000"/>
            <a:ext cx="811800" cy="838440"/>
            <a:chOff x="4191840" y="5364000"/>
            <a:chExt cx="811800" cy="838440"/>
          </a:xfrm>
        </p:grpSpPr>
        <p:sp>
          <p:nvSpPr>
            <p:cNvPr id="123" name="tower"/>
            <p:cNvSpPr/>
            <p:nvPr/>
          </p:nvSpPr>
          <p:spPr>
            <a:xfrm>
              <a:off x="4241880" y="5364000"/>
              <a:ext cx="761760" cy="83844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91840" y="5592600"/>
              <a:ext cx="63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F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648320" y="521172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219320" y="4525920"/>
            <a:ext cx="752400" cy="752400"/>
            <a:chOff x="1219320" y="4525920"/>
            <a:chExt cx="752400" cy="752400"/>
          </a:xfrm>
        </p:grpSpPr>
        <p:sp>
          <p:nvSpPr>
            <p:cNvPr id="127" name="computr1"/>
            <p:cNvSpPr/>
            <p:nvPr/>
          </p:nvSpPr>
          <p:spPr>
            <a:xfrm>
              <a:off x="1219320" y="4525920"/>
              <a:ext cx="752400" cy="75240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60080" y="4573440"/>
              <a:ext cx="448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U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162920" y="4525920"/>
            <a:ext cx="752400" cy="752400"/>
            <a:chOff x="7162920" y="4525920"/>
            <a:chExt cx="752400" cy="752400"/>
          </a:xfrm>
        </p:grpSpPr>
        <p:sp>
          <p:nvSpPr>
            <p:cNvPr id="130" name="computr1"/>
            <p:cNvSpPr/>
            <p:nvPr/>
          </p:nvSpPr>
          <p:spPr>
            <a:xfrm>
              <a:off x="7162920" y="4525920"/>
              <a:ext cx="752400" cy="75240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3680" y="4573440"/>
              <a:ext cx="448920" cy="398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U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905120" y="4983120"/>
            <a:ext cx="609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4983120"/>
            <a:ext cx="533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52680" y="452592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4449600"/>
            <a:ext cx="1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02360" y="4471920"/>
            <a:ext cx="144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248520" y="5135400"/>
            <a:ext cx="1440" cy="35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5135400"/>
            <a:ext cx="1800" cy="4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38080" y="375444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rot="10800000">
            <a:off x="1218960" y="367812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64" y="24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398304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105000" y="3002040"/>
            <a:ext cx="511200" cy="533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270480" y="3002040"/>
            <a:ext cx="511200" cy="533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4781520" y="3002040"/>
            <a:ext cx="511200" cy="533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7870680" y="3754440"/>
            <a:ext cx="511200" cy="533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6934320" y="375444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rot="10800000">
            <a:off x="7314840" y="367812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64" y="24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91520" y="398304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2133720" y="5897520"/>
            <a:ext cx="511200" cy="533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6477120" y="5897520"/>
            <a:ext cx="511200" cy="53352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5553360" y="3002040"/>
            <a:ext cx="694440" cy="534960"/>
            <a:chOff x="5553360" y="3002040"/>
            <a:chExt cx="694440" cy="534960"/>
          </a:xfrm>
        </p:grpSpPr>
        <p:sp>
          <p:nvSpPr>
            <p:cNvPr id="152" name="Document"/>
            <p:cNvSpPr/>
            <p:nvPr/>
          </p:nvSpPr>
          <p:spPr>
            <a:xfrm>
              <a:off x="5781600" y="3002040"/>
              <a:ext cx="227160" cy="30456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53360" y="3290760"/>
              <a:ext cx="69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napsho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397600" y="3002040"/>
            <a:ext cx="694440" cy="534960"/>
            <a:chOff x="2397600" y="3002040"/>
            <a:chExt cx="694440" cy="534960"/>
          </a:xfrm>
        </p:grpSpPr>
        <p:sp>
          <p:nvSpPr>
            <p:cNvPr id="155" name="Document"/>
            <p:cNvSpPr/>
            <p:nvPr/>
          </p:nvSpPr>
          <p:spPr>
            <a:xfrm>
              <a:off x="2625840" y="3002040"/>
              <a:ext cx="227160" cy="30456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97600" y="3290760"/>
              <a:ext cx="69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napsho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277080" y="5791320"/>
            <a:ext cx="758160" cy="611280"/>
            <a:chOff x="3277080" y="5791320"/>
            <a:chExt cx="758160" cy="611280"/>
          </a:xfrm>
        </p:grpSpPr>
        <p:sp>
          <p:nvSpPr>
            <p:cNvPr id="158" name="Documents"/>
            <p:cNvSpPr/>
            <p:nvPr/>
          </p:nvSpPr>
          <p:spPr>
            <a:xfrm>
              <a:off x="3521160" y="5791320"/>
              <a:ext cx="284040" cy="38088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77080" y="6156360"/>
              <a:ext cx="75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napsho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258160" y="5791320"/>
            <a:ext cx="758160" cy="611280"/>
            <a:chOff x="5258160" y="5791320"/>
            <a:chExt cx="758160" cy="611280"/>
          </a:xfrm>
        </p:grpSpPr>
        <p:sp>
          <p:nvSpPr>
            <p:cNvPr id="161" name="Documents"/>
            <p:cNvSpPr/>
            <p:nvPr/>
          </p:nvSpPr>
          <p:spPr>
            <a:xfrm>
              <a:off x="5502240" y="5791320"/>
              <a:ext cx="284040" cy="38088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58160" y="6156360"/>
              <a:ext cx="75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napsho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computr1"/>
          <p:cNvSpPr/>
          <p:nvPr/>
        </p:nvSpPr>
        <p:spPr>
          <a:xfrm>
            <a:off x="2717640" y="5364000"/>
            <a:ext cx="752760" cy="752760"/>
          </a:xfrm>
          <a:prstGeom prst="pie">
            <a:avLst/>
          </a:prstGeom>
          <a:solidFill>
            <a:srgbClr val="eeeee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246400" y="2239920"/>
            <a:ext cx="1487520" cy="687600"/>
            <a:chOff x="2246400" y="2239920"/>
            <a:chExt cx="1487520" cy="687600"/>
          </a:xfrm>
        </p:grpSpPr>
        <p:sp>
          <p:nvSpPr>
            <p:cNvPr id="165" name=""/>
            <p:cNvSpPr/>
            <p:nvPr/>
          </p:nvSpPr>
          <p:spPr>
            <a:xfrm>
              <a:off x="2247840" y="2239920"/>
              <a:ext cx="1447920" cy="685800"/>
            </a:xfrm>
            <a:prstGeom prst="roundRect">
              <a:avLst>
                <a:gd name="adj" fmla="val 16667"/>
              </a:avLst>
            </a:prstGeom>
            <a:solidFill>
              <a:srgbClr val="dbdbdb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46400" y="2681280"/>
              <a:ext cx="144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User program wrapp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24160" y="2316240"/>
              <a:ext cx="6094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09960" y="2316240"/>
              <a:ext cx="6094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60440" y="2316240"/>
              <a:ext cx="76212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napsho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Metho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1800" y="2406600"/>
              <a:ext cx="76212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GridTC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24360" y="2239920"/>
            <a:ext cx="1447920" cy="685800"/>
          </a:xfrm>
          <a:prstGeom prst="roundRect">
            <a:avLst>
              <a:gd name="adj" fmla="val 16667"/>
            </a:avLst>
          </a:prstGeom>
          <a:solidFill>
            <a:srgbClr val="dbdbdb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22920" y="2681280"/>
            <a:ext cx="144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User program wra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86480" y="231624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00680" y="231624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22760" y="2316240"/>
            <a:ext cx="76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napsh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2520" y="2406600"/>
            <a:ext cx="76176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ridTC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599440" y="2239920"/>
            <a:ext cx="1486800" cy="687600"/>
            <a:chOff x="5599440" y="2239920"/>
            <a:chExt cx="1486800" cy="687600"/>
          </a:xfrm>
        </p:grpSpPr>
        <p:sp>
          <p:nvSpPr>
            <p:cNvPr id="178" name=""/>
            <p:cNvSpPr/>
            <p:nvPr/>
          </p:nvSpPr>
          <p:spPr>
            <a:xfrm>
              <a:off x="5600520" y="2239920"/>
              <a:ext cx="1447560" cy="685800"/>
            </a:xfrm>
            <a:prstGeom prst="roundRect">
              <a:avLst>
                <a:gd name="adj" fmla="val 16667"/>
              </a:avLst>
            </a:prstGeom>
            <a:solidFill>
              <a:srgbClr val="dbdbdb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99440" y="2681280"/>
              <a:ext cx="144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User program wrapp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76840" y="2316240"/>
              <a:ext cx="6091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62640" y="2316240"/>
              <a:ext cx="6091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13120" y="2316240"/>
              <a:ext cx="7617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napsho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Metho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24480" y="2406600"/>
              <a:ext cx="761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GridTC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912120" y="3002040"/>
            <a:ext cx="694440" cy="534960"/>
            <a:chOff x="3912120" y="3002040"/>
            <a:chExt cx="694440" cy="534960"/>
          </a:xfrm>
        </p:grpSpPr>
        <p:sp>
          <p:nvSpPr>
            <p:cNvPr id="185" name="Document"/>
            <p:cNvSpPr/>
            <p:nvPr/>
          </p:nvSpPr>
          <p:spPr>
            <a:xfrm>
              <a:off x="4140360" y="3002040"/>
              <a:ext cx="227160" cy="30456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12120" y="3290760"/>
              <a:ext cx="69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napsho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computr1"/>
          <p:cNvSpPr/>
          <p:nvPr/>
        </p:nvSpPr>
        <p:spPr>
          <a:xfrm>
            <a:off x="5724360" y="3849840"/>
            <a:ext cx="752760" cy="752400"/>
          </a:xfrm>
          <a:prstGeom prst="pie">
            <a:avLst/>
          </a:prstGeom>
          <a:solidFill>
            <a:srgbClr val="eeeee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1447920"/>
            <a:ext cx="639720" cy="63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User A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1447920"/>
            <a:ext cx="639720" cy="63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User A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19920" y="1447920"/>
            <a:ext cx="639720" cy="63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User B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590560" y="2055960"/>
            <a:ext cx="26028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930640" y="2062080"/>
            <a:ext cx="26028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2392200"/>
            <a:ext cx="990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3117600" y="2055960"/>
            <a:ext cx="158760" cy="33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267080" y="2068200"/>
            <a:ext cx="26064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38760" y="2036880"/>
            <a:ext cx="19044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1859040"/>
            <a:ext cx="105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C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Commun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221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Commander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96080" y="4221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Commander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72200" y="345924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ntinel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345924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ntinel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4221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Resource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computr1"/>
          <p:cNvSpPr/>
          <p:nvPr/>
        </p:nvSpPr>
        <p:spPr>
          <a:xfrm>
            <a:off x="4276800" y="3773520"/>
            <a:ext cx="752400" cy="752400"/>
          </a:xfrm>
          <a:prstGeom prst="pie">
            <a:avLst/>
          </a:prstGeom>
          <a:solidFill>
            <a:srgbClr val="eeeee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35035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ntinel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4221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Resource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91320" y="63244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Bookkeeper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63244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Bookkeeper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computr1"/>
          <p:cNvSpPr/>
          <p:nvPr/>
        </p:nvSpPr>
        <p:spPr>
          <a:xfrm>
            <a:off x="2819520" y="3840120"/>
            <a:ext cx="752400" cy="752400"/>
          </a:xfrm>
          <a:prstGeom prst="pie">
            <a:avLst/>
          </a:prstGeom>
          <a:solidFill>
            <a:srgbClr val="eeeee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computr1"/>
          <p:cNvSpPr/>
          <p:nvPr/>
        </p:nvSpPr>
        <p:spPr>
          <a:xfrm>
            <a:off x="5867280" y="5288040"/>
            <a:ext cx="752760" cy="752400"/>
          </a:xfrm>
          <a:prstGeom prst="pie">
            <a:avLst/>
          </a:prstGeom>
          <a:solidFill>
            <a:srgbClr val="eeeee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05920" y="460224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10280" y="4525920"/>
            <a:ext cx="1447920" cy="1676520"/>
          </a:xfrm>
          <a:custGeom>
            <a:avLst/>
            <a:gdLst/>
            <a:ahLst/>
            <a:rect l="l" t="t" r="r" b="b"/>
            <a:pathLst>
              <a:path w="1008" h="1296">
                <a:moveTo>
                  <a:pt x="864" y="0"/>
                </a:moveTo>
                <a:cubicBezTo>
                  <a:pt x="936" y="324"/>
                  <a:pt x="1008" y="648"/>
                  <a:pt x="864" y="864"/>
                </a:cubicBezTo>
                <a:cubicBezTo>
                  <a:pt x="720" y="1080"/>
                  <a:pt x="144" y="1224"/>
                  <a:pt x="0" y="1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4600" y="4602240"/>
            <a:ext cx="1765080" cy="1600200"/>
          </a:xfrm>
          <a:custGeom>
            <a:avLst/>
            <a:gdLst/>
            <a:ahLst/>
            <a:rect l="l" t="t" r="r" b="b"/>
            <a:pathLst>
              <a:path w="1160" h="1296">
                <a:moveTo>
                  <a:pt x="248" y="0"/>
                </a:moveTo>
                <a:cubicBezTo>
                  <a:pt x="124" y="324"/>
                  <a:pt x="0" y="648"/>
                  <a:pt x="152" y="864"/>
                </a:cubicBezTo>
                <a:cubicBezTo>
                  <a:pt x="304" y="1080"/>
                  <a:pt x="732" y="1188"/>
                  <a:pt x="1160" y="1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8720" y="3357720"/>
            <a:ext cx="2641680" cy="330120"/>
          </a:xfrm>
          <a:custGeom>
            <a:avLst/>
            <a:gdLst/>
            <a:ahLst/>
            <a:rect l="l" t="t" r="r" b="b"/>
            <a:pathLst>
              <a:path w="1664" h="208">
                <a:moveTo>
                  <a:pt x="224" y="208"/>
                </a:moveTo>
                <a:cubicBezTo>
                  <a:pt x="112" y="120"/>
                  <a:pt x="0" y="32"/>
                  <a:pt x="176" y="16"/>
                </a:cubicBezTo>
                <a:cubicBezTo>
                  <a:pt x="352" y="0"/>
                  <a:pt x="1032" y="96"/>
                  <a:pt x="1280" y="112"/>
                </a:cubicBezTo>
                <a:cubicBezTo>
                  <a:pt x="1528" y="128"/>
                  <a:pt x="1596" y="120"/>
                  <a:pt x="1664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9160" y="3535200"/>
            <a:ext cx="4051440" cy="285840"/>
          </a:xfrm>
          <a:custGeom>
            <a:avLst/>
            <a:gdLst/>
            <a:ahLst/>
            <a:rect l="l" t="t" r="r" b="b"/>
            <a:pathLst>
              <a:path w="2552" h="180">
                <a:moveTo>
                  <a:pt x="152" y="96"/>
                </a:moveTo>
                <a:cubicBezTo>
                  <a:pt x="76" y="48"/>
                  <a:pt x="0" y="0"/>
                  <a:pt x="152" y="0"/>
                </a:cubicBezTo>
                <a:cubicBezTo>
                  <a:pt x="304" y="0"/>
                  <a:pt x="827" y="68"/>
                  <a:pt x="1064" y="96"/>
                </a:cubicBezTo>
                <a:cubicBezTo>
                  <a:pt x="1301" y="124"/>
                  <a:pt x="1395" y="157"/>
                  <a:pt x="1576" y="168"/>
                </a:cubicBezTo>
                <a:cubicBezTo>
                  <a:pt x="1757" y="179"/>
                  <a:pt x="2029" y="180"/>
                  <a:pt x="2152" y="160"/>
                </a:cubicBezTo>
                <a:cubicBezTo>
                  <a:pt x="2275" y="140"/>
                  <a:pt x="2245" y="71"/>
                  <a:pt x="2312" y="48"/>
                </a:cubicBezTo>
                <a:cubicBezTo>
                  <a:pt x="2379" y="25"/>
                  <a:pt x="2465" y="24"/>
                  <a:pt x="2552" y="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9440" y="3270240"/>
            <a:ext cx="1546200" cy="480960"/>
          </a:xfrm>
          <a:custGeom>
            <a:avLst/>
            <a:gdLst/>
            <a:ahLst/>
            <a:rect l="l" t="t" r="r" b="b"/>
            <a:pathLst>
              <a:path w="974" h="303">
                <a:moveTo>
                  <a:pt x="807" y="303"/>
                </a:moveTo>
                <a:cubicBezTo>
                  <a:pt x="818" y="256"/>
                  <a:pt x="974" y="46"/>
                  <a:pt x="863" y="23"/>
                </a:cubicBezTo>
                <a:cubicBezTo>
                  <a:pt x="752" y="0"/>
                  <a:pt x="286" y="139"/>
                  <a:pt x="143" y="167"/>
                </a:cubicBezTo>
                <a:cubicBezTo>
                  <a:pt x="0" y="195"/>
                  <a:pt x="35" y="186"/>
                  <a:pt x="7" y="1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31840" y="2938320"/>
            <a:ext cx="1397160" cy="3111480"/>
          </a:xfrm>
          <a:custGeom>
            <a:avLst/>
            <a:gdLst/>
            <a:ahLst/>
            <a:rect l="l" t="t" r="r" b="b"/>
            <a:pathLst>
              <a:path w="776" h="2224">
                <a:moveTo>
                  <a:pt x="352" y="136"/>
                </a:moveTo>
                <a:cubicBezTo>
                  <a:pt x="192" y="68"/>
                  <a:pt x="32" y="0"/>
                  <a:pt x="16" y="88"/>
                </a:cubicBezTo>
                <a:cubicBezTo>
                  <a:pt x="0" y="176"/>
                  <a:pt x="216" y="496"/>
                  <a:pt x="256" y="664"/>
                </a:cubicBezTo>
                <a:cubicBezTo>
                  <a:pt x="296" y="832"/>
                  <a:pt x="296" y="920"/>
                  <a:pt x="256" y="1096"/>
                </a:cubicBezTo>
                <a:cubicBezTo>
                  <a:pt x="216" y="1272"/>
                  <a:pt x="24" y="1568"/>
                  <a:pt x="16" y="1720"/>
                </a:cubicBezTo>
                <a:cubicBezTo>
                  <a:pt x="8" y="1872"/>
                  <a:pt x="111" y="1939"/>
                  <a:pt x="208" y="2008"/>
                </a:cubicBezTo>
                <a:cubicBezTo>
                  <a:pt x="305" y="2077"/>
                  <a:pt x="505" y="2100"/>
                  <a:pt x="600" y="2136"/>
                </a:cubicBezTo>
                <a:cubicBezTo>
                  <a:pt x="695" y="2172"/>
                  <a:pt x="739" y="2206"/>
                  <a:pt x="776" y="22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9880" y="2925720"/>
            <a:ext cx="368280" cy="3200400"/>
          </a:xfrm>
          <a:custGeom>
            <a:avLst/>
            <a:gdLst/>
            <a:ahLst/>
            <a:rect l="l" t="t" r="r" b="b"/>
            <a:pathLst>
              <a:path w="328" h="2256">
                <a:moveTo>
                  <a:pt x="288" y="96"/>
                </a:moveTo>
                <a:cubicBezTo>
                  <a:pt x="196" y="48"/>
                  <a:pt x="104" y="0"/>
                  <a:pt x="96" y="144"/>
                </a:cubicBezTo>
                <a:cubicBezTo>
                  <a:pt x="88" y="288"/>
                  <a:pt x="208" y="688"/>
                  <a:pt x="240" y="960"/>
                </a:cubicBezTo>
                <a:cubicBezTo>
                  <a:pt x="272" y="1232"/>
                  <a:pt x="328" y="1560"/>
                  <a:pt x="288" y="1776"/>
                </a:cubicBezTo>
                <a:cubicBezTo>
                  <a:pt x="248" y="1992"/>
                  <a:pt x="124" y="2124"/>
                  <a:pt x="0" y="22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5520" y="3002040"/>
            <a:ext cx="533160" cy="3124080"/>
          </a:xfrm>
          <a:custGeom>
            <a:avLst/>
            <a:gdLst/>
            <a:ahLst/>
            <a:rect l="l" t="t" r="r" b="b"/>
            <a:pathLst>
              <a:path w="336" h="2232">
                <a:moveTo>
                  <a:pt x="336" y="120"/>
                </a:moveTo>
                <a:cubicBezTo>
                  <a:pt x="272" y="60"/>
                  <a:pt x="208" y="0"/>
                  <a:pt x="192" y="168"/>
                </a:cubicBezTo>
                <a:cubicBezTo>
                  <a:pt x="176" y="336"/>
                  <a:pt x="272" y="824"/>
                  <a:pt x="240" y="1128"/>
                </a:cubicBezTo>
                <a:cubicBezTo>
                  <a:pt x="208" y="1432"/>
                  <a:pt x="0" y="1808"/>
                  <a:pt x="0" y="1992"/>
                </a:cubicBezTo>
                <a:cubicBezTo>
                  <a:pt x="0" y="2176"/>
                  <a:pt x="120" y="2204"/>
                  <a:pt x="240" y="22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088040" y="2300400"/>
            <a:ext cx="603000" cy="627120"/>
            <a:chOff x="7088040" y="2300400"/>
            <a:chExt cx="603000" cy="627120"/>
          </a:xfrm>
        </p:grpSpPr>
        <p:sp>
          <p:nvSpPr>
            <p:cNvPr id="220" name="Documents"/>
            <p:cNvSpPr/>
            <p:nvPr/>
          </p:nvSpPr>
          <p:spPr>
            <a:xfrm>
              <a:off x="7254720" y="2300400"/>
              <a:ext cx="284040" cy="38088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88040" y="2681280"/>
              <a:ext cx="60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Resul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604880" y="2239920"/>
            <a:ext cx="603000" cy="627120"/>
            <a:chOff x="1604880" y="2239920"/>
            <a:chExt cx="603000" cy="627120"/>
          </a:xfrm>
        </p:grpSpPr>
        <p:sp>
          <p:nvSpPr>
            <p:cNvPr id="223" name="Documents"/>
            <p:cNvSpPr/>
            <p:nvPr/>
          </p:nvSpPr>
          <p:spPr>
            <a:xfrm>
              <a:off x="1771560" y="2239920"/>
              <a:ext cx="284040" cy="38088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04880" y="2620800"/>
              <a:ext cx="60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Resul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7543800" y="1884240"/>
            <a:ext cx="1295280" cy="2260800"/>
          </a:xfrm>
          <a:custGeom>
            <a:avLst/>
            <a:gdLst/>
            <a:ahLst/>
            <a:rect l="l" t="t" r="r" b="b"/>
            <a:pathLst>
              <a:path w="816" h="1424">
                <a:moveTo>
                  <a:pt x="0" y="368"/>
                </a:moveTo>
                <a:cubicBezTo>
                  <a:pt x="312" y="184"/>
                  <a:pt x="624" y="0"/>
                  <a:pt x="720" y="176"/>
                </a:cubicBezTo>
                <a:cubicBezTo>
                  <a:pt x="816" y="352"/>
                  <a:pt x="696" y="888"/>
                  <a:pt x="576" y="14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4600" y="1884240"/>
            <a:ext cx="1307880" cy="2184480"/>
          </a:xfrm>
          <a:custGeom>
            <a:avLst/>
            <a:gdLst/>
            <a:ahLst/>
            <a:rect l="l" t="t" r="r" b="b"/>
            <a:pathLst>
              <a:path w="824" h="1376">
                <a:moveTo>
                  <a:pt x="824" y="320"/>
                </a:moveTo>
                <a:cubicBezTo>
                  <a:pt x="516" y="160"/>
                  <a:pt x="208" y="0"/>
                  <a:pt x="104" y="176"/>
                </a:cubicBezTo>
                <a:cubicBezTo>
                  <a:pt x="0" y="352"/>
                  <a:pt x="100" y="864"/>
                  <a:pt x="200" y="13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0120" y="4983120"/>
            <a:ext cx="977760" cy="914400"/>
          </a:xfrm>
          <a:custGeom>
            <a:avLst/>
            <a:gdLst/>
            <a:ahLst/>
            <a:rect l="l" t="t" r="r" b="b"/>
            <a:pathLst>
              <a:path w="616" h="576">
                <a:moveTo>
                  <a:pt x="528" y="0"/>
                </a:moveTo>
                <a:cubicBezTo>
                  <a:pt x="572" y="240"/>
                  <a:pt x="616" y="480"/>
                  <a:pt x="528" y="528"/>
                </a:cubicBezTo>
                <a:cubicBezTo>
                  <a:pt x="440" y="576"/>
                  <a:pt x="220" y="432"/>
                  <a:pt x="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5059440"/>
            <a:ext cx="1143000" cy="977760"/>
          </a:xfrm>
          <a:custGeom>
            <a:avLst/>
            <a:gdLst/>
            <a:ahLst/>
            <a:rect l="l" t="t" r="r" b="b"/>
            <a:pathLst>
              <a:path w="720" h="616">
                <a:moveTo>
                  <a:pt x="144" y="0"/>
                </a:moveTo>
                <a:cubicBezTo>
                  <a:pt x="72" y="268"/>
                  <a:pt x="0" y="536"/>
                  <a:pt x="96" y="576"/>
                </a:cubicBezTo>
                <a:cubicBezTo>
                  <a:pt x="192" y="616"/>
                  <a:pt x="456" y="428"/>
                  <a:pt x="720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50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50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500" autoRev="1" fill="hold"/>
                                        <p:tgtEl>
                                          <p:spTgt spid="2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500" autoRev="1" fill="hold"/>
                                        <p:tgtEl>
                                          <p:spTgt spid="1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5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500" autoRev="1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50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50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5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indefinite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indefinite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indefinite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indefinite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-0.01482 C -0.02395 -0.025 -0.04357 -0.03542 -0.0559 -0.03727 C -0.0677 -0.03912 -0.07448 -0.03357 -0.07639 -0.02593 C -0.07795 -0.01852 -0.07343 -0.01505 -0.06614 0.0081 C -0.05885 0.03125 -0.03854 0.08842 -0.03211 0.11296 C -0.02569 0.1375 -0.02465 0.13032 -0.02795 0.15555 C -0.03125 0.18078 -0.04357 0.23241 -0.05156 0.26481 C -0.05954 0.29722 -0.07343 0.33009 -0.07639 0.35023 C -0.07934 0.37037 -0.07517 0.37384 -0.06961 0.38518 C -0.06406 0.39653 -0.05451 0.40995 -0.04323 0.41852 C -0.03194 0.42708 -0.01493 0.43125 -0.00156 0.43703 C 0.01181 0.44282 0.02431 0.44421 0.03698 0.45278 C 0.04966 0.46134 0.06702 0.48148 0.07483 0.48889 E">
                                      <p:cBhvr>
                                        <p:cTn id="229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22222E-006 C -0.00295 -0.00533 -0.00972 -0.02523 -0.01719 -0.03148 C -0.02465 -0.03773 -0.03941 -0.04051 -0.04497 -0.03704 C -0.05052 -0.03357 -0.04913 -0.02107 -0.05 -0.01111 C -0.05087 -0.00116 -0.05156 0.00903 -0.05 0.02222 C -0.04844 0.03541 -0.04427 0.05185 -0.0408 0.06852 C -0.03733 0.08518 -0.03177 0.10949 -0.02969 0.12222 C -0.02761 0.13495 -0.02899 0.13703 -0.0283 0.14444 C -0.02761 0.15185 -0.02691 0.15 -0.025 0.16666 C -0.02309 0.18333 -0.01806 0.21111 -0.01667 0.24444 C -0.01528 0.27778 -0.01267 0.33588 -0.01667 0.36666 C -0.02066 0.39745 -0.03247 0.41111 -0.0408 0.42963 C -0.04913 0.44815 -0.05816 0.46597 -0.06667 0.47778 C -0.07517 0.48958 -0.08403 0.49444 -0.09167 0.5 E">
                                      <p:cBhvr>
                                        <p:cTn id="231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2222E-006 C -0.00382 -0.00255 -0.01875 -0.01134 -0.02309 -0.01482 C -0.02743 -0.01829 -0.02291 -0.01829 -0.02587 -0.02037 C -0.02882 -0.02246 -0.03767 -0.03334 -0.04114 -0.02778 C -0.04462 -0.02222 -0.04618 -0.00347 -0.0467 0.01296 C -0.04722 0.0294 -0.04514 0.0544 -0.04392 0.07037 C -0.04271 0.08634 -0.04149 0.09328 -0.03975 0.10926 C -0.03802 0.12523 -0.03333 0.14514 -0.03333 0.16666 C -0.03333 0.18819 -0.0368 0.21852 -0.03975 0.23889 C -0.04271 0.25926 -0.04791 0.27407 -0.05087 0.28889 C -0.05382 0.3037 -0.05521 0.31597 -0.05781 0.32778 C -0.06041 0.33958 -0.06406 0.35278 -0.06614 0.35926 C -0.06823 0.36574 -0.06823 0.3581 -0.07031 0.36666 C -0.07239 0.37523 -0.07795 0.39815 -0.07864 0.41111 C -0.07934 0.42407 -0.0776 0.43611 -0.075 0.44444 C -0.07239 0.45278 -0.06753 0.45648 -0.06337 0.46111 C -0.0592 0.46574 -0.05416 0.46944 -0.04948 0.47222 C -0.04479 0.475 -0.04028 0.47523 -0.03559 0.47778 C -0.0309 0.48032 -0.02465 0.48518 -0.0217 0.48703 E">
                                      <p:cBhvr>
                                        <p:cTn id="233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indefinite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indefinite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indefinite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07407E-006 C 0.04167 -0.03612 0.08333 -0.07223 0.10833 -0.07778 C 0.13333 -0.08334 0.14583 -0.06482 0.15 -0.03334 C 0.15417 -0.00186 0.13889 0.06666 0.13333 0.11111 C 0.12778 0.15555 0.1191 0.20023 0.11667 0.23333 C 0.11424 0.26643 0.11788 0.29444 0.11823 0.31041 E">
                                      <p:cBhvr>
                                        <p:cTn id="270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1.48148E-006 C -0.04167 -0.03148 -0.08334 -0.06296 -0.10834 -0.06667 C -0.13334 -0.07037 -0.14723 -0.07037 -0.15001 -0.02222 C -0.15278 0.02593 -0.12778 0.16296 -0.12501 0.22222 C -0.12223 0.28148 -0.12778 0.30741 -0.13334 0.33333 E">
                                      <p:cBhvr>
                                        <p:cTn id="272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indefinite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indefinite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23 0.31041 C 0.11754 0.32801 0.11684 0.3456 0.11823 0.36597 C 0.11962 0.38634 0.12656 0.41597 0.12656 0.43264 C 0.12656 0.4493 0.1224 0.46041 0.11823 0.46597 C 0.11406 0.47153 0.11684 0.47523 0.10156 0.46597 C 0.08629 0.45671 0.05642 0.43356 0.02656 0.41041 E">
                                      <p:cBhvr>
                                        <p:cTn id="287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34 0.33334 C -0.14376 0.38148 -0.15417 0.42963 -0.15834 0.45556 C -0.16251 0.48148 -0.16112 0.48148 -0.15834 0.48889 C -0.15556 0.4963 -0.16112 0.51111 -0.14167 0.5 C -0.12223 0.48889 -0.08195 0.45556 -0.04167 0.42222 E">
                                      <p:cBhvr>
                                        <p:cTn id="289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gentTeamwork Work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5716440"/>
            <a:ext cx="82296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5151600"/>
            <a:ext cx="8229600" cy="564840"/>
          </a:xfrm>
          <a:prstGeom prst="rect">
            <a:avLst/>
          </a:prstGeom>
          <a:solidFill>
            <a:srgbClr val="99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WAgents mobile agent execution platfo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584600"/>
            <a:ext cx="8229600" cy="567000"/>
          </a:xfrm>
          <a:prstGeom prst="rect">
            <a:avLst/>
          </a:prstGeom>
          <a:solidFill>
            <a:srgbClr val="99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ander, resource, sentinel, bookkeeper ag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4017960"/>
            <a:ext cx="8229600" cy="566640"/>
          </a:xfrm>
          <a:prstGeom prst="rect">
            <a:avLst/>
          </a:prstGeom>
          <a:solidFill>
            <a:srgbClr val="99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 program wrapp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3451320"/>
            <a:ext cx="4114800" cy="566640"/>
          </a:xfrm>
          <a:prstGeom prst="rect">
            <a:avLst/>
          </a:prstGeom>
          <a:solidFill>
            <a:srgbClr val="99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idTc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3451320"/>
            <a:ext cx="41148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sock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57200" y="2886120"/>
            <a:ext cx="8229600" cy="565200"/>
            <a:chOff x="457200" y="2886120"/>
            <a:chExt cx="8229600" cy="565200"/>
          </a:xfrm>
        </p:grpSpPr>
        <p:sp>
          <p:nvSpPr>
            <p:cNvPr id="238" name=""/>
            <p:cNvSpPr/>
            <p:nvPr/>
          </p:nvSpPr>
          <p:spPr>
            <a:xfrm>
              <a:off x="4572000" y="2886120"/>
              <a:ext cx="4114800" cy="565200"/>
            </a:xfrm>
            <a:prstGeom prst="rect">
              <a:avLst/>
            </a:prstGeom>
            <a:solidFill>
              <a:srgbClr val="99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mpiJava-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" y="2886120"/>
              <a:ext cx="4114800" cy="565200"/>
            </a:xfrm>
            <a:prstGeom prst="rect">
              <a:avLst/>
            </a:prstGeom>
            <a:solidFill>
              <a:srgbClr val="99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mpiJava-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57200" y="231948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iJava AP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1752480"/>
            <a:ext cx="82296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user applic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752480"/>
            <a:ext cx="8229600" cy="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2319480"/>
            <a:ext cx="8229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2886120"/>
            <a:ext cx="8229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3451320"/>
            <a:ext cx="8229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4017960"/>
            <a:ext cx="8229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4584600"/>
            <a:ext cx="8229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5151600"/>
            <a:ext cx="8229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5716440"/>
            <a:ext cx="8229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6283440"/>
            <a:ext cx="822960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752480"/>
            <a:ext cx="1440" cy="45309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2895480"/>
            <a:ext cx="14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686800" y="1752480"/>
            <a:ext cx="1440" cy="45309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250" autoRev="1" fill="hold"/>
                                        <p:tgtEl>
                                          <p:spTgt spid="2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250" autoRev="1" fill="hold"/>
                                        <p:tgtEl>
                                          <p:spTgt spid="2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250" autoRev="1" fill="hold"/>
                                        <p:tgtEl>
                                          <p:spTgt spid="2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1" dur="250" autoRev="1" fill="hold"/>
                                        <p:tgtEl>
                                          <p:spTgt spid="2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250" autoRev="1" fill="hold"/>
                                        <p:tgtEl>
                                          <p:spTgt spid="2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-Cluster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7772400" y="1828800"/>
            <a:ext cx="752400" cy="752400"/>
            <a:chOff x="7772400" y="1828800"/>
            <a:chExt cx="752400" cy="752400"/>
          </a:xfrm>
        </p:grpSpPr>
        <p:sp>
          <p:nvSpPr>
            <p:cNvPr id="256" name="computr1"/>
            <p:cNvSpPr/>
            <p:nvPr/>
          </p:nvSpPr>
          <p:spPr>
            <a:xfrm>
              <a:off x="7772400" y="1828800"/>
              <a:ext cx="752400" cy="75240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887600" y="185112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029200" y="19810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a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29718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934320" y="29718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ookkee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480" y="29718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2971800"/>
            <a:ext cx="609480" cy="685800"/>
          </a:xfrm>
          <a:prstGeom prst="can">
            <a:avLst>
              <a:gd name="adj" fmla="val 250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05120" y="42670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19720" y="42670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81280" y="42670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43200" y="42670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38680" y="42670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ookkee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153280" y="42670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ookkee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315200" y="42670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ookkee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77120" y="42670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ookkee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90720" y="54864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54864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54864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00600" y="54864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ookkee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77120" y="54864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ookkee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38680" y="54864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ookkee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438280" y="365760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123720" y="36576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05320" y="36576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05320" y="365760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6171840" y="365760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858000" y="36576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36576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38880" y="365760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371600" y="49528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0968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09680" y="4952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5181120" y="495288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1992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19920" y="4952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657240" y="266688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133720" y="2666880"/>
            <a:ext cx="3124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4120" y="2666880"/>
            <a:ext cx="1752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62720" y="1905120"/>
            <a:ext cx="2286000" cy="228600"/>
          </a:xfrm>
          <a:custGeom>
            <a:avLst/>
            <a:gdLst/>
            <a:ahLst/>
            <a:rect l="l" t="t" r="r" b="b"/>
            <a:pathLst>
              <a:path w="1016" h="192">
                <a:moveTo>
                  <a:pt x="1008" y="48"/>
                </a:moveTo>
                <a:cubicBezTo>
                  <a:pt x="1012" y="52"/>
                  <a:pt x="1016" y="56"/>
                  <a:pt x="960" y="48"/>
                </a:cubicBezTo>
                <a:cubicBezTo>
                  <a:pt x="904" y="40"/>
                  <a:pt x="792" y="0"/>
                  <a:pt x="672" y="0"/>
                </a:cubicBezTo>
                <a:cubicBezTo>
                  <a:pt x="552" y="0"/>
                  <a:pt x="352" y="16"/>
                  <a:pt x="240" y="48"/>
                </a:cubicBezTo>
                <a:cubicBezTo>
                  <a:pt x="128" y="80"/>
                  <a:pt x="64" y="13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1371600" y="3276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70040" y="198108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ob Sub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65960" y="266688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ML Qu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44480" y="281952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a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88640" y="5257800"/>
            <a:ext cx="14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d: agent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ank: MPI R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514600" y="4876920"/>
            <a:ext cx="3200400" cy="763560"/>
            <a:chOff x="2514600" y="4876920"/>
            <a:chExt cx="3200400" cy="763560"/>
          </a:xfrm>
        </p:grpSpPr>
        <p:sp>
          <p:nvSpPr>
            <p:cNvPr id="301" name="Document"/>
            <p:cNvSpPr/>
            <p:nvPr/>
          </p:nvSpPr>
          <p:spPr>
            <a:xfrm flipH="1">
              <a:off x="3885480" y="5105160"/>
              <a:ext cx="227160" cy="30456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14600" y="4876920"/>
              <a:ext cx="3200400" cy="520200"/>
            </a:xfrm>
            <a:custGeom>
              <a:avLst/>
              <a:gdLst/>
              <a:ahLst/>
              <a:rect l="l" t="t" r="r" b="b"/>
              <a:pathLst>
                <a:path w="2016" h="328">
                  <a:moveTo>
                    <a:pt x="0" y="0"/>
                  </a:moveTo>
                  <a:cubicBezTo>
                    <a:pt x="168" y="96"/>
                    <a:pt x="336" y="192"/>
                    <a:pt x="528" y="240"/>
                  </a:cubicBezTo>
                  <a:cubicBezTo>
                    <a:pt x="720" y="288"/>
                    <a:pt x="904" y="328"/>
                    <a:pt x="1152" y="288"/>
                  </a:cubicBezTo>
                  <a:cubicBezTo>
                    <a:pt x="1400" y="248"/>
                    <a:pt x="1708" y="124"/>
                    <a:pt x="2016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57960" y="5394240"/>
              <a:ext cx="69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napsho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600200" y="6095880"/>
            <a:ext cx="3352680" cy="534960"/>
            <a:chOff x="1600200" y="6095880"/>
            <a:chExt cx="3352680" cy="534960"/>
          </a:xfrm>
        </p:grpSpPr>
        <p:sp>
          <p:nvSpPr>
            <p:cNvPr id="305" name="Document"/>
            <p:cNvSpPr/>
            <p:nvPr/>
          </p:nvSpPr>
          <p:spPr>
            <a:xfrm flipH="1">
              <a:off x="4114080" y="6095880"/>
              <a:ext cx="227160" cy="30456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1600200" y="6095880"/>
              <a:ext cx="3352680" cy="534960"/>
              <a:chOff x="1600200" y="6095880"/>
              <a:chExt cx="3352680" cy="534960"/>
            </a:xfrm>
          </p:grpSpPr>
          <p:sp>
            <p:nvSpPr>
              <p:cNvPr id="307" name=""/>
              <p:cNvSpPr/>
              <p:nvPr/>
            </p:nvSpPr>
            <p:spPr>
              <a:xfrm>
                <a:off x="1600200" y="6095880"/>
                <a:ext cx="3352680" cy="520560"/>
              </a:xfrm>
              <a:custGeom>
                <a:avLst/>
                <a:gdLst/>
                <a:ahLst/>
                <a:rect l="l" t="t" r="r" b="b"/>
                <a:pathLst>
                  <a:path w="2016" h="328">
                    <a:moveTo>
                      <a:pt x="0" y="0"/>
                    </a:moveTo>
                    <a:cubicBezTo>
                      <a:pt x="168" y="96"/>
                      <a:pt x="336" y="192"/>
                      <a:pt x="528" y="240"/>
                    </a:cubicBezTo>
                    <a:cubicBezTo>
                      <a:pt x="720" y="288"/>
                      <a:pt x="904" y="328"/>
                      <a:pt x="1152" y="288"/>
                    </a:cubicBezTo>
                    <a:cubicBezTo>
                      <a:pt x="1400" y="248"/>
                      <a:pt x="1708" y="124"/>
                      <a:pt x="2016" y="0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86560" y="6384600"/>
                <a:ext cx="69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snapsho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"/>
          <p:cNvGrpSpPr/>
          <p:nvPr/>
        </p:nvGrpSpPr>
        <p:grpSpPr>
          <a:xfrm>
            <a:off x="5334120" y="3276720"/>
            <a:ext cx="1600200" cy="1942560"/>
            <a:chOff x="5334120" y="3276720"/>
            <a:chExt cx="1600200" cy="1942560"/>
          </a:xfrm>
        </p:grpSpPr>
        <p:sp>
          <p:nvSpPr>
            <p:cNvPr id="310" name=""/>
            <p:cNvSpPr/>
            <p:nvPr/>
          </p:nvSpPr>
          <p:spPr>
            <a:xfrm>
              <a:off x="5334120" y="3276720"/>
              <a:ext cx="1600200" cy="1447560"/>
            </a:xfrm>
            <a:custGeom>
              <a:avLst/>
              <a:gdLst/>
              <a:ahLst/>
              <a:rect l="l" t="t" r="r" b="b"/>
              <a:pathLst>
                <a:path w="1008" h="912">
                  <a:moveTo>
                    <a:pt x="192" y="912"/>
                  </a:moveTo>
                  <a:cubicBezTo>
                    <a:pt x="96" y="764"/>
                    <a:pt x="0" y="616"/>
                    <a:pt x="48" y="480"/>
                  </a:cubicBezTo>
                  <a:cubicBezTo>
                    <a:pt x="96" y="344"/>
                    <a:pt x="320" y="176"/>
                    <a:pt x="480" y="96"/>
                  </a:cubicBezTo>
                  <a:cubicBezTo>
                    <a:pt x="640" y="16"/>
                    <a:pt x="824" y="8"/>
                    <a:pt x="1008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02400" y="4876560"/>
              <a:ext cx="850680" cy="342720"/>
            </a:xfrm>
            <a:custGeom>
              <a:avLst/>
              <a:gdLst/>
              <a:ahLst/>
              <a:rect l="l" t="t" r="r" b="b"/>
              <a:pathLst>
                <a:path w="536" h="216">
                  <a:moveTo>
                    <a:pt x="56" y="0"/>
                  </a:moveTo>
                  <a:cubicBezTo>
                    <a:pt x="28" y="84"/>
                    <a:pt x="0" y="168"/>
                    <a:pt x="56" y="192"/>
                  </a:cubicBezTo>
                  <a:cubicBezTo>
                    <a:pt x="112" y="216"/>
                    <a:pt x="312" y="176"/>
                    <a:pt x="392" y="144"/>
                  </a:cubicBezTo>
                  <a:cubicBezTo>
                    <a:pt x="472" y="112"/>
                    <a:pt x="504" y="56"/>
                    <a:pt x="536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572000" y="4711680"/>
            <a:ext cx="3594240" cy="1689120"/>
            <a:chOff x="4572000" y="4711680"/>
            <a:chExt cx="3594240" cy="1689120"/>
          </a:xfrm>
        </p:grpSpPr>
        <p:sp>
          <p:nvSpPr>
            <p:cNvPr id="313" name=""/>
            <p:cNvSpPr/>
            <p:nvPr/>
          </p:nvSpPr>
          <p:spPr>
            <a:xfrm>
              <a:off x="4902120" y="6096240"/>
              <a:ext cx="812880" cy="304560"/>
            </a:xfrm>
            <a:custGeom>
              <a:avLst/>
              <a:gdLst/>
              <a:ahLst/>
              <a:rect l="l" t="t" r="r" b="b"/>
              <a:pathLst>
                <a:path w="512" h="192">
                  <a:moveTo>
                    <a:pt x="32" y="0"/>
                  </a:moveTo>
                  <a:cubicBezTo>
                    <a:pt x="16" y="96"/>
                    <a:pt x="0" y="192"/>
                    <a:pt x="80" y="192"/>
                  </a:cubicBezTo>
                  <a:cubicBezTo>
                    <a:pt x="160" y="192"/>
                    <a:pt x="336" y="96"/>
                    <a:pt x="512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572000" y="4711680"/>
              <a:ext cx="3594240" cy="1384560"/>
            </a:xfrm>
            <a:custGeom>
              <a:avLst/>
              <a:gdLst/>
              <a:ahLst/>
              <a:rect l="l" t="t" r="r" b="b"/>
              <a:pathLst>
                <a:path w="2264" h="872">
                  <a:moveTo>
                    <a:pt x="240" y="872"/>
                  </a:moveTo>
                  <a:cubicBezTo>
                    <a:pt x="160" y="852"/>
                    <a:pt x="80" y="832"/>
                    <a:pt x="48" y="776"/>
                  </a:cubicBezTo>
                  <a:cubicBezTo>
                    <a:pt x="16" y="720"/>
                    <a:pt x="0" y="600"/>
                    <a:pt x="48" y="536"/>
                  </a:cubicBezTo>
                  <a:cubicBezTo>
                    <a:pt x="96" y="472"/>
                    <a:pt x="24" y="424"/>
                    <a:pt x="336" y="392"/>
                  </a:cubicBezTo>
                  <a:cubicBezTo>
                    <a:pt x="648" y="360"/>
                    <a:pt x="1608" y="400"/>
                    <a:pt x="1920" y="344"/>
                  </a:cubicBezTo>
                  <a:cubicBezTo>
                    <a:pt x="2232" y="288"/>
                    <a:pt x="2152" y="112"/>
                    <a:pt x="2208" y="56"/>
                  </a:cubicBezTo>
                  <a:cubicBezTo>
                    <a:pt x="2264" y="0"/>
                    <a:pt x="2260" y="4"/>
                    <a:pt x="2256" y="8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066680" y="42670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447560" y="36576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762120" y="3657600"/>
            <a:ext cx="1295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200" y="49528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49528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990720" y="4952880"/>
            <a:ext cx="3045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685440" y="4952880"/>
            <a:ext cx="609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-Cluster Job Re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09680" y="17524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520" y="487692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487692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487692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487692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001000" y="487692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ookkee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343400" y="5562720"/>
            <a:ext cx="4281480" cy="962280"/>
            <a:chOff x="4343400" y="5562720"/>
            <a:chExt cx="4281480" cy="962280"/>
          </a:xfrm>
        </p:grpSpPr>
        <p:sp>
          <p:nvSpPr>
            <p:cNvPr id="330" name=""/>
            <p:cNvSpPr/>
            <p:nvPr/>
          </p:nvSpPr>
          <p:spPr>
            <a:xfrm>
              <a:off x="4343400" y="5562720"/>
              <a:ext cx="3886200" cy="787320"/>
            </a:xfrm>
            <a:custGeom>
              <a:avLst/>
              <a:gdLst/>
              <a:ahLst/>
              <a:rect l="l" t="t" r="r" b="b"/>
              <a:pathLst>
                <a:path w="3024" h="448">
                  <a:moveTo>
                    <a:pt x="0" y="0"/>
                  </a:moveTo>
                  <a:cubicBezTo>
                    <a:pt x="288" y="160"/>
                    <a:pt x="576" y="320"/>
                    <a:pt x="960" y="384"/>
                  </a:cubicBezTo>
                  <a:cubicBezTo>
                    <a:pt x="1344" y="448"/>
                    <a:pt x="1960" y="448"/>
                    <a:pt x="2304" y="384"/>
                  </a:cubicBezTo>
                  <a:cubicBezTo>
                    <a:pt x="2648" y="320"/>
                    <a:pt x="2836" y="160"/>
                    <a:pt x="30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Document"/>
            <p:cNvSpPr/>
            <p:nvPr/>
          </p:nvSpPr>
          <p:spPr>
            <a:xfrm>
              <a:off x="6248520" y="5943600"/>
              <a:ext cx="227160" cy="30492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35680" y="6248520"/>
              <a:ext cx="268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(0) Send a new snapshot periodical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762120" y="2438280"/>
            <a:ext cx="1676160" cy="2438640"/>
          </a:xfrm>
          <a:custGeom>
            <a:avLst/>
            <a:gdLst/>
            <a:ahLst/>
            <a:rect l="l" t="t" r="r" b="b"/>
            <a:pathLst>
              <a:path w="1056" h="1536">
                <a:moveTo>
                  <a:pt x="1056" y="0"/>
                </a:moveTo>
                <a:cubicBezTo>
                  <a:pt x="760" y="64"/>
                  <a:pt x="464" y="128"/>
                  <a:pt x="288" y="384"/>
                </a:cubicBezTo>
                <a:cubicBezTo>
                  <a:pt x="112" y="640"/>
                  <a:pt x="56" y="1088"/>
                  <a:pt x="0" y="1536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2120" y="4444920"/>
            <a:ext cx="1066680" cy="432000"/>
          </a:xfrm>
          <a:custGeom>
            <a:avLst/>
            <a:gdLst/>
            <a:ahLst/>
            <a:rect l="l" t="t" r="r" b="b"/>
            <a:pathLst>
              <a:path w="672" h="272">
                <a:moveTo>
                  <a:pt x="0" y="272"/>
                </a:moveTo>
                <a:cubicBezTo>
                  <a:pt x="36" y="196"/>
                  <a:pt x="72" y="120"/>
                  <a:pt x="144" y="80"/>
                </a:cubicBezTo>
                <a:cubicBezTo>
                  <a:pt x="216" y="40"/>
                  <a:pt x="344" y="0"/>
                  <a:pt x="432" y="32"/>
                </a:cubicBezTo>
                <a:cubicBezTo>
                  <a:pt x="520" y="64"/>
                  <a:pt x="596" y="168"/>
                  <a:pt x="672" y="272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803240" y="4495680"/>
            <a:ext cx="1244880" cy="457200"/>
          </a:xfrm>
          <a:custGeom>
            <a:avLst/>
            <a:gdLst/>
            <a:ahLst/>
            <a:rect l="l" t="t" r="r" b="b"/>
            <a:pathLst>
              <a:path w="784" h="288">
                <a:moveTo>
                  <a:pt x="16" y="288"/>
                </a:moveTo>
                <a:cubicBezTo>
                  <a:pt x="8" y="192"/>
                  <a:pt x="0" y="96"/>
                  <a:pt x="64" y="48"/>
                </a:cubicBezTo>
                <a:cubicBezTo>
                  <a:pt x="128" y="0"/>
                  <a:pt x="296" y="0"/>
                  <a:pt x="400" y="0"/>
                </a:cubicBezTo>
                <a:cubicBezTo>
                  <a:pt x="504" y="0"/>
                  <a:pt x="624" y="8"/>
                  <a:pt x="688" y="48"/>
                </a:cubicBezTo>
                <a:cubicBezTo>
                  <a:pt x="752" y="88"/>
                  <a:pt x="768" y="164"/>
                  <a:pt x="784" y="24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8120" y="4559400"/>
            <a:ext cx="1218960" cy="317520"/>
          </a:xfrm>
          <a:custGeom>
            <a:avLst/>
            <a:gdLst/>
            <a:ahLst/>
            <a:rect l="l" t="t" r="r" b="b"/>
            <a:pathLst>
              <a:path w="768" h="200">
                <a:moveTo>
                  <a:pt x="0" y="200"/>
                </a:moveTo>
                <a:cubicBezTo>
                  <a:pt x="12" y="144"/>
                  <a:pt x="24" y="88"/>
                  <a:pt x="96" y="56"/>
                </a:cubicBezTo>
                <a:cubicBezTo>
                  <a:pt x="168" y="24"/>
                  <a:pt x="336" y="0"/>
                  <a:pt x="432" y="8"/>
                </a:cubicBezTo>
                <a:cubicBezTo>
                  <a:pt x="528" y="16"/>
                  <a:pt x="616" y="72"/>
                  <a:pt x="672" y="104"/>
                </a:cubicBezTo>
                <a:cubicBezTo>
                  <a:pt x="728" y="136"/>
                  <a:pt x="748" y="168"/>
                  <a:pt x="768" y="2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09760" y="4863960"/>
            <a:ext cx="2857320" cy="1067040"/>
          </a:xfrm>
          <a:custGeom>
            <a:avLst/>
            <a:gdLst/>
            <a:ahLst/>
            <a:rect l="l" t="t" r="r" b="b"/>
            <a:pathLst>
              <a:path w="1800" h="672">
                <a:moveTo>
                  <a:pt x="264" y="56"/>
                </a:moveTo>
                <a:cubicBezTo>
                  <a:pt x="212" y="28"/>
                  <a:pt x="160" y="0"/>
                  <a:pt x="120" y="56"/>
                </a:cubicBezTo>
                <a:cubicBezTo>
                  <a:pt x="80" y="112"/>
                  <a:pt x="0" y="296"/>
                  <a:pt x="24" y="392"/>
                </a:cubicBezTo>
                <a:cubicBezTo>
                  <a:pt x="48" y="488"/>
                  <a:pt x="88" y="600"/>
                  <a:pt x="264" y="632"/>
                </a:cubicBezTo>
                <a:cubicBezTo>
                  <a:pt x="440" y="664"/>
                  <a:pt x="856" y="672"/>
                  <a:pt x="1080" y="584"/>
                </a:cubicBezTo>
                <a:cubicBezTo>
                  <a:pt x="1304" y="496"/>
                  <a:pt x="1488" y="200"/>
                  <a:pt x="1608" y="104"/>
                </a:cubicBezTo>
                <a:cubicBezTo>
                  <a:pt x="1728" y="8"/>
                  <a:pt x="1764" y="8"/>
                  <a:pt x="1800" y="8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39880" y="2438280"/>
            <a:ext cx="698400" cy="2514600"/>
          </a:xfrm>
          <a:custGeom>
            <a:avLst/>
            <a:gdLst/>
            <a:ahLst/>
            <a:rect l="l" t="t" r="r" b="b"/>
            <a:pathLst>
              <a:path w="440" h="1584">
                <a:moveTo>
                  <a:pt x="56" y="1584"/>
                </a:moveTo>
                <a:cubicBezTo>
                  <a:pt x="28" y="1396"/>
                  <a:pt x="0" y="1208"/>
                  <a:pt x="8" y="1008"/>
                </a:cubicBezTo>
                <a:cubicBezTo>
                  <a:pt x="16" y="808"/>
                  <a:pt x="32" y="552"/>
                  <a:pt x="104" y="384"/>
                </a:cubicBezTo>
                <a:cubicBezTo>
                  <a:pt x="176" y="216"/>
                  <a:pt x="308" y="108"/>
                  <a:pt x="440" y="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2438280"/>
            <a:ext cx="609840" cy="2362320"/>
          </a:xfrm>
          <a:custGeom>
            <a:avLst/>
            <a:gdLst/>
            <a:ahLst/>
            <a:rect l="l" t="t" r="r" b="b"/>
            <a:pathLst>
              <a:path w="384" h="1488">
                <a:moveTo>
                  <a:pt x="384" y="1488"/>
                </a:moveTo>
                <a:cubicBezTo>
                  <a:pt x="344" y="1372"/>
                  <a:pt x="304" y="1256"/>
                  <a:pt x="240" y="1008"/>
                </a:cubicBezTo>
                <a:cubicBezTo>
                  <a:pt x="176" y="760"/>
                  <a:pt x="88" y="380"/>
                  <a:pt x="0" y="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38280" y="2438280"/>
            <a:ext cx="2159280" cy="2438640"/>
          </a:xfrm>
          <a:custGeom>
            <a:avLst/>
            <a:gdLst/>
            <a:ahLst/>
            <a:rect l="l" t="t" r="r" b="b"/>
            <a:pathLst>
              <a:path w="1360" h="1536">
                <a:moveTo>
                  <a:pt x="1152" y="1536"/>
                </a:moveTo>
                <a:cubicBezTo>
                  <a:pt x="1256" y="1244"/>
                  <a:pt x="1360" y="952"/>
                  <a:pt x="1248" y="720"/>
                </a:cubicBezTo>
                <a:cubicBezTo>
                  <a:pt x="1136" y="488"/>
                  <a:pt x="688" y="264"/>
                  <a:pt x="480" y="144"/>
                </a:cubicBezTo>
                <a:cubicBezTo>
                  <a:pt x="272" y="24"/>
                  <a:pt x="136" y="12"/>
                  <a:pt x="0" y="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6640" y="2362320"/>
            <a:ext cx="13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Arial"/>
              </a:rPr>
              <a:t>MPI 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895480" y="1270080"/>
            <a:ext cx="5486400" cy="3606840"/>
            <a:chOff x="2895480" y="1270080"/>
            <a:chExt cx="5486400" cy="3606840"/>
          </a:xfrm>
        </p:grpSpPr>
        <p:sp>
          <p:nvSpPr>
            <p:cNvPr id="343" name=""/>
            <p:cNvSpPr/>
            <p:nvPr/>
          </p:nvSpPr>
          <p:spPr>
            <a:xfrm>
              <a:off x="5867280" y="1600200"/>
              <a:ext cx="251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2) Search for the latest snapsho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95480" y="1270080"/>
              <a:ext cx="5410080" cy="3606840"/>
            </a:xfrm>
            <a:custGeom>
              <a:avLst/>
              <a:gdLst/>
              <a:ahLst/>
              <a:rect l="l" t="t" r="r" b="b"/>
              <a:pathLst>
                <a:path w="3408" h="2272">
                  <a:moveTo>
                    <a:pt x="0" y="448"/>
                  </a:moveTo>
                  <a:cubicBezTo>
                    <a:pt x="628" y="224"/>
                    <a:pt x="1256" y="0"/>
                    <a:pt x="1824" y="304"/>
                  </a:cubicBezTo>
                  <a:cubicBezTo>
                    <a:pt x="2392" y="608"/>
                    <a:pt x="2900" y="1440"/>
                    <a:pt x="3408" y="22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567160" y="2438280"/>
            <a:ext cx="2535120" cy="2438640"/>
            <a:chOff x="2567160" y="2438280"/>
            <a:chExt cx="2535120" cy="2438640"/>
          </a:xfrm>
        </p:grpSpPr>
        <p:sp>
          <p:nvSpPr>
            <p:cNvPr id="346" name=""/>
            <p:cNvSpPr/>
            <p:nvPr/>
          </p:nvSpPr>
          <p:spPr>
            <a:xfrm>
              <a:off x="3426480" y="3505320"/>
              <a:ext cx="167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1) Detect a ping err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67160" y="2438280"/>
              <a:ext cx="185220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3962520" y="4952880"/>
            <a:ext cx="761760" cy="5335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895480" y="2209680"/>
            <a:ext cx="4114800" cy="3353040"/>
            <a:chOff x="2895480" y="2209680"/>
            <a:chExt cx="4114800" cy="3353040"/>
          </a:xfrm>
        </p:grpSpPr>
        <p:grpSp>
          <p:nvGrpSpPr>
            <p:cNvPr id="350" name=""/>
            <p:cNvGrpSpPr/>
            <p:nvPr/>
          </p:nvGrpSpPr>
          <p:grpSpPr>
            <a:xfrm>
              <a:off x="5333760" y="4648320"/>
              <a:ext cx="685800" cy="914400"/>
              <a:chOff x="5333760" y="4648320"/>
              <a:chExt cx="685800" cy="914400"/>
            </a:xfrm>
          </p:grpSpPr>
          <p:sp>
            <p:nvSpPr>
              <p:cNvPr id="351" name=""/>
              <p:cNvSpPr/>
              <p:nvPr/>
            </p:nvSpPr>
            <p:spPr>
              <a:xfrm>
                <a:off x="5333760" y="487692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ntin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 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ank 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411160" y="4648320"/>
                <a:ext cx="49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5105160" y="3429000"/>
              <a:ext cx="190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4) Send a new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95480" y="2209680"/>
              <a:ext cx="2590560" cy="2743200"/>
            </a:xfrm>
            <a:custGeom>
              <a:avLst/>
              <a:gdLst/>
              <a:ahLst/>
              <a:rect l="l" t="t" r="r" b="b"/>
              <a:pathLst>
                <a:path w="1632" h="1728">
                  <a:moveTo>
                    <a:pt x="0" y="0"/>
                  </a:moveTo>
                  <a:cubicBezTo>
                    <a:pt x="536" y="264"/>
                    <a:pt x="1072" y="528"/>
                    <a:pt x="1344" y="816"/>
                  </a:cubicBezTo>
                  <a:cubicBezTo>
                    <a:pt x="1616" y="1104"/>
                    <a:pt x="1624" y="1416"/>
                    <a:pt x="1632" y="17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838080" y="2362320"/>
            <a:ext cx="4572000" cy="4051080"/>
            <a:chOff x="838080" y="2362320"/>
            <a:chExt cx="4572000" cy="4051080"/>
          </a:xfrm>
        </p:grpSpPr>
        <p:sp>
          <p:nvSpPr>
            <p:cNvPr id="356" name=""/>
            <p:cNvSpPr/>
            <p:nvPr/>
          </p:nvSpPr>
          <p:spPr>
            <a:xfrm>
              <a:off x="3352680" y="5410080"/>
              <a:ext cx="2057400" cy="546120"/>
            </a:xfrm>
            <a:custGeom>
              <a:avLst/>
              <a:gdLst/>
              <a:ahLst/>
              <a:rect l="l" t="t" r="r" b="b"/>
              <a:pathLst>
                <a:path w="1296" h="344">
                  <a:moveTo>
                    <a:pt x="1296" y="0"/>
                  </a:moveTo>
                  <a:cubicBezTo>
                    <a:pt x="1092" y="164"/>
                    <a:pt x="888" y="328"/>
                    <a:pt x="672" y="336"/>
                  </a:cubicBezTo>
                  <a:cubicBezTo>
                    <a:pt x="456" y="344"/>
                    <a:pt x="228" y="196"/>
                    <a:pt x="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33360" y="5410080"/>
              <a:ext cx="3276720" cy="939960"/>
            </a:xfrm>
            <a:custGeom>
              <a:avLst/>
              <a:gdLst/>
              <a:ahLst/>
              <a:rect l="l" t="t" r="r" b="b"/>
              <a:pathLst>
                <a:path w="2064" h="592">
                  <a:moveTo>
                    <a:pt x="2064" y="0"/>
                  </a:moveTo>
                  <a:cubicBezTo>
                    <a:pt x="1984" y="196"/>
                    <a:pt x="1904" y="392"/>
                    <a:pt x="1632" y="480"/>
                  </a:cubicBezTo>
                  <a:cubicBezTo>
                    <a:pt x="1360" y="568"/>
                    <a:pt x="704" y="592"/>
                    <a:pt x="432" y="528"/>
                  </a:cubicBezTo>
                  <a:cubicBezTo>
                    <a:pt x="160" y="464"/>
                    <a:pt x="80" y="280"/>
                    <a:pt x="0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8080" y="5410080"/>
              <a:ext cx="4572000" cy="1003320"/>
            </a:xfrm>
            <a:custGeom>
              <a:avLst/>
              <a:gdLst/>
              <a:ahLst/>
              <a:rect l="l" t="t" r="r" b="b"/>
              <a:pathLst>
                <a:path w="2880" h="632">
                  <a:moveTo>
                    <a:pt x="2880" y="0"/>
                  </a:moveTo>
                  <a:cubicBezTo>
                    <a:pt x="2880" y="188"/>
                    <a:pt x="2880" y="376"/>
                    <a:pt x="2688" y="480"/>
                  </a:cubicBezTo>
                  <a:cubicBezTo>
                    <a:pt x="2496" y="584"/>
                    <a:pt x="2120" y="616"/>
                    <a:pt x="1728" y="624"/>
                  </a:cubicBezTo>
                  <a:cubicBezTo>
                    <a:pt x="1336" y="632"/>
                    <a:pt x="624" y="616"/>
                    <a:pt x="336" y="528"/>
                  </a:cubicBezTo>
                  <a:cubicBezTo>
                    <a:pt x="48" y="440"/>
                    <a:pt x="24" y="268"/>
                    <a:pt x="0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819160" y="2362320"/>
              <a:ext cx="2590920" cy="3047760"/>
            </a:xfrm>
            <a:custGeom>
              <a:avLst/>
              <a:gdLst/>
              <a:ahLst/>
              <a:rect l="l" t="t" r="r" b="b"/>
              <a:pathLst>
                <a:path w="1632" h="1920">
                  <a:moveTo>
                    <a:pt x="1632" y="1920"/>
                  </a:moveTo>
                  <a:cubicBezTo>
                    <a:pt x="1568" y="1912"/>
                    <a:pt x="1504" y="1904"/>
                    <a:pt x="1440" y="1728"/>
                  </a:cubicBezTo>
                  <a:cubicBezTo>
                    <a:pt x="1376" y="1552"/>
                    <a:pt x="1488" y="1152"/>
                    <a:pt x="1248" y="864"/>
                  </a:cubicBezTo>
                  <a:cubicBezTo>
                    <a:pt x="1008" y="576"/>
                    <a:pt x="504" y="28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90560" y="601992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5) Notify about the re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895480" y="1434960"/>
            <a:ext cx="5257800" cy="3517920"/>
            <a:chOff x="2895480" y="1434960"/>
            <a:chExt cx="5257800" cy="3517920"/>
          </a:xfrm>
        </p:grpSpPr>
        <p:sp>
          <p:nvSpPr>
            <p:cNvPr id="362" name=""/>
            <p:cNvSpPr/>
            <p:nvPr/>
          </p:nvSpPr>
          <p:spPr>
            <a:xfrm>
              <a:off x="4724280" y="2438280"/>
              <a:ext cx="190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3) Retrieve the snapsho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95480" y="1434960"/>
              <a:ext cx="5257800" cy="3517920"/>
            </a:xfrm>
            <a:custGeom>
              <a:avLst/>
              <a:gdLst/>
              <a:ahLst/>
              <a:rect l="l" t="t" r="r" b="b"/>
              <a:pathLst>
                <a:path w="3312" h="2216">
                  <a:moveTo>
                    <a:pt x="3312" y="2216"/>
                  </a:moveTo>
                  <a:cubicBezTo>
                    <a:pt x="2820" y="1404"/>
                    <a:pt x="2328" y="592"/>
                    <a:pt x="1776" y="296"/>
                  </a:cubicBezTo>
                  <a:cubicBezTo>
                    <a:pt x="1224" y="0"/>
                    <a:pt x="612" y="220"/>
                    <a:pt x="0" y="4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Document"/>
            <p:cNvSpPr/>
            <p:nvPr/>
          </p:nvSpPr>
          <p:spPr>
            <a:xfrm>
              <a:off x="5943240" y="2057400"/>
              <a:ext cx="227160" cy="30492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ding to Multiple Clu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isting AgentTeamwork system allows only job deployment within a single intranet clu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mary focus of my project was to extend Agent Teamwork to allow job deployment and resumption across multiple clus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and extend existing AgentTeamwork algorithms to support multiple clus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job deployment code to deploy gateway tasks and remote-cluster jo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new gateway-enabled Java socket function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job-resumption code to resume failed remote clusters and remote compute n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380880" y="3886200"/>
            <a:ext cx="2438640" cy="2590920"/>
            <a:chOff x="380880" y="3886200"/>
            <a:chExt cx="2438640" cy="2590920"/>
          </a:xfrm>
        </p:grpSpPr>
        <p:sp>
          <p:nvSpPr>
            <p:cNvPr id="368" name=""/>
            <p:cNvSpPr/>
            <p:nvPr/>
          </p:nvSpPr>
          <p:spPr>
            <a:xfrm>
              <a:off x="380880" y="3886200"/>
              <a:ext cx="2438640" cy="2590920"/>
            </a:xfrm>
            <a:custGeom>
              <a:avLst/>
              <a:gdLst/>
              <a:ahLst/>
              <a:rect l="l" t="t" r="r" b="b"/>
              <a:pathLst>
                <a:path w="1536" h="1632">
                  <a:moveTo>
                    <a:pt x="768" y="0"/>
                  </a:moveTo>
                  <a:lnTo>
                    <a:pt x="96" y="672"/>
                  </a:lnTo>
                  <a:lnTo>
                    <a:pt x="0" y="1632"/>
                  </a:lnTo>
                  <a:lnTo>
                    <a:pt x="1536" y="1632"/>
                  </a:lnTo>
                  <a:lnTo>
                    <a:pt x="1392" y="672"/>
                  </a:lnTo>
                  <a:lnTo>
                    <a:pt x="768" y="0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05120" y="495288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1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219320" y="411480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3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47920" y="495288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1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90720" y="495288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12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7200" y="57913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5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1599840" y="3962520"/>
              <a:ext cx="7621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914040" y="4800600"/>
              <a:ext cx="60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1371240" y="48006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23880" y="4800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23880" y="480060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761760" y="5638680"/>
              <a:ext cx="759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3520" y="495288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12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44800" y="5715000"/>
              <a:ext cx="99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uster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-Cluster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800600" y="1523880"/>
            <a:ext cx="752400" cy="752400"/>
            <a:chOff x="4800600" y="1523880"/>
            <a:chExt cx="752400" cy="752400"/>
          </a:xfrm>
        </p:grpSpPr>
        <p:sp>
          <p:nvSpPr>
            <p:cNvPr id="384" name="computr1"/>
            <p:cNvSpPr/>
            <p:nvPr/>
          </p:nvSpPr>
          <p:spPr>
            <a:xfrm>
              <a:off x="4800600" y="1523880"/>
              <a:ext cx="752400" cy="75240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915800" y="154620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3962520" y="16002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a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86200" y="24382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924680" y="26668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ookkee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26668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67080" y="2286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837720" y="2286000"/>
            <a:ext cx="3429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67080" y="2286000"/>
            <a:ext cx="3962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7924320" y="33526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8076960" y="3352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29600" y="3352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229600" y="33526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751400" y="2971800"/>
            <a:ext cx="2515320" cy="990720"/>
            <a:chOff x="1751400" y="2971800"/>
            <a:chExt cx="2515320" cy="990720"/>
          </a:xfrm>
        </p:grpSpPr>
        <p:sp>
          <p:nvSpPr>
            <p:cNvPr id="398" name=""/>
            <p:cNvSpPr/>
            <p:nvPr/>
          </p:nvSpPr>
          <p:spPr>
            <a:xfrm>
              <a:off x="2057400" y="32767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-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361960" y="3124080"/>
              <a:ext cx="19047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751400" y="2971800"/>
              <a:ext cx="148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6699"/>
                  </a:solidFill>
                  <a:latin typeface="Arial"/>
                  <a:ea typeface="Arial"/>
                </a:rPr>
                <a:t>Cluster gateway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209680" y="3733920"/>
            <a:ext cx="2290320" cy="2743200"/>
            <a:chOff x="2209680" y="3733920"/>
            <a:chExt cx="2290320" cy="2743200"/>
          </a:xfrm>
        </p:grpSpPr>
        <p:sp>
          <p:nvSpPr>
            <p:cNvPr id="402" name=""/>
            <p:cNvSpPr/>
            <p:nvPr/>
          </p:nvSpPr>
          <p:spPr>
            <a:xfrm>
              <a:off x="2209680" y="4800600"/>
              <a:ext cx="2210040" cy="1676520"/>
            </a:xfrm>
            <a:custGeom>
              <a:avLst/>
              <a:gdLst/>
              <a:ahLst/>
              <a:rect l="l" t="t" r="r" b="b"/>
              <a:pathLst>
                <a:path w="1392" h="1056">
                  <a:moveTo>
                    <a:pt x="624" y="0"/>
                  </a:moveTo>
                  <a:lnTo>
                    <a:pt x="48" y="672"/>
                  </a:lnTo>
                  <a:lnTo>
                    <a:pt x="0" y="864"/>
                  </a:lnTo>
                  <a:lnTo>
                    <a:pt x="144" y="1056"/>
                  </a:lnTo>
                  <a:lnTo>
                    <a:pt x="1296" y="1056"/>
                  </a:lnTo>
                  <a:lnTo>
                    <a:pt x="1392" y="864"/>
                  </a:lnTo>
                  <a:lnTo>
                    <a:pt x="1296" y="624"/>
                  </a:lnTo>
                  <a:lnTo>
                    <a:pt x="672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657600" y="57913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5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00400" y="41911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3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-3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95480" y="495288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13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00400" y="57913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5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43200" y="57913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52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362320" y="3962520"/>
              <a:ext cx="1143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3352320" y="48769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666880" y="5638680"/>
              <a:ext cx="5335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124080" y="5638680"/>
              <a:ext cx="763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00400" y="563868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200400" y="5638680"/>
              <a:ext cx="8380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81280" y="48769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81280" y="4876920"/>
              <a:ext cx="381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657600" y="487692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86000" y="57913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52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07120" y="5181480"/>
              <a:ext cx="99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uste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70720" y="3733920"/>
              <a:ext cx="152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6699"/>
                  </a:solidFill>
                  <a:latin typeface="Arial"/>
                  <a:ea typeface="Arial"/>
                </a:rPr>
                <a:t>Cluster gateway 1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4267080" y="3048120"/>
            <a:ext cx="3962520" cy="1828800"/>
            <a:chOff x="4267080" y="3048120"/>
            <a:chExt cx="3962520" cy="1828800"/>
          </a:xfrm>
        </p:grpSpPr>
        <p:sp>
          <p:nvSpPr>
            <p:cNvPr id="421" name=""/>
            <p:cNvSpPr/>
            <p:nvPr/>
          </p:nvSpPr>
          <p:spPr>
            <a:xfrm>
              <a:off x="6858000" y="335268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43800" y="41911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3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X+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67080" y="3124080"/>
              <a:ext cx="2895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552720" y="4038480"/>
              <a:ext cx="685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6934320" y="4038480"/>
              <a:ext cx="3045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238880" y="4038480"/>
              <a:ext cx="152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38880" y="4038480"/>
              <a:ext cx="6098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41911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3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X+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41911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3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X+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72200" y="41911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3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X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48160" y="3048120"/>
              <a:ext cx="160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6699"/>
                  </a:solidFill>
                  <a:latin typeface="Arial"/>
                  <a:ea typeface="Arial"/>
                </a:rPr>
                <a:t>Desktop compu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2438280" y="3733920"/>
            <a:ext cx="2823840" cy="2286000"/>
            <a:chOff x="2438280" y="3733920"/>
            <a:chExt cx="2823840" cy="2286000"/>
          </a:xfrm>
        </p:grpSpPr>
        <p:sp>
          <p:nvSpPr>
            <p:cNvPr id="433" name=""/>
            <p:cNvSpPr/>
            <p:nvPr/>
          </p:nvSpPr>
          <p:spPr>
            <a:xfrm>
              <a:off x="4419720" y="41911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3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-3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38280" y="3962520"/>
              <a:ext cx="21337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419720" y="5105520"/>
              <a:ext cx="533160" cy="914400"/>
            </a:xfrm>
            <a:custGeom>
              <a:avLst/>
              <a:gdLst/>
              <a:ahLst/>
              <a:rect l="l" t="t" r="r" b="b"/>
              <a:pathLst>
                <a:path w="336" h="576">
                  <a:moveTo>
                    <a:pt x="192" y="0"/>
                  </a:moveTo>
                  <a:lnTo>
                    <a:pt x="0" y="576"/>
                  </a:lnTo>
                  <a:lnTo>
                    <a:pt x="336" y="576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4724280" y="48769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00600" y="48769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00600" y="48769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00600" y="487692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69240" y="5638680"/>
              <a:ext cx="99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uster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49400" y="3733920"/>
              <a:ext cx="30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6699"/>
                  </a:solidFill>
                  <a:latin typeface="Arial"/>
                  <a:ea typeface="Arial"/>
                </a:rPr>
                <a:t>2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438280" y="3733920"/>
            <a:ext cx="3814200" cy="2286000"/>
            <a:chOff x="2438280" y="3733920"/>
            <a:chExt cx="3814200" cy="2286000"/>
          </a:xfrm>
        </p:grpSpPr>
        <p:sp>
          <p:nvSpPr>
            <p:cNvPr id="443" name=""/>
            <p:cNvSpPr/>
            <p:nvPr/>
          </p:nvSpPr>
          <p:spPr>
            <a:xfrm>
              <a:off x="5181480" y="41911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-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438280" y="3962520"/>
              <a:ext cx="2971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029200" y="5105520"/>
              <a:ext cx="533520" cy="914400"/>
            </a:xfrm>
            <a:custGeom>
              <a:avLst/>
              <a:gdLst/>
              <a:ahLst/>
              <a:rect l="l" t="t" r="r" b="b"/>
              <a:pathLst>
                <a:path w="336" h="576">
                  <a:moveTo>
                    <a:pt x="192" y="0"/>
                  </a:moveTo>
                  <a:lnTo>
                    <a:pt x="0" y="576"/>
                  </a:lnTo>
                  <a:lnTo>
                    <a:pt x="336" y="576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5333760" y="48769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8640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86400" y="48769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86400" y="487692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259600" y="5334120"/>
              <a:ext cx="99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uster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58880" y="3733920"/>
              <a:ext cx="57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6699"/>
                  </a:solidFill>
                  <a:latin typeface="Arial"/>
                  <a:ea typeface="Arial"/>
                </a:rPr>
                <a:t>and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04:59:50Z</dcterms:created>
  <dc:creator>Emory Horvath</dc:creator>
  <dc:description/>
  <dc:language>en-US</dc:language>
  <cp:lastModifiedBy>Emory Horvath</cp:lastModifiedBy>
  <cp:lastPrinted>2005-05-30T17:12:58Z</cp:lastPrinted>
  <dcterms:modified xsi:type="dcterms:W3CDTF">2006-06-02T14:56:59Z</dcterms:modified>
  <cp:revision>230</cp:revision>
  <dc:subject/>
  <dc:title>Inter-cluster Job Deployment in AgentTeamwork</dc:title>
</cp:coreProperties>
</file>