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58D8-F607-4964-9FE5-D091CD860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fterno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ke to talk with you about my CSS497 work on the AgentTeamwork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bile-agent-based grid-computing project, funded by NSF, under the direction of Prof. Fukuda.  Also Shinya Kobayashi, Koichi Kashiwagi (Dept. of Computer Science, Ehime University, Japa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, a brief introduction to GridComputing and AgentTeamwor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of you have probably taken CSS434, and/or attended Prof. Fukuda’s recent presentation, and are familiar with this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grid-computing packages, focusing on different aspects of grid-compu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or, University of Wisconsin-Madison.  Mature package, emphasizing high-throughput computing (large amounts of CPU computational power over long period of tim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Globus, Legion, NetSol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pite all these packages, grid-computing still has problems which limit its widespread u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areas that AgentTeamwork seeks to focus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D89C24-A4CC-4C4F-B60E-A2A5E4C35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3F9BF-D7CA-420D-B058-6EDD8930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211AB-8050-48DC-BDB5-4248DF2D0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2CCDB-1E24-40F8-A6F9-A0812DAC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45003-F226-4793-B77A-F9258DAC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4F55-AA42-46C8-893B-913B344A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CBA-C434-4373-A254-30D229C1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397A7-5DD2-4536-9C7A-604FE2F7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79F9-6F19-4D0E-91C8-053447ED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1D79-7BA6-4C45-A97A-EA51C67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F37DA-A3F3-44B8-8302-74A86901B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E6837-046B-4DAA-B25E-7BE3A1426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C153-A3C3-42AA-B8E8-BC0111F24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9C79-4CED-4B35-932C-F8FAA547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6A2B-C6D3-47DC-8B06-13D17547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A8DF5-225A-4FB1-90C0-7C62AAE58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F667-8F76-4D5E-B602-2ECBB12A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C658F-F42D-4034-974E-7152D82D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C10FB-F59A-4B09-A688-8C257546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A7F52-96F0-4861-AFCF-042E2FD60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768E-C655-47FA-B4F4-F484E535B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DA19F-FC0E-4ADF-9A23-53EAF8E20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2628D-1C4E-4E3D-8BDB-D91FF936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8612E-069C-47E9-ADC8-CED65E592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0ED1-878B-4642-A882-6D2882EAEC6A}" type="slidenum">
              <a:rPr b="0" lang="en-US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DC37B-01A2-4B45-969D-16AA0A3D4E3A}" type="slidenum">
              <a:rPr b="0" lang="en-US" sz="16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image" Target="../media/image1.gif"/><Relationship Id="rId8" Type="http://schemas.openxmlformats.org/officeDocument/2006/relationships/image" Target="../media/image1.gif"/><Relationship Id="rId9" Type="http://schemas.openxmlformats.org/officeDocument/2006/relationships/image" Target="../media/image1.gif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-cluster Job Deployment by AgentTeamwork Sentinel Ag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ory Horv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SS497 Spring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sor: Dr. Munehiro Fuku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-Cluster Job Re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57200" y="3886200"/>
            <a:ext cx="2438280" cy="2590920"/>
          </a:xfrm>
          <a:custGeom>
            <a:avLst/>
            <a:gdLst/>
            <a:ahLst/>
            <a:rect l="l" t="t" r="r" b="b"/>
            <a:pathLst>
              <a:path w="1536" h="1632">
                <a:moveTo>
                  <a:pt x="768" y="0"/>
                </a:moveTo>
                <a:lnTo>
                  <a:pt x="96" y="672"/>
                </a:lnTo>
                <a:lnTo>
                  <a:pt x="0" y="1632"/>
                </a:lnTo>
                <a:lnTo>
                  <a:pt x="1536" y="1632"/>
                </a:lnTo>
                <a:lnTo>
                  <a:pt x="1392" y="672"/>
                </a:lnTo>
                <a:lnTo>
                  <a:pt x="768" y="0"/>
                </a:lnTo>
                <a:close/>
              </a:path>
            </a:pathLst>
          </a:custGeom>
          <a:solidFill>
            <a:srgbClr val="9999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4952880" y="1523880"/>
            <a:ext cx="752760" cy="752400"/>
            <a:chOff x="4952880" y="1523880"/>
            <a:chExt cx="752760" cy="752400"/>
          </a:xfrm>
        </p:grpSpPr>
        <p:sp>
          <p:nvSpPr>
            <p:cNvPr id="456" name="computr1"/>
            <p:cNvSpPr/>
            <p:nvPr/>
          </p:nvSpPr>
          <p:spPr>
            <a:xfrm>
              <a:off x="4952880" y="1523880"/>
              <a:ext cx="75276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068440" y="1546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8" name=""/>
          <p:cNvSpPr/>
          <p:nvPr/>
        </p:nvSpPr>
        <p:spPr>
          <a:xfrm>
            <a:off x="4038480" y="16002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962520" y="24382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590920" y="33526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343400" y="40384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-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295280" y="4114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5238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0666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00100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948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4340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91404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343400" y="2286000"/>
            <a:ext cx="3962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800064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H="1">
            <a:off x="8153280" y="335268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05920" y="3352680"/>
            <a:ext cx="30456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3123720" y="3124080"/>
            <a:ext cx="12193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33520" y="57913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312408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1676160" y="3962520"/>
            <a:ext cx="1066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71800" y="4038480"/>
            <a:ext cx="1371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H="1">
            <a:off x="990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 flipH="1">
            <a:off x="1447560" y="48006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600200" y="4800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60020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838080" y="56386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9480" y="4952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83040" y="396252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luster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3352680" y="4724280"/>
            <a:ext cx="2290320" cy="1752840"/>
            <a:chOff x="3352680" y="4724280"/>
            <a:chExt cx="2290320" cy="1752840"/>
          </a:xfrm>
        </p:grpSpPr>
        <p:sp>
          <p:nvSpPr>
            <p:cNvPr id="487" name=""/>
            <p:cNvSpPr/>
            <p:nvPr/>
          </p:nvSpPr>
          <p:spPr>
            <a:xfrm>
              <a:off x="3352680" y="4800600"/>
              <a:ext cx="2210040" cy="167652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624" y="0"/>
                  </a:moveTo>
                  <a:lnTo>
                    <a:pt x="48" y="672"/>
                  </a:lnTo>
                  <a:lnTo>
                    <a:pt x="0" y="864"/>
                  </a:lnTo>
                  <a:lnTo>
                    <a:pt x="144" y="1056"/>
                  </a:lnTo>
                  <a:lnTo>
                    <a:pt x="1296" y="1056"/>
                  </a:lnTo>
                  <a:lnTo>
                    <a:pt x="1392" y="864"/>
                  </a:lnTo>
                  <a:lnTo>
                    <a:pt x="1296" y="624"/>
                  </a:lnTo>
                  <a:lnTo>
                    <a:pt x="672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006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03848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3434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886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4419360" y="47242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809880" y="5638680"/>
              <a:ext cx="533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4267080" y="563868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343400" y="5638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343400" y="56386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290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650120" y="518148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208600" y="30481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Cluster gateway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961080" y="3733920"/>
            <a:ext cx="148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Cluster gatew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105160" y="2971800"/>
            <a:ext cx="160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6699"/>
                </a:solidFill>
                <a:latin typeface="Arial"/>
                <a:ea typeface="Arial"/>
              </a:rPr>
              <a:t>Desktop compu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638680" y="3352680"/>
            <a:ext cx="533520" cy="914400"/>
          </a:xfrm>
          <a:custGeom>
            <a:avLst/>
            <a:gdLst/>
            <a:ahLst/>
            <a:rect l="l" t="t" r="r" b="b"/>
            <a:pathLst>
              <a:path w="336" h="576">
                <a:moveTo>
                  <a:pt x="192" y="0"/>
                </a:moveTo>
                <a:lnTo>
                  <a:pt x="0" y="576"/>
                </a:lnTo>
                <a:lnTo>
                  <a:pt x="336" y="576"/>
                </a:lnTo>
                <a:lnTo>
                  <a:pt x="192" y="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600200" y="5791320"/>
            <a:ext cx="1218960" cy="685800"/>
            <a:chOff x="1600200" y="5791320"/>
            <a:chExt cx="1218960" cy="685800"/>
          </a:xfrm>
        </p:grpSpPr>
        <p:sp>
          <p:nvSpPr>
            <p:cNvPr id="504" name=""/>
            <p:cNvSpPr/>
            <p:nvPr/>
          </p:nvSpPr>
          <p:spPr>
            <a:xfrm>
              <a:off x="21333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600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457200" y="5867280"/>
            <a:ext cx="7621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267080" y="4114800"/>
            <a:ext cx="76212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6172200" y="3809880"/>
            <a:ext cx="2728080" cy="2667240"/>
            <a:chOff x="6172200" y="3809880"/>
            <a:chExt cx="2728080" cy="2667240"/>
          </a:xfrm>
        </p:grpSpPr>
        <p:sp>
          <p:nvSpPr>
            <p:cNvPr id="509" name=""/>
            <p:cNvSpPr/>
            <p:nvPr/>
          </p:nvSpPr>
          <p:spPr>
            <a:xfrm>
              <a:off x="6172200" y="4800600"/>
              <a:ext cx="2209680" cy="167652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624" y="0"/>
                  </a:moveTo>
                  <a:lnTo>
                    <a:pt x="48" y="672"/>
                  </a:lnTo>
                  <a:lnTo>
                    <a:pt x="0" y="864"/>
                  </a:lnTo>
                  <a:lnTo>
                    <a:pt x="144" y="1056"/>
                  </a:lnTo>
                  <a:lnTo>
                    <a:pt x="1296" y="1056"/>
                  </a:lnTo>
                  <a:lnTo>
                    <a:pt x="1392" y="864"/>
                  </a:lnTo>
                  <a:lnTo>
                    <a:pt x="1296" y="624"/>
                  </a:lnTo>
                  <a:lnTo>
                    <a:pt x="672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6197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62560" y="40384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85800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625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7053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7238520" y="47242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6629040" y="5638680"/>
              <a:ext cx="5331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7086240" y="563868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62560" y="5638680"/>
              <a:ext cx="3812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162560" y="5638680"/>
              <a:ext cx="8384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4816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u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545960" y="5029200"/>
              <a:ext cx="135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Extra Clus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550920" y="3809880"/>
              <a:ext cx="1778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Extra Cluster gatew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343080" y="5410080"/>
            <a:ext cx="1942560" cy="1270080"/>
            <a:chOff x="343080" y="5410080"/>
            <a:chExt cx="1942560" cy="1270080"/>
          </a:xfrm>
        </p:grpSpPr>
        <p:sp>
          <p:nvSpPr>
            <p:cNvPr id="524" name=""/>
            <p:cNvSpPr/>
            <p:nvPr/>
          </p:nvSpPr>
          <p:spPr>
            <a:xfrm>
              <a:off x="1600200" y="5791320"/>
              <a:ext cx="68544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43080" y="5410080"/>
              <a:ext cx="1257120" cy="1270080"/>
            </a:xfrm>
            <a:custGeom>
              <a:avLst/>
              <a:gdLst/>
              <a:ahLst/>
              <a:rect l="l" t="t" r="r" b="b"/>
              <a:pathLst>
                <a:path w="792" h="800">
                  <a:moveTo>
                    <a:pt x="168" y="0"/>
                  </a:moveTo>
                  <a:cubicBezTo>
                    <a:pt x="108" y="72"/>
                    <a:pt x="48" y="144"/>
                    <a:pt x="24" y="240"/>
                  </a:cubicBezTo>
                  <a:cubicBezTo>
                    <a:pt x="0" y="336"/>
                    <a:pt x="8" y="496"/>
                    <a:pt x="24" y="576"/>
                  </a:cubicBezTo>
                  <a:cubicBezTo>
                    <a:pt x="40" y="656"/>
                    <a:pt x="40" y="688"/>
                    <a:pt x="120" y="720"/>
                  </a:cubicBezTo>
                  <a:cubicBezTo>
                    <a:pt x="200" y="752"/>
                    <a:pt x="392" y="800"/>
                    <a:pt x="504" y="768"/>
                  </a:cubicBezTo>
                  <a:cubicBezTo>
                    <a:pt x="616" y="736"/>
                    <a:pt x="744" y="568"/>
                    <a:pt x="792" y="528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6" name=""/>
          <p:cNvSpPr/>
          <p:nvPr/>
        </p:nvSpPr>
        <p:spPr>
          <a:xfrm>
            <a:off x="2857680" y="4038480"/>
            <a:ext cx="4305240" cy="2718000"/>
          </a:xfrm>
          <a:custGeom>
            <a:avLst/>
            <a:gdLst/>
            <a:ahLst/>
            <a:rect l="l" t="t" r="r" b="b"/>
            <a:pathLst>
              <a:path w="2712" h="1712">
                <a:moveTo>
                  <a:pt x="72" y="0"/>
                </a:moveTo>
                <a:cubicBezTo>
                  <a:pt x="36" y="208"/>
                  <a:pt x="0" y="416"/>
                  <a:pt x="24" y="672"/>
                </a:cubicBezTo>
                <a:cubicBezTo>
                  <a:pt x="48" y="928"/>
                  <a:pt x="8" y="1376"/>
                  <a:pt x="216" y="1536"/>
                </a:cubicBezTo>
                <a:cubicBezTo>
                  <a:pt x="424" y="1696"/>
                  <a:pt x="1008" y="1632"/>
                  <a:pt x="1272" y="1632"/>
                </a:cubicBezTo>
                <a:cubicBezTo>
                  <a:pt x="1536" y="1632"/>
                  <a:pt x="1656" y="1712"/>
                  <a:pt x="1800" y="1536"/>
                </a:cubicBezTo>
                <a:cubicBezTo>
                  <a:pt x="1944" y="1360"/>
                  <a:pt x="2024" y="800"/>
                  <a:pt x="2136" y="576"/>
                </a:cubicBezTo>
                <a:cubicBezTo>
                  <a:pt x="2248" y="352"/>
                  <a:pt x="2376" y="256"/>
                  <a:pt x="2472" y="192"/>
                </a:cubicBezTo>
                <a:cubicBezTo>
                  <a:pt x="2568" y="128"/>
                  <a:pt x="2640" y="160"/>
                  <a:pt x="2712" y="19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2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1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Current &amp; Ongoing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Teamwork is an ongoing project, with parallel contributions by many other team memb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MI to Java Socket enhancements, developed by Duncan Smith, were integ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nt file I/O enhancements (Jumpei Miyauchi), and sensor agent enhancements (Jun Morisaki) were also integr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hough I am presenting now, I will be continuing on the project over the summ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inter-cluster fault tolerance and job redeploy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tion of inter-cluster performance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isting Cuong Ngo as needed with the implementation of dynamic resource al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or Fukuda, my advis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SF Middleware Initi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W-Bothell CSS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 and other slide content contributed by Prof. Fukuda from earlier AgentTeamwork presentations and pap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Grid Comput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 Computing seeks to pool together large numbers of computers, allowing unused CPU cycles to be shared for CPU-intensive 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I@h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ob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installation and mainte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gentTeam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Java-based grid computing platform, based on the mobile agent paradig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entralized architecture, without a central manag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installation and particip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with fault tolerance in mi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ing computers run a Java process (UWPla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UWPlace can host one or more mobile agent Java processes (UWAge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FTP server hosts the list of available compu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gentTeamwork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74800" y="375444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2590920" y="4602240"/>
            <a:ext cx="419076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191840" y="5364000"/>
            <a:ext cx="811800" cy="838440"/>
            <a:chOff x="4191840" y="5364000"/>
            <a:chExt cx="811800" cy="838440"/>
          </a:xfrm>
        </p:grpSpPr>
        <p:sp>
          <p:nvSpPr>
            <p:cNvPr id="123" name="tower"/>
            <p:cNvSpPr/>
            <p:nvPr/>
          </p:nvSpPr>
          <p:spPr>
            <a:xfrm>
              <a:off x="4241880" y="5364000"/>
              <a:ext cx="761760" cy="83844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191840" y="5592600"/>
              <a:ext cx="63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FT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er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648320" y="5211720"/>
            <a:ext cx="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219320" y="4525920"/>
            <a:ext cx="752400" cy="752400"/>
            <a:chOff x="1219320" y="4525920"/>
            <a:chExt cx="752400" cy="752400"/>
          </a:xfrm>
        </p:grpSpPr>
        <p:sp>
          <p:nvSpPr>
            <p:cNvPr id="127" name="computr1"/>
            <p:cNvSpPr/>
            <p:nvPr/>
          </p:nvSpPr>
          <p:spPr>
            <a:xfrm>
              <a:off x="1219320" y="452592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60080" y="4573440"/>
              <a:ext cx="448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7162920" y="4525920"/>
            <a:ext cx="752400" cy="752400"/>
            <a:chOff x="7162920" y="4525920"/>
            <a:chExt cx="752400" cy="752400"/>
          </a:xfrm>
        </p:grpSpPr>
        <p:sp>
          <p:nvSpPr>
            <p:cNvPr id="130" name="computr1"/>
            <p:cNvSpPr/>
            <p:nvPr/>
          </p:nvSpPr>
          <p:spPr>
            <a:xfrm>
              <a:off x="7162920" y="452592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3680" y="4573440"/>
              <a:ext cx="448920" cy="3985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905120" y="4983120"/>
            <a:ext cx="6094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05720" y="4983120"/>
            <a:ext cx="533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52680" y="4525920"/>
            <a:ext cx="1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4449600"/>
            <a:ext cx="14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102360" y="4471920"/>
            <a:ext cx="14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48520" y="5135400"/>
            <a:ext cx="144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124080" y="5135400"/>
            <a:ext cx="180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838080" y="375444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 rot="10800000">
            <a:off x="1218960" y="367812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64" y="24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39830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3105000" y="300204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6270480" y="300204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4781520" y="3002040"/>
            <a:ext cx="511200" cy="533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7870680" y="375444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6934320" y="3754440"/>
            <a:ext cx="51120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10800000">
            <a:off x="7314840" y="3678120"/>
            <a:ext cx="609480" cy="76320"/>
          </a:xfrm>
          <a:custGeom>
            <a:avLst/>
            <a:gdLst/>
            <a:ahLst/>
            <a:rect l="l" t="t" r="r" b="b"/>
            <a:pathLst>
              <a:path w="384" h="48">
                <a:moveTo>
                  <a:pt x="0" y="0"/>
                </a:moveTo>
                <a:cubicBezTo>
                  <a:pt x="64" y="24"/>
                  <a:pt x="128" y="48"/>
                  <a:pt x="192" y="48"/>
                </a:cubicBezTo>
                <a:cubicBezTo>
                  <a:pt x="256" y="48"/>
                  <a:pt x="352" y="8"/>
                  <a:pt x="384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391520" y="398304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2133720" y="5897520"/>
            <a:ext cx="511200" cy="533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9"/>
          <a:stretch/>
        </p:blipFill>
        <p:spPr>
          <a:xfrm>
            <a:off x="6477120" y="5897520"/>
            <a:ext cx="511200" cy="53352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5553360" y="3002040"/>
            <a:ext cx="694440" cy="534960"/>
            <a:chOff x="5553360" y="3002040"/>
            <a:chExt cx="694440" cy="534960"/>
          </a:xfrm>
        </p:grpSpPr>
        <p:sp>
          <p:nvSpPr>
            <p:cNvPr id="152" name="Document"/>
            <p:cNvSpPr/>
            <p:nvPr/>
          </p:nvSpPr>
          <p:spPr>
            <a:xfrm>
              <a:off x="5781600" y="300204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53360" y="32907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397600" y="3002040"/>
            <a:ext cx="694440" cy="534960"/>
            <a:chOff x="2397600" y="3002040"/>
            <a:chExt cx="694440" cy="534960"/>
          </a:xfrm>
        </p:grpSpPr>
        <p:sp>
          <p:nvSpPr>
            <p:cNvPr id="155" name="Document"/>
            <p:cNvSpPr/>
            <p:nvPr/>
          </p:nvSpPr>
          <p:spPr>
            <a:xfrm>
              <a:off x="2625840" y="300204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397600" y="32907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3277080" y="5791320"/>
            <a:ext cx="758160" cy="611280"/>
            <a:chOff x="3277080" y="5791320"/>
            <a:chExt cx="758160" cy="611280"/>
          </a:xfrm>
        </p:grpSpPr>
        <p:sp>
          <p:nvSpPr>
            <p:cNvPr id="158" name="Documents"/>
            <p:cNvSpPr/>
            <p:nvPr/>
          </p:nvSpPr>
          <p:spPr>
            <a:xfrm>
              <a:off x="3521160" y="579132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77080" y="6156360"/>
              <a:ext cx="75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258160" y="5791320"/>
            <a:ext cx="758160" cy="611280"/>
            <a:chOff x="5258160" y="5791320"/>
            <a:chExt cx="758160" cy="611280"/>
          </a:xfrm>
        </p:grpSpPr>
        <p:sp>
          <p:nvSpPr>
            <p:cNvPr id="161" name="Documents"/>
            <p:cNvSpPr/>
            <p:nvPr/>
          </p:nvSpPr>
          <p:spPr>
            <a:xfrm>
              <a:off x="5502240" y="579132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58160" y="6156360"/>
              <a:ext cx="75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computr1"/>
          <p:cNvSpPr/>
          <p:nvPr/>
        </p:nvSpPr>
        <p:spPr>
          <a:xfrm>
            <a:off x="2717640" y="5364000"/>
            <a:ext cx="752760" cy="75276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246400" y="2239920"/>
            <a:ext cx="1487520" cy="687600"/>
            <a:chOff x="2246400" y="2239920"/>
            <a:chExt cx="1487520" cy="687600"/>
          </a:xfrm>
        </p:grpSpPr>
        <p:sp>
          <p:nvSpPr>
            <p:cNvPr id="165" name=""/>
            <p:cNvSpPr/>
            <p:nvPr/>
          </p:nvSpPr>
          <p:spPr>
            <a:xfrm>
              <a:off x="2247840" y="2239920"/>
              <a:ext cx="1447920" cy="685800"/>
            </a:xfrm>
            <a:prstGeom prst="roundRect">
              <a:avLst>
                <a:gd name="adj" fmla="val 16667"/>
              </a:avLst>
            </a:prstGeom>
            <a:solidFill>
              <a:srgbClr val="dbdbd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46400" y="2681280"/>
              <a:ext cx="144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 program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324160" y="231624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09960" y="2316240"/>
              <a:ext cx="60948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60440" y="2316240"/>
              <a:ext cx="76212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971800" y="2406600"/>
              <a:ext cx="76212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Grid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24360" y="223992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dbdbdb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22920" y="2681280"/>
            <a:ext cx="144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program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686480" y="231624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00680" y="2316240"/>
            <a:ext cx="6094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22760" y="2316240"/>
            <a:ext cx="76212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napsho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62520" y="2406600"/>
            <a:ext cx="761760" cy="1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GridT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99440" y="2239920"/>
            <a:ext cx="1486800" cy="687600"/>
            <a:chOff x="5599440" y="2239920"/>
            <a:chExt cx="1486800" cy="687600"/>
          </a:xfrm>
        </p:grpSpPr>
        <p:sp>
          <p:nvSpPr>
            <p:cNvPr id="178" name=""/>
            <p:cNvSpPr/>
            <p:nvPr/>
          </p:nvSpPr>
          <p:spPr>
            <a:xfrm>
              <a:off x="5600520" y="2239920"/>
              <a:ext cx="1447560" cy="685800"/>
            </a:xfrm>
            <a:prstGeom prst="roundRect">
              <a:avLst>
                <a:gd name="adj" fmla="val 16667"/>
              </a:avLst>
            </a:prstGeom>
            <a:solidFill>
              <a:srgbClr val="dbdbdb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00007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99440" y="2681280"/>
              <a:ext cx="1447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 program wrapp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76840" y="2316240"/>
              <a:ext cx="609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362640" y="2316240"/>
              <a:ext cx="60912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13120" y="2316240"/>
              <a:ext cx="76176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Method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324480" y="2406600"/>
              <a:ext cx="761760" cy="17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5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GridTC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3912120" y="3002040"/>
            <a:ext cx="694440" cy="534960"/>
            <a:chOff x="3912120" y="3002040"/>
            <a:chExt cx="694440" cy="534960"/>
          </a:xfrm>
        </p:grpSpPr>
        <p:sp>
          <p:nvSpPr>
            <p:cNvPr id="185" name="Document"/>
            <p:cNvSpPr/>
            <p:nvPr/>
          </p:nvSpPr>
          <p:spPr>
            <a:xfrm>
              <a:off x="4140360" y="300204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2120" y="329076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computr1"/>
          <p:cNvSpPr/>
          <p:nvPr/>
        </p:nvSpPr>
        <p:spPr>
          <a:xfrm>
            <a:off x="5724360" y="3849840"/>
            <a:ext cx="75276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66880" y="144792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A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144792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A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19920" y="1447920"/>
            <a:ext cx="6397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User B’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2590560" y="2055960"/>
            <a:ext cx="26028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930640" y="2062080"/>
            <a:ext cx="26028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76720" y="2392200"/>
            <a:ext cx="990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3117600" y="2055960"/>
            <a:ext cx="158760" cy="33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267080" y="2068200"/>
            <a:ext cx="26064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838760" y="2036880"/>
            <a:ext cx="19044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55920" y="1859040"/>
            <a:ext cx="105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TC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Command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Command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172200" y="3459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ntinel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45924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ntinel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8168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computr1"/>
          <p:cNvSpPr/>
          <p:nvPr/>
        </p:nvSpPr>
        <p:spPr>
          <a:xfrm>
            <a:off x="4276800" y="3773520"/>
            <a:ext cx="75240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3503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Sentinel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42210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Resource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6324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Bookkeeper 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63244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新細明體"/>
              </a:rPr>
              <a:t>BookkeeperA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computr1"/>
          <p:cNvSpPr/>
          <p:nvPr/>
        </p:nvSpPr>
        <p:spPr>
          <a:xfrm>
            <a:off x="2819520" y="3840120"/>
            <a:ext cx="75240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computr1"/>
          <p:cNvSpPr/>
          <p:nvPr/>
        </p:nvSpPr>
        <p:spPr>
          <a:xfrm>
            <a:off x="5867280" y="5288040"/>
            <a:ext cx="752760" cy="752400"/>
          </a:xfrm>
          <a:prstGeom prst="pie">
            <a:avLst/>
          </a:prstGeom>
          <a:solidFill>
            <a:srgbClr val="eeeeee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305920" y="460224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10280" y="4525920"/>
            <a:ext cx="1447920" cy="1676520"/>
          </a:xfrm>
          <a:custGeom>
            <a:avLst/>
            <a:gdLst/>
            <a:ahLst/>
            <a:rect l="l" t="t" r="r" b="b"/>
            <a:pathLst>
              <a:path w="1008" h="1296">
                <a:moveTo>
                  <a:pt x="864" y="0"/>
                </a:moveTo>
                <a:cubicBezTo>
                  <a:pt x="936" y="324"/>
                  <a:pt x="1008" y="648"/>
                  <a:pt x="864" y="864"/>
                </a:cubicBezTo>
                <a:cubicBezTo>
                  <a:pt x="720" y="1080"/>
                  <a:pt x="144" y="1224"/>
                  <a:pt x="0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600" y="4602240"/>
            <a:ext cx="1765080" cy="1600200"/>
          </a:xfrm>
          <a:custGeom>
            <a:avLst/>
            <a:gdLst/>
            <a:ahLst/>
            <a:rect l="l" t="t" r="r" b="b"/>
            <a:pathLst>
              <a:path w="1160" h="1296">
                <a:moveTo>
                  <a:pt x="248" y="0"/>
                </a:moveTo>
                <a:cubicBezTo>
                  <a:pt x="124" y="324"/>
                  <a:pt x="0" y="648"/>
                  <a:pt x="152" y="864"/>
                </a:cubicBezTo>
                <a:cubicBezTo>
                  <a:pt x="304" y="1080"/>
                  <a:pt x="732" y="1188"/>
                  <a:pt x="1160" y="1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58720" y="3357720"/>
            <a:ext cx="2641680" cy="330120"/>
          </a:xfrm>
          <a:custGeom>
            <a:avLst/>
            <a:gdLst/>
            <a:ahLst/>
            <a:rect l="l" t="t" r="r" b="b"/>
            <a:pathLst>
              <a:path w="1664" h="208">
                <a:moveTo>
                  <a:pt x="224" y="208"/>
                </a:moveTo>
                <a:cubicBezTo>
                  <a:pt x="112" y="120"/>
                  <a:pt x="0" y="32"/>
                  <a:pt x="176" y="16"/>
                </a:cubicBezTo>
                <a:cubicBezTo>
                  <a:pt x="352" y="0"/>
                  <a:pt x="1032" y="96"/>
                  <a:pt x="1280" y="112"/>
                </a:cubicBezTo>
                <a:cubicBezTo>
                  <a:pt x="1528" y="128"/>
                  <a:pt x="1596" y="120"/>
                  <a:pt x="1664" y="1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49160" y="3535200"/>
            <a:ext cx="4051440" cy="285840"/>
          </a:xfrm>
          <a:custGeom>
            <a:avLst/>
            <a:gdLst/>
            <a:ahLst/>
            <a:rect l="l" t="t" r="r" b="b"/>
            <a:pathLst>
              <a:path w="2552" h="180">
                <a:moveTo>
                  <a:pt x="152" y="96"/>
                </a:moveTo>
                <a:cubicBezTo>
                  <a:pt x="76" y="48"/>
                  <a:pt x="0" y="0"/>
                  <a:pt x="152" y="0"/>
                </a:cubicBezTo>
                <a:cubicBezTo>
                  <a:pt x="304" y="0"/>
                  <a:pt x="827" y="68"/>
                  <a:pt x="1064" y="96"/>
                </a:cubicBezTo>
                <a:cubicBezTo>
                  <a:pt x="1301" y="124"/>
                  <a:pt x="1395" y="157"/>
                  <a:pt x="1576" y="168"/>
                </a:cubicBezTo>
                <a:cubicBezTo>
                  <a:pt x="1757" y="179"/>
                  <a:pt x="2029" y="180"/>
                  <a:pt x="2152" y="160"/>
                </a:cubicBezTo>
                <a:cubicBezTo>
                  <a:pt x="2275" y="140"/>
                  <a:pt x="2245" y="71"/>
                  <a:pt x="2312" y="48"/>
                </a:cubicBezTo>
                <a:cubicBezTo>
                  <a:pt x="2379" y="25"/>
                  <a:pt x="2465" y="24"/>
                  <a:pt x="2552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270240"/>
            <a:ext cx="1546200" cy="480960"/>
          </a:xfrm>
          <a:custGeom>
            <a:avLst/>
            <a:gdLst/>
            <a:ahLst/>
            <a:rect l="l" t="t" r="r" b="b"/>
            <a:pathLst>
              <a:path w="974" h="303">
                <a:moveTo>
                  <a:pt x="807" y="303"/>
                </a:moveTo>
                <a:cubicBezTo>
                  <a:pt x="818" y="256"/>
                  <a:pt x="974" y="46"/>
                  <a:pt x="863" y="23"/>
                </a:cubicBezTo>
                <a:cubicBezTo>
                  <a:pt x="752" y="0"/>
                  <a:pt x="286" y="139"/>
                  <a:pt x="143" y="167"/>
                </a:cubicBezTo>
                <a:cubicBezTo>
                  <a:pt x="0" y="195"/>
                  <a:pt x="35" y="186"/>
                  <a:pt x="7" y="19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31840" y="2938320"/>
            <a:ext cx="1397160" cy="3111480"/>
          </a:xfrm>
          <a:custGeom>
            <a:avLst/>
            <a:gdLst/>
            <a:ahLst/>
            <a:rect l="l" t="t" r="r" b="b"/>
            <a:pathLst>
              <a:path w="776" h="2224">
                <a:moveTo>
                  <a:pt x="352" y="136"/>
                </a:moveTo>
                <a:cubicBezTo>
                  <a:pt x="192" y="68"/>
                  <a:pt x="32" y="0"/>
                  <a:pt x="16" y="88"/>
                </a:cubicBezTo>
                <a:cubicBezTo>
                  <a:pt x="0" y="176"/>
                  <a:pt x="216" y="496"/>
                  <a:pt x="256" y="664"/>
                </a:cubicBezTo>
                <a:cubicBezTo>
                  <a:pt x="296" y="832"/>
                  <a:pt x="296" y="920"/>
                  <a:pt x="256" y="1096"/>
                </a:cubicBezTo>
                <a:cubicBezTo>
                  <a:pt x="216" y="1272"/>
                  <a:pt x="24" y="1568"/>
                  <a:pt x="16" y="1720"/>
                </a:cubicBezTo>
                <a:cubicBezTo>
                  <a:pt x="8" y="1872"/>
                  <a:pt x="111" y="1939"/>
                  <a:pt x="208" y="2008"/>
                </a:cubicBezTo>
                <a:cubicBezTo>
                  <a:pt x="305" y="2077"/>
                  <a:pt x="505" y="2100"/>
                  <a:pt x="600" y="2136"/>
                </a:cubicBezTo>
                <a:cubicBezTo>
                  <a:pt x="695" y="2172"/>
                  <a:pt x="739" y="2206"/>
                  <a:pt x="776" y="22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925720"/>
            <a:ext cx="368280" cy="3200400"/>
          </a:xfrm>
          <a:custGeom>
            <a:avLst/>
            <a:gdLst/>
            <a:ahLst/>
            <a:rect l="l" t="t" r="r" b="b"/>
            <a:pathLst>
              <a:path w="328" h="2256">
                <a:moveTo>
                  <a:pt x="288" y="96"/>
                </a:moveTo>
                <a:cubicBezTo>
                  <a:pt x="196" y="48"/>
                  <a:pt x="104" y="0"/>
                  <a:pt x="96" y="144"/>
                </a:cubicBezTo>
                <a:cubicBezTo>
                  <a:pt x="88" y="288"/>
                  <a:pt x="208" y="688"/>
                  <a:pt x="240" y="960"/>
                </a:cubicBezTo>
                <a:cubicBezTo>
                  <a:pt x="272" y="1232"/>
                  <a:pt x="328" y="1560"/>
                  <a:pt x="288" y="1776"/>
                </a:cubicBezTo>
                <a:cubicBezTo>
                  <a:pt x="248" y="1992"/>
                  <a:pt x="124" y="2124"/>
                  <a:pt x="0" y="225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5520" y="3002040"/>
            <a:ext cx="533160" cy="3124080"/>
          </a:xfrm>
          <a:custGeom>
            <a:avLst/>
            <a:gdLst/>
            <a:ahLst/>
            <a:rect l="l" t="t" r="r" b="b"/>
            <a:pathLst>
              <a:path w="336" h="2232">
                <a:moveTo>
                  <a:pt x="336" y="120"/>
                </a:moveTo>
                <a:cubicBezTo>
                  <a:pt x="272" y="60"/>
                  <a:pt x="208" y="0"/>
                  <a:pt x="192" y="168"/>
                </a:cubicBezTo>
                <a:cubicBezTo>
                  <a:pt x="176" y="336"/>
                  <a:pt x="272" y="824"/>
                  <a:pt x="240" y="1128"/>
                </a:cubicBezTo>
                <a:cubicBezTo>
                  <a:pt x="208" y="1432"/>
                  <a:pt x="0" y="1808"/>
                  <a:pt x="0" y="1992"/>
                </a:cubicBezTo>
                <a:cubicBezTo>
                  <a:pt x="0" y="2176"/>
                  <a:pt x="120" y="2204"/>
                  <a:pt x="240" y="22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088040" y="2300400"/>
            <a:ext cx="603000" cy="627120"/>
            <a:chOff x="7088040" y="2300400"/>
            <a:chExt cx="603000" cy="627120"/>
          </a:xfrm>
        </p:grpSpPr>
        <p:sp>
          <p:nvSpPr>
            <p:cNvPr id="220" name="Documents"/>
            <p:cNvSpPr/>
            <p:nvPr/>
          </p:nvSpPr>
          <p:spPr>
            <a:xfrm>
              <a:off x="7254720" y="230040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88040" y="2681280"/>
              <a:ext cx="60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604880" y="2239920"/>
            <a:ext cx="603000" cy="627120"/>
            <a:chOff x="1604880" y="2239920"/>
            <a:chExt cx="603000" cy="627120"/>
          </a:xfrm>
        </p:grpSpPr>
        <p:sp>
          <p:nvSpPr>
            <p:cNvPr id="223" name="Documents"/>
            <p:cNvSpPr/>
            <p:nvPr/>
          </p:nvSpPr>
          <p:spPr>
            <a:xfrm>
              <a:off x="1771560" y="2239920"/>
              <a:ext cx="284040" cy="38088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04880" y="2620800"/>
              <a:ext cx="603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Resul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7543800" y="1884240"/>
            <a:ext cx="1295280" cy="2260800"/>
          </a:xfrm>
          <a:custGeom>
            <a:avLst/>
            <a:gdLst/>
            <a:ahLst/>
            <a:rect l="l" t="t" r="r" b="b"/>
            <a:pathLst>
              <a:path w="816" h="1424">
                <a:moveTo>
                  <a:pt x="0" y="368"/>
                </a:moveTo>
                <a:cubicBezTo>
                  <a:pt x="312" y="184"/>
                  <a:pt x="624" y="0"/>
                  <a:pt x="720" y="176"/>
                </a:cubicBezTo>
                <a:cubicBezTo>
                  <a:pt x="816" y="352"/>
                  <a:pt x="696" y="888"/>
                  <a:pt x="576" y="14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600" y="1884240"/>
            <a:ext cx="1307880" cy="2184480"/>
          </a:xfrm>
          <a:custGeom>
            <a:avLst/>
            <a:gdLst/>
            <a:ahLst/>
            <a:rect l="l" t="t" r="r" b="b"/>
            <a:pathLst>
              <a:path w="824" h="1376">
                <a:moveTo>
                  <a:pt x="824" y="320"/>
                </a:moveTo>
                <a:cubicBezTo>
                  <a:pt x="516" y="160"/>
                  <a:pt x="208" y="0"/>
                  <a:pt x="104" y="176"/>
                </a:cubicBezTo>
                <a:cubicBezTo>
                  <a:pt x="0" y="352"/>
                  <a:pt x="100" y="864"/>
                  <a:pt x="200" y="137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620120" y="4983120"/>
            <a:ext cx="977760" cy="914400"/>
          </a:xfrm>
          <a:custGeom>
            <a:avLst/>
            <a:gdLst/>
            <a:ahLst/>
            <a:rect l="l" t="t" r="r" b="b"/>
            <a:pathLst>
              <a:path w="616" h="576">
                <a:moveTo>
                  <a:pt x="528" y="0"/>
                </a:moveTo>
                <a:cubicBezTo>
                  <a:pt x="572" y="240"/>
                  <a:pt x="616" y="480"/>
                  <a:pt x="528" y="528"/>
                </a:cubicBezTo>
                <a:cubicBezTo>
                  <a:pt x="440" y="576"/>
                  <a:pt x="220" y="432"/>
                  <a:pt x="0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5059440"/>
            <a:ext cx="1143000" cy="977760"/>
          </a:xfrm>
          <a:custGeom>
            <a:avLst/>
            <a:gdLst/>
            <a:ahLst/>
            <a:rect l="l" t="t" r="r" b="b"/>
            <a:pathLst>
              <a:path w="720" h="616">
                <a:moveTo>
                  <a:pt x="144" y="0"/>
                </a:moveTo>
                <a:cubicBezTo>
                  <a:pt x="72" y="268"/>
                  <a:pt x="0" y="536"/>
                  <a:pt x="96" y="576"/>
                </a:cubicBezTo>
                <a:cubicBezTo>
                  <a:pt x="192" y="616"/>
                  <a:pt x="456" y="428"/>
                  <a:pt x="720" y="2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500" autoRev="1" fill="hold"/>
                                        <p:tgtEl>
                                          <p:spTgt spid="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500" autoRev="1" fill="hold"/>
                                        <p:tgtEl>
                                          <p:spTgt spid="1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" dur="500" autoRev="1" fill="hold"/>
                                        <p:tgtEl>
                                          <p:spTgt spid="2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50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0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500" autoRev="1" fill="hold"/>
                                        <p:tgtEl>
                                          <p:spTgt spid="2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500" autoRev="1" fill="hold"/>
                                        <p:tgtEl>
                                          <p:spTgt spid="1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" dur="50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" dur="50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indefinite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indefinite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indefinite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indefinite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indefinite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indefinite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4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16 -0.01482 C -0.02395 -0.025 -0.04357 -0.03542 -0.0559 -0.03727 C -0.0677 -0.03912 -0.07448 -0.03357 -0.07639 -0.02593 C -0.07795 -0.01852 -0.07343 -0.01505 -0.06614 0.0081 C -0.05885 0.03125 -0.03854 0.08842 -0.03211 0.11296 C -0.02569 0.1375 -0.02465 0.13032 -0.02795 0.15555 C -0.03125 0.18078 -0.04357 0.23241 -0.05156 0.26481 C -0.05954 0.29722 -0.07343 0.33009 -0.07639 0.35023 C -0.07934 0.37037 -0.07517 0.37384 -0.06961 0.38518 C -0.06406 0.39653 -0.05451 0.40995 -0.04323 0.41852 C -0.03194 0.42708 -0.01493 0.43125 -0.00156 0.43703 C 0.01181 0.44282 0.02431 0.44421 0.03698 0.45278 C 0.04966 0.46134 0.06702 0.48148 0.07483 0.48889 E">
                                      <p:cBhvr>
                                        <p:cTn id="229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22222E-006 C -0.00295 -0.00533 -0.00972 -0.02523 -0.01719 -0.03148 C -0.02465 -0.03773 -0.03941 -0.04051 -0.04497 -0.03704 C -0.05052 -0.03357 -0.04913 -0.02107 -0.05 -0.01111 C -0.05087 -0.00116 -0.05156 0.00903 -0.05 0.02222 C -0.04844 0.03541 -0.04427 0.05185 -0.0408 0.06852 C -0.03733 0.08518 -0.03177 0.10949 -0.02969 0.12222 C -0.02761 0.13495 -0.02899 0.13703 -0.0283 0.14444 C -0.02761 0.15185 -0.02691 0.15 -0.025 0.16666 C -0.02309 0.18333 -0.01806 0.21111 -0.01667 0.24444 C -0.01528 0.27778 -0.01267 0.33588 -0.01667 0.36666 C -0.02066 0.39745 -0.03247 0.41111 -0.0408 0.42963 C -0.04913 0.44815 -0.05816 0.46597 -0.06667 0.47778 C -0.07517 0.48958 -0.08403 0.49444 -0.09167 0.5 E">
                                      <p:cBhvr>
                                        <p:cTn id="231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22222E-006 C -0.00382 -0.00255 -0.01875 -0.01134 -0.02309 -0.01482 C -0.02743 -0.01829 -0.02291 -0.01829 -0.02587 -0.02037 C -0.02882 -0.02246 -0.03767 -0.03334 -0.04114 -0.02778 C -0.04462 -0.02222 -0.04618 -0.00347 -0.0467 0.01296 C -0.04722 0.0294 -0.04514 0.0544 -0.04392 0.07037 C -0.04271 0.08634 -0.04149 0.09328 -0.03975 0.10926 C -0.03802 0.12523 -0.03333 0.14514 -0.03333 0.16666 C -0.03333 0.18819 -0.0368 0.21852 -0.03975 0.23889 C -0.04271 0.25926 -0.04791 0.27407 -0.05087 0.28889 C -0.05382 0.3037 -0.05521 0.31597 -0.05781 0.32778 C -0.06041 0.33958 -0.06406 0.35278 -0.06614 0.35926 C -0.06823 0.36574 -0.06823 0.3581 -0.07031 0.36666 C -0.07239 0.37523 -0.07795 0.39815 -0.07864 0.41111 C -0.07934 0.42407 -0.0776 0.43611 -0.075 0.44444 C -0.07239 0.45278 -0.06753 0.45648 -0.06337 0.46111 C -0.0592 0.46574 -0.05416 0.46944 -0.04948 0.47222 C -0.04479 0.475 -0.04028 0.47523 -0.03559 0.47778 C -0.0309 0.48032 -0.02465 0.48518 -0.0217 0.48703 E">
                                      <p:cBhvr>
                                        <p:cTn id="233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indefinite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indefinite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indefinite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5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07407E-006 C 0.04167 -0.03612 0.08333 -0.07223 0.10833 -0.07778 C 0.13333 -0.08334 0.14583 -0.06482 0.15 -0.03334 C 0.15417 -0.00186 0.13889 0.06666 0.13333 0.11111 C 0.12778 0.15555 0.1191 0.20023 0.11667 0.23333 C 0.11424 0.26643 0.11788 0.29444 0.11823 0.31041 E">
                                      <p:cBhvr>
                                        <p:cTn id="270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38889E-006 -1.48148E-006 C -0.04167 -0.03148 -0.08334 -0.06296 -0.10834 -0.06667 C -0.13334 -0.07037 -0.14723 -0.07037 -0.15001 -0.02222 C -0.15278 0.02593 -0.12778 0.16296 -0.12501 0.22222 C -0.12223 0.28148 -0.12778 0.30741 -0.13334 0.33333 E">
                                      <p:cBhvr>
                                        <p:cTn id="272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indefinite"/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indefinite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40000000596046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5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0.31041 C 0.11754 0.32801 0.11684 0.3456 0.11823 0.36597 C 0.11962 0.38634 0.12656 0.41597 0.12656 0.43264 C 0.12656 0.4493 0.1224 0.46041 0.11823 0.46597 C 0.11406 0.47153 0.11684 0.47523 0.10156 0.46597 C 0.08629 0.45671 0.05642 0.43356 0.02656 0.41041 E">
                                      <p:cBhvr>
                                        <p:cTn id="287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334 0.33334 C -0.14376 0.38148 -0.15417 0.42963 -0.15834 0.45556 C -0.16251 0.48148 -0.16112 0.48148 -0.15834 0.48889 C -0.15556 0.4963 -0.16112 0.51111 -0.14167 0.5 C -0.12223 0.48889 -0.08195 0.45556 -0.04167 0.42222 E">
                                      <p:cBhvr>
                                        <p:cTn id="289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AgentTeamwork Wo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571644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perating system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" y="5151600"/>
            <a:ext cx="8229600" cy="56484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WAgents mobile agent execution platfo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84600"/>
            <a:ext cx="8229600" cy="56700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ander, resource, sentinel, bookkeeper ag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017960"/>
            <a:ext cx="8229600" cy="56664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r program wrapp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0" y="3451320"/>
            <a:ext cx="4114800" cy="566640"/>
          </a:xfrm>
          <a:prstGeom prst="rect">
            <a:avLst/>
          </a:prstGeom>
          <a:solidFill>
            <a:srgbClr val="9999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idTcp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3451320"/>
            <a:ext cx="41148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sock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457200" y="2886120"/>
            <a:ext cx="8229600" cy="565200"/>
            <a:chOff x="457200" y="2886120"/>
            <a:chExt cx="8229600" cy="565200"/>
          </a:xfrm>
        </p:grpSpPr>
        <p:sp>
          <p:nvSpPr>
            <p:cNvPr id="238" name=""/>
            <p:cNvSpPr/>
            <p:nvPr/>
          </p:nvSpPr>
          <p:spPr>
            <a:xfrm>
              <a:off x="4572000" y="2886120"/>
              <a:ext cx="4114800" cy="56520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piJava-A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" y="2886120"/>
              <a:ext cx="4114800" cy="565200"/>
            </a:xfrm>
            <a:prstGeom prst="rect">
              <a:avLst/>
            </a:prstGeom>
            <a:solidFill>
              <a:srgbClr val="99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mpiJava-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57200" y="2319480"/>
            <a:ext cx="822960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piJava API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1752480"/>
            <a:ext cx="822960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user applic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200" y="1752480"/>
            <a:ext cx="8229600" cy="1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31948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288612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345132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401796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84600"/>
            <a:ext cx="822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7200" y="5151600"/>
            <a:ext cx="82296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716440"/>
            <a:ext cx="82296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6283440"/>
            <a:ext cx="8229600" cy="144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7200" y="1752480"/>
            <a:ext cx="1440" cy="4530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2895480"/>
            <a:ext cx="144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686800" y="1752480"/>
            <a:ext cx="1440" cy="453096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6" dur="250" autoRev="1" fill="hold"/>
                                        <p:tgtEl>
                                          <p:spTgt spid="2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2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250" autoRev="1" fill="hold"/>
                                        <p:tgtEl>
                                          <p:spTgt spid="2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2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6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-Cluster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7772400" y="1828800"/>
            <a:ext cx="752400" cy="752400"/>
            <a:chOff x="7772400" y="1828800"/>
            <a:chExt cx="752400" cy="752400"/>
          </a:xfrm>
        </p:grpSpPr>
        <p:sp>
          <p:nvSpPr>
            <p:cNvPr id="256" name="computr1"/>
            <p:cNvSpPr/>
            <p:nvPr/>
          </p:nvSpPr>
          <p:spPr>
            <a:xfrm>
              <a:off x="7772400" y="182880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887600" y="185112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029200" y="1981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2971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934320" y="2971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29718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971800"/>
            <a:ext cx="609480" cy="685800"/>
          </a:xfrm>
          <a:prstGeom prst="can">
            <a:avLst>
              <a:gd name="adj" fmla="val 25000"/>
            </a:avLst>
          </a:pr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41972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812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74320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1532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1520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7712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80060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638680" y="54864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438280" y="3657600"/>
            <a:ext cx="10670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123720" y="3657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657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50532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6171840" y="3657600"/>
            <a:ext cx="10666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6858000" y="365760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238880" y="36576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38880" y="365760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371600" y="495288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20968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209680" y="4952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5181120" y="4952880"/>
            <a:ext cx="8384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19920" y="49528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19920" y="4952880"/>
            <a:ext cx="6858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3657240" y="266688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133720" y="2666880"/>
            <a:ext cx="3124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2666880"/>
            <a:ext cx="1752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1905120"/>
            <a:ext cx="2286000" cy="228600"/>
          </a:xfrm>
          <a:custGeom>
            <a:avLst/>
            <a:gdLst/>
            <a:ahLst/>
            <a:rect l="l" t="t" r="r" b="b"/>
            <a:pathLst>
              <a:path w="1016" h="192">
                <a:moveTo>
                  <a:pt x="1008" y="48"/>
                </a:moveTo>
                <a:cubicBezTo>
                  <a:pt x="1012" y="52"/>
                  <a:pt x="1016" y="56"/>
                  <a:pt x="960" y="48"/>
                </a:cubicBezTo>
                <a:cubicBezTo>
                  <a:pt x="904" y="40"/>
                  <a:pt x="792" y="0"/>
                  <a:pt x="672" y="0"/>
                </a:cubicBezTo>
                <a:cubicBezTo>
                  <a:pt x="552" y="0"/>
                  <a:pt x="352" y="16"/>
                  <a:pt x="240" y="48"/>
                </a:cubicBezTo>
                <a:cubicBezTo>
                  <a:pt x="128" y="80"/>
                  <a:pt x="64" y="136"/>
                  <a:pt x="0" y="1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1371600" y="3276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0040" y="1981080"/>
            <a:ext cx="144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Job Submiss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065960" y="2666880"/>
            <a:ext cx="108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ML Qu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44480" y="281952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aw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388640" y="5257800"/>
            <a:ext cx="14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id: agent i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ank: MPI R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2514600" y="4876920"/>
            <a:ext cx="3200400" cy="763560"/>
            <a:chOff x="2514600" y="4876920"/>
            <a:chExt cx="3200400" cy="763560"/>
          </a:xfrm>
        </p:grpSpPr>
        <p:sp>
          <p:nvSpPr>
            <p:cNvPr id="301" name="Document"/>
            <p:cNvSpPr/>
            <p:nvPr/>
          </p:nvSpPr>
          <p:spPr>
            <a:xfrm flipH="1">
              <a:off x="3885480" y="510516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514600" y="4876920"/>
              <a:ext cx="3200400" cy="520200"/>
            </a:xfrm>
            <a:custGeom>
              <a:avLst/>
              <a:gdLst/>
              <a:ahLst/>
              <a:rect l="l" t="t" r="r" b="b"/>
              <a:pathLst>
                <a:path w="2016" h="328">
                  <a:moveTo>
                    <a:pt x="0" y="0"/>
                  </a:moveTo>
                  <a:cubicBezTo>
                    <a:pt x="168" y="96"/>
                    <a:pt x="336" y="192"/>
                    <a:pt x="528" y="240"/>
                  </a:cubicBezTo>
                  <a:cubicBezTo>
                    <a:pt x="720" y="288"/>
                    <a:pt x="904" y="328"/>
                    <a:pt x="1152" y="288"/>
                  </a:cubicBezTo>
                  <a:cubicBezTo>
                    <a:pt x="1400" y="248"/>
                    <a:pt x="1708" y="124"/>
                    <a:pt x="201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7960" y="5394240"/>
              <a:ext cx="694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snapsh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600200" y="6095880"/>
            <a:ext cx="3352680" cy="534960"/>
            <a:chOff x="1600200" y="6095880"/>
            <a:chExt cx="3352680" cy="534960"/>
          </a:xfrm>
        </p:grpSpPr>
        <p:sp>
          <p:nvSpPr>
            <p:cNvPr id="305" name="Document"/>
            <p:cNvSpPr/>
            <p:nvPr/>
          </p:nvSpPr>
          <p:spPr>
            <a:xfrm flipH="1">
              <a:off x="4114080" y="6095880"/>
              <a:ext cx="227160" cy="30456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1600200" y="6095880"/>
              <a:ext cx="3352680" cy="534960"/>
              <a:chOff x="1600200" y="6095880"/>
              <a:chExt cx="3352680" cy="534960"/>
            </a:xfrm>
          </p:grpSpPr>
          <p:sp>
            <p:nvSpPr>
              <p:cNvPr id="307" name=""/>
              <p:cNvSpPr/>
              <p:nvPr/>
            </p:nvSpPr>
            <p:spPr>
              <a:xfrm>
                <a:off x="1600200" y="6095880"/>
                <a:ext cx="3352680" cy="520560"/>
              </a:xfrm>
              <a:custGeom>
                <a:avLst/>
                <a:gdLst/>
                <a:ahLst/>
                <a:rect l="l" t="t" r="r" b="b"/>
                <a:pathLst>
                  <a:path w="2016" h="328">
                    <a:moveTo>
                      <a:pt x="0" y="0"/>
                    </a:moveTo>
                    <a:cubicBezTo>
                      <a:pt x="168" y="96"/>
                      <a:pt x="336" y="192"/>
                      <a:pt x="528" y="240"/>
                    </a:cubicBezTo>
                    <a:cubicBezTo>
                      <a:pt x="720" y="288"/>
                      <a:pt x="904" y="328"/>
                      <a:pt x="1152" y="288"/>
                    </a:cubicBezTo>
                    <a:cubicBezTo>
                      <a:pt x="1400" y="248"/>
                      <a:pt x="1708" y="124"/>
                      <a:pt x="2016" y="0"/>
                    </a:cubicBezTo>
                  </a:path>
                </a:pathLst>
              </a:custGeom>
              <a:noFill/>
              <a:ln w="9360">
                <a:solidFill>
                  <a:srgbClr val="0000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86560" y="6384600"/>
                <a:ext cx="694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snapsho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9" name=""/>
          <p:cNvGrpSpPr/>
          <p:nvPr/>
        </p:nvGrpSpPr>
        <p:grpSpPr>
          <a:xfrm>
            <a:off x="5334120" y="3276720"/>
            <a:ext cx="1600200" cy="1942560"/>
            <a:chOff x="5334120" y="3276720"/>
            <a:chExt cx="1600200" cy="1942560"/>
          </a:xfrm>
        </p:grpSpPr>
        <p:sp>
          <p:nvSpPr>
            <p:cNvPr id="310" name=""/>
            <p:cNvSpPr/>
            <p:nvPr/>
          </p:nvSpPr>
          <p:spPr>
            <a:xfrm>
              <a:off x="5334120" y="3276720"/>
              <a:ext cx="1600200" cy="1447560"/>
            </a:xfrm>
            <a:custGeom>
              <a:avLst/>
              <a:gdLst/>
              <a:ahLst/>
              <a:rect l="l" t="t" r="r" b="b"/>
              <a:pathLst>
                <a:path w="1008" h="912">
                  <a:moveTo>
                    <a:pt x="192" y="912"/>
                  </a:moveTo>
                  <a:cubicBezTo>
                    <a:pt x="96" y="764"/>
                    <a:pt x="0" y="616"/>
                    <a:pt x="48" y="480"/>
                  </a:cubicBezTo>
                  <a:cubicBezTo>
                    <a:pt x="96" y="344"/>
                    <a:pt x="320" y="176"/>
                    <a:pt x="480" y="96"/>
                  </a:cubicBezTo>
                  <a:cubicBezTo>
                    <a:pt x="640" y="16"/>
                    <a:pt x="824" y="8"/>
                    <a:pt x="1008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702400" y="4876560"/>
              <a:ext cx="850680" cy="342720"/>
            </a:xfrm>
            <a:custGeom>
              <a:avLst/>
              <a:gdLst/>
              <a:ahLst/>
              <a:rect l="l" t="t" r="r" b="b"/>
              <a:pathLst>
                <a:path w="536" h="216">
                  <a:moveTo>
                    <a:pt x="56" y="0"/>
                  </a:moveTo>
                  <a:cubicBezTo>
                    <a:pt x="28" y="84"/>
                    <a:pt x="0" y="168"/>
                    <a:pt x="56" y="192"/>
                  </a:cubicBezTo>
                  <a:cubicBezTo>
                    <a:pt x="112" y="216"/>
                    <a:pt x="312" y="176"/>
                    <a:pt x="392" y="144"/>
                  </a:cubicBezTo>
                  <a:cubicBezTo>
                    <a:pt x="472" y="112"/>
                    <a:pt x="504" y="56"/>
                    <a:pt x="536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4572000" y="4711680"/>
            <a:ext cx="3594240" cy="1689120"/>
            <a:chOff x="4572000" y="4711680"/>
            <a:chExt cx="3594240" cy="1689120"/>
          </a:xfrm>
        </p:grpSpPr>
        <p:sp>
          <p:nvSpPr>
            <p:cNvPr id="313" name=""/>
            <p:cNvSpPr/>
            <p:nvPr/>
          </p:nvSpPr>
          <p:spPr>
            <a:xfrm>
              <a:off x="4902120" y="6096240"/>
              <a:ext cx="812880" cy="304560"/>
            </a:xfrm>
            <a:custGeom>
              <a:avLst/>
              <a:gdLst/>
              <a:ahLst/>
              <a:rect l="l" t="t" r="r" b="b"/>
              <a:pathLst>
                <a:path w="512" h="192">
                  <a:moveTo>
                    <a:pt x="32" y="0"/>
                  </a:moveTo>
                  <a:cubicBezTo>
                    <a:pt x="16" y="96"/>
                    <a:pt x="0" y="192"/>
                    <a:pt x="80" y="192"/>
                  </a:cubicBezTo>
                  <a:cubicBezTo>
                    <a:pt x="160" y="192"/>
                    <a:pt x="336" y="96"/>
                    <a:pt x="512" y="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572000" y="4711680"/>
              <a:ext cx="3594240" cy="1384560"/>
            </a:xfrm>
            <a:custGeom>
              <a:avLst/>
              <a:gdLst/>
              <a:ahLst/>
              <a:rect l="l" t="t" r="r" b="b"/>
              <a:pathLst>
                <a:path w="2264" h="872">
                  <a:moveTo>
                    <a:pt x="240" y="872"/>
                  </a:moveTo>
                  <a:cubicBezTo>
                    <a:pt x="160" y="852"/>
                    <a:pt x="80" y="832"/>
                    <a:pt x="48" y="776"/>
                  </a:cubicBezTo>
                  <a:cubicBezTo>
                    <a:pt x="16" y="720"/>
                    <a:pt x="0" y="600"/>
                    <a:pt x="48" y="536"/>
                  </a:cubicBezTo>
                  <a:cubicBezTo>
                    <a:pt x="96" y="472"/>
                    <a:pt x="24" y="424"/>
                    <a:pt x="336" y="392"/>
                  </a:cubicBezTo>
                  <a:cubicBezTo>
                    <a:pt x="648" y="360"/>
                    <a:pt x="1608" y="400"/>
                    <a:pt x="1920" y="344"/>
                  </a:cubicBezTo>
                  <a:cubicBezTo>
                    <a:pt x="2232" y="288"/>
                    <a:pt x="2152" y="112"/>
                    <a:pt x="2208" y="56"/>
                  </a:cubicBezTo>
                  <a:cubicBezTo>
                    <a:pt x="2264" y="0"/>
                    <a:pt x="2260" y="4"/>
                    <a:pt x="2256" y="8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1066680" y="42670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1447560" y="36576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762120" y="365760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457200" y="4952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4952880"/>
            <a:ext cx="763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990720" y="4952880"/>
            <a:ext cx="30456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685440" y="4952880"/>
            <a:ext cx="6094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le-Cluster Job Re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09680" y="17524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3848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952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67652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01000" y="487692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343400" y="5562720"/>
            <a:ext cx="4281480" cy="962280"/>
            <a:chOff x="4343400" y="5562720"/>
            <a:chExt cx="4281480" cy="962280"/>
          </a:xfrm>
        </p:grpSpPr>
        <p:sp>
          <p:nvSpPr>
            <p:cNvPr id="330" name=""/>
            <p:cNvSpPr/>
            <p:nvPr/>
          </p:nvSpPr>
          <p:spPr>
            <a:xfrm>
              <a:off x="4343400" y="5562720"/>
              <a:ext cx="3886200" cy="787320"/>
            </a:xfrm>
            <a:custGeom>
              <a:avLst/>
              <a:gdLst/>
              <a:ahLst/>
              <a:rect l="l" t="t" r="r" b="b"/>
              <a:pathLst>
                <a:path w="3024" h="448">
                  <a:moveTo>
                    <a:pt x="0" y="0"/>
                  </a:moveTo>
                  <a:cubicBezTo>
                    <a:pt x="288" y="160"/>
                    <a:pt x="576" y="320"/>
                    <a:pt x="960" y="384"/>
                  </a:cubicBezTo>
                  <a:cubicBezTo>
                    <a:pt x="1344" y="448"/>
                    <a:pt x="1960" y="448"/>
                    <a:pt x="2304" y="384"/>
                  </a:cubicBezTo>
                  <a:cubicBezTo>
                    <a:pt x="2648" y="320"/>
                    <a:pt x="2836" y="160"/>
                    <a:pt x="302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Document"/>
            <p:cNvSpPr/>
            <p:nvPr/>
          </p:nvSpPr>
          <p:spPr>
            <a:xfrm>
              <a:off x="6248520" y="5943600"/>
              <a:ext cx="227160" cy="30492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35680" y="6248520"/>
              <a:ext cx="2689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(0) Send a new snapshot periodicall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762120" y="2438280"/>
            <a:ext cx="1676160" cy="2438640"/>
          </a:xfrm>
          <a:custGeom>
            <a:avLst/>
            <a:gdLst/>
            <a:ahLst/>
            <a:rect l="l" t="t" r="r" b="b"/>
            <a:pathLst>
              <a:path w="1056" h="1536">
                <a:moveTo>
                  <a:pt x="1056" y="0"/>
                </a:moveTo>
                <a:cubicBezTo>
                  <a:pt x="760" y="64"/>
                  <a:pt x="464" y="128"/>
                  <a:pt x="288" y="384"/>
                </a:cubicBezTo>
                <a:cubicBezTo>
                  <a:pt x="112" y="640"/>
                  <a:pt x="56" y="1088"/>
                  <a:pt x="0" y="1536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" y="4444920"/>
            <a:ext cx="1066680" cy="432000"/>
          </a:xfrm>
          <a:custGeom>
            <a:avLst/>
            <a:gdLst/>
            <a:ahLst/>
            <a:rect l="l" t="t" r="r" b="b"/>
            <a:pathLst>
              <a:path w="672" h="272">
                <a:moveTo>
                  <a:pt x="0" y="272"/>
                </a:moveTo>
                <a:cubicBezTo>
                  <a:pt x="36" y="196"/>
                  <a:pt x="72" y="120"/>
                  <a:pt x="144" y="80"/>
                </a:cubicBezTo>
                <a:cubicBezTo>
                  <a:pt x="216" y="40"/>
                  <a:pt x="344" y="0"/>
                  <a:pt x="432" y="32"/>
                </a:cubicBezTo>
                <a:cubicBezTo>
                  <a:pt x="520" y="64"/>
                  <a:pt x="596" y="168"/>
                  <a:pt x="672" y="27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803240" y="4495680"/>
            <a:ext cx="1244880" cy="457200"/>
          </a:xfrm>
          <a:custGeom>
            <a:avLst/>
            <a:gdLst/>
            <a:ahLst/>
            <a:rect l="l" t="t" r="r" b="b"/>
            <a:pathLst>
              <a:path w="784" h="288">
                <a:moveTo>
                  <a:pt x="16" y="288"/>
                </a:moveTo>
                <a:cubicBezTo>
                  <a:pt x="8" y="192"/>
                  <a:pt x="0" y="96"/>
                  <a:pt x="64" y="48"/>
                </a:cubicBezTo>
                <a:cubicBezTo>
                  <a:pt x="128" y="0"/>
                  <a:pt x="296" y="0"/>
                  <a:pt x="400" y="0"/>
                </a:cubicBezTo>
                <a:cubicBezTo>
                  <a:pt x="504" y="0"/>
                  <a:pt x="624" y="8"/>
                  <a:pt x="688" y="48"/>
                </a:cubicBezTo>
                <a:cubicBezTo>
                  <a:pt x="752" y="88"/>
                  <a:pt x="768" y="164"/>
                  <a:pt x="784" y="24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4559400"/>
            <a:ext cx="1218960" cy="317520"/>
          </a:xfrm>
          <a:custGeom>
            <a:avLst/>
            <a:gdLst/>
            <a:ahLst/>
            <a:rect l="l" t="t" r="r" b="b"/>
            <a:pathLst>
              <a:path w="768" h="200">
                <a:moveTo>
                  <a:pt x="0" y="200"/>
                </a:moveTo>
                <a:cubicBezTo>
                  <a:pt x="12" y="144"/>
                  <a:pt x="24" y="88"/>
                  <a:pt x="96" y="56"/>
                </a:cubicBezTo>
                <a:cubicBezTo>
                  <a:pt x="168" y="24"/>
                  <a:pt x="336" y="0"/>
                  <a:pt x="432" y="8"/>
                </a:cubicBezTo>
                <a:cubicBezTo>
                  <a:pt x="528" y="16"/>
                  <a:pt x="616" y="72"/>
                  <a:pt x="672" y="104"/>
                </a:cubicBezTo>
                <a:cubicBezTo>
                  <a:pt x="728" y="136"/>
                  <a:pt x="748" y="168"/>
                  <a:pt x="768" y="20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09760" y="4863960"/>
            <a:ext cx="2857320" cy="1067040"/>
          </a:xfrm>
          <a:custGeom>
            <a:avLst/>
            <a:gdLst/>
            <a:ahLst/>
            <a:rect l="l" t="t" r="r" b="b"/>
            <a:pathLst>
              <a:path w="1800" h="672">
                <a:moveTo>
                  <a:pt x="264" y="56"/>
                </a:moveTo>
                <a:cubicBezTo>
                  <a:pt x="212" y="28"/>
                  <a:pt x="160" y="0"/>
                  <a:pt x="120" y="56"/>
                </a:cubicBezTo>
                <a:cubicBezTo>
                  <a:pt x="80" y="112"/>
                  <a:pt x="0" y="296"/>
                  <a:pt x="24" y="392"/>
                </a:cubicBezTo>
                <a:cubicBezTo>
                  <a:pt x="48" y="488"/>
                  <a:pt x="88" y="600"/>
                  <a:pt x="264" y="632"/>
                </a:cubicBezTo>
                <a:cubicBezTo>
                  <a:pt x="440" y="664"/>
                  <a:pt x="856" y="672"/>
                  <a:pt x="1080" y="584"/>
                </a:cubicBezTo>
                <a:cubicBezTo>
                  <a:pt x="1304" y="496"/>
                  <a:pt x="1488" y="200"/>
                  <a:pt x="1608" y="104"/>
                </a:cubicBezTo>
                <a:cubicBezTo>
                  <a:pt x="1728" y="8"/>
                  <a:pt x="1764" y="8"/>
                  <a:pt x="1800" y="8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739880" y="2438280"/>
            <a:ext cx="698400" cy="2514600"/>
          </a:xfrm>
          <a:custGeom>
            <a:avLst/>
            <a:gdLst/>
            <a:ahLst/>
            <a:rect l="l" t="t" r="r" b="b"/>
            <a:pathLst>
              <a:path w="440" h="1584">
                <a:moveTo>
                  <a:pt x="56" y="1584"/>
                </a:moveTo>
                <a:cubicBezTo>
                  <a:pt x="28" y="1396"/>
                  <a:pt x="0" y="1208"/>
                  <a:pt x="8" y="1008"/>
                </a:cubicBezTo>
                <a:cubicBezTo>
                  <a:pt x="16" y="808"/>
                  <a:pt x="32" y="552"/>
                  <a:pt x="104" y="384"/>
                </a:cubicBezTo>
                <a:cubicBezTo>
                  <a:pt x="176" y="216"/>
                  <a:pt x="308" y="108"/>
                  <a:pt x="44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2438280"/>
            <a:ext cx="609840" cy="2362320"/>
          </a:xfrm>
          <a:custGeom>
            <a:avLst/>
            <a:gdLst/>
            <a:ahLst/>
            <a:rect l="l" t="t" r="r" b="b"/>
            <a:pathLst>
              <a:path w="384" h="1488">
                <a:moveTo>
                  <a:pt x="384" y="1488"/>
                </a:moveTo>
                <a:cubicBezTo>
                  <a:pt x="344" y="1372"/>
                  <a:pt x="304" y="1256"/>
                  <a:pt x="240" y="1008"/>
                </a:cubicBezTo>
                <a:cubicBezTo>
                  <a:pt x="176" y="760"/>
                  <a:pt x="88" y="380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438280" y="2438280"/>
            <a:ext cx="2159280" cy="2438640"/>
          </a:xfrm>
          <a:custGeom>
            <a:avLst/>
            <a:gdLst/>
            <a:ahLst/>
            <a:rect l="l" t="t" r="r" b="b"/>
            <a:pathLst>
              <a:path w="1360" h="1536">
                <a:moveTo>
                  <a:pt x="1152" y="1536"/>
                </a:moveTo>
                <a:cubicBezTo>
                  <a:pt x="1256" y="1244"/>
                  <a:pt x="1360" y="952"/>
                  <a:pt x="1248" y="720"/>
                </a:cubicBezTo>
                <a:cubicBezTo>
                  <a:pt x="1136" y="488"/>
                  <a:pt x="688" y="264"/>
                  <a:pt x="480" y="144"/>
                </a:cubicBezTo>
                <a:cubicBezTo>
                  <a:pt x="272" y="24"/>
                  <a:pt x="136" y="12"/>
                  <a:pt x="0" y="0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36640" y="2362320"/>
            <a:ext cx="13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"/>
                <a:ea typeface="Arial"/>
              </a:rPr>
              <a:t>MPI conn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2895480" y="1270080"/>
            <a:ext cx="5486400" cy="3606840"/>
            <a:chOff x="2895480" y="1270080"/>
            <a:chExt cx="5486400" cy="3606840"/>
          </a:xfrm>
        </p:grpSpPr>
        <p:sp>
          <p:nvSpPr>
            <p:cNvPr id="343" name=""/>
            <p:cNvSpPr/>
            <p:nvPr/>
          </p:nvSpPr>
          <p:spPr>
            <a:xfrm>
              <a:off x="5867280" y="1600200"/>
              <a:ext cx="2514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2) Search for the latest snapsh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895480" y="1270080"/>
              <a:ext cx="5410080" cy="3606840"/>
            </a:xfrm>
            <a:custGeom>
              <a:avLst/>
              <a:gdLst/>
              <a:ahLst/>
              <a:rect l="l" t="t" r="r" b="b"/>
              <a:pathLst>
                <a:path w="3408" h="2272">
                  <a:moveTo>
                    <a:pt x="0" y="448"/>
                  </a:moveTo>
                  <a:cubicBezTo>
                    <a:pt x="628" y="224"/>
                    <a:pt x="1256" y="0"/>
                    <a:pt x="1824" y="304"/>
                  </a:cubicBezTo>
                  <a:cubicBezTo>
                    <a:pt x="2392" y="608"/>
                    <a:pt x="2900" y="1440"/>
                    <a:pt x="3408" y="22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67160" y="2438280"/>
            <a:ext cx="2535120" cy="2438640"/>
            <a:chOff x="2567160" y="2438280"/>
            <a:chExt cx="2535120" cy="2438640"/>
          </a:xfrm>
        </p:grpSpPr>
        <p:sp>
          <p:nvSpPr>
            <p:cNvPr id="346" name=""/>
            <p:cNvSpPr/>
            <p:nvPr/>
          </p:nvSpPr>
          <p:spPr>
            <a:xfrm>
              <a:off x="3426480" y="3505320"/>
              <a:ext cx="1675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1) Detect a ping err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567160" y="2438280"/>
              <a:ext cx="1852200" cy="243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3962520" y="4952880"/>
            <a:ext cx="761760" cy="533520"/>
          </a:xfrm>
          <a:prstGeom prst="lightningBol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895480" y="2209680"/>
            <a:ext cx="4114800" cy="3353040"/>
            <a:chOff x="2895480" y="2209680"/>
            <a:chExt cx="4114800" cy="3353040"/>
          </a:xfrm>
        </p:grpSpPr>
        <p:grpSp>
          <p:nvGrpSpPr>
            <p:cNvPr id="350" name=""/>
            <p:cNvGrpSpPr/>
            <p:nvPr/>
          </p:nvGrpSpPr>
          <p:grpSpPr>
            <a:xfrm>
              <a:off x="5333760" y="4648320"/>
              <a:ext cx="685800" cy="914400"/>
              <a:chOff x="5333760" y="4648320"/>
              <a:chExt cx="685800" cy="914400"/>
            </a:xfrm>
          </p:grpSpPr>
          <p:sp>
            <p:nvSpPr>
              <p:cNvPr id="351" name=""/>
              <p:cNvSpPr/>
              <p:nvPr/>
            </p:nvSpPr>
            <p:spPr>
              <a:xfrm>
                <a:off x="5333760" y="4876920"/>
                <a:ext cx="685800" cy="685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entin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d 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ank 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411160" y="4648320"/>
                <a:ext cx="49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3" name=""/>
            <p:cNvSpPr/>
            <p:nvPr/>
          </p:nvSpPr>
          <p:spPr>
            <a:xfrm>
              <a:off x="5105160" y="3429000"/>
              <a:ext cx="190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4) Send a new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895480" y="2209680"/>
              <a:ext cx="2590560" cy="2743200"/>
            </a:xfrm>
            <a:custGeom>
              <a:avLst/>
              <a:gdLst/>
              <a:ahLst/>
              <a:rect l="l" t="t" r="r" b="b"/>
              <a:pathLst>
                <a:path w="1632" h="1728">
                  <a:moveTo>
                    <a:pt x="0" y="0"/>
                  </a:moveTo>
                  <a:cubicBezTo>
                    <a:pt x="536" y="264"/>
                    <a:pt x="1072" y="528"/>
                    <a:pt x="1344" y="816"/>
                  </a:cubicBezTo>
                  <a:cubicBezTo>
                    <a:pt x="1616" y="1104"/>
                    <a:pt x="1624" y="1416"/>
                    <a:pt x="1632" y="172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838080" y="2362320"/>
            <a:ext cx="4572000" cy="4051080"/>
            <a:chOff x="838080" y="2362320"/>
            <a:chExt cx="4572000" cy="4051080"/>
          </a:xfrm>
        </p:grpSpPr>
        <p:sp>
          <p:nvSpPr>
            <p:cNvPr id="356" name=""/>
            <p:cNvSpPr/>
            <p:nvPr/>
          </p:nvSpPr>
          <p:spPr>
            <a:xfrm>
              <a:off x="3352680" y="5410080"/>
              <a:ext cx="2057400" cy="546120"/>
            </a:xfrm>
            <a:custGeom>
              <a:avLst/>
              <a:gdLst/>
              <a:ahLst/>
              <a:rect l="l" t="t" r="r" b="b"/>
              <a:pathLst>
                <a:path w="1296" h="344">
                  <a:moveTo>
                    <a:pt x="1296" y="0"/>
                  </a:moveTo>
                  <a:cubicBezTo>
                    <a:pt x="1092" y="164"/>
                    <a:pt x="888" y="328"/>
                    <a:pt x="672" y="336"/>
                  </a:cubicBezTo>
                  <a:cubicBezTo>
                    <a:pt x="456" y="344"/>
                    <a:pt x="228" y="196"/>
                    <a:pt x="0" y="4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33360" y="5410080"/>
              <a:ext cx="3276720" cy="939960"/>
            </a:xfrm>
            <a:custGeom>
              <a:avLst/>
              <a:gdLst/>
              <a:ahLst/>
              <a:rect l="l" t="t" r="r" b="b"/>
              <a:pathLst>
                <a:path w="2064" h="592">
                  <a:moveTo>
                    <a:pt x="2064" y="0"/>
                  </a:moveTo>
                  <a:cubicBezTo>
                    <a:pt x="1984" y="196"/>
                    <a:pt x="1904" y="392"/>
                    <a:pt x="1632" y="480"/>
                  </a:cubicBezTo>
                  <a:cubicBezTo>
                    <a:pt x="1360" y="568"/>
                    <a:pt x="704" y="592"/>
                    <a:pt x="432" y="528"/>
                  </a:cubicBezTo>
                  <a:cubicBezTo>
                    <a:pt x="160" y="464"/>
                    <a:pt x="80" y="280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38080" y="5410080"/>
              <a:ext cx="4572000" cy="1003320"/>
            </a:xfrm>
            <a:custGeom>
              <a:avLst/>
              <a:gdLst/>
              <a:ahLst/>
              <a:rect l="l" t="t" r="r" b="b"/>
              <a:pathLst>
                <a:path w="2880" h="632">
                  <a:moveTo>
                    <a:pt x="2880" y="0"/>
                  </a:moveTo>
                  <a:cubicBezTo>
                    <a:pt x="2880" y="188"/>
                    <a:pt x="2880" y="376"/>
                    <a:pt x="2688" y="480"/>
                  </a:cubicBezTo>
                  <a:cubicBezTo>
                    <a:pt x="2496" y="584"/>
                    <a:pt x="2120" y="616"/>
                    <a:pt x="1728" y="624"/>
                  </a:cubicBezTo>
                  <a:cubicBezTo>
                    <a:pt x="1336" y="632"/>
                    <a:pt x="624" y="616"/>
                    <a:pt x="336" y="528"/>
                  </a:cubicBezTo>
                  <a:cubicBezTo>
                    <a:pt x="48" y="440"/>
                    <a:pt x="24" y="268"/>
                    <a:pt x="0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819160" y="2362320"/>
              <a:ext cx="2590920" cy="3047760"/>
            </a:xfrm>
            <a:custGeom>
              <a:avLst/>
              <a:gdLst/>
              <a:ahLst/>
              <a:rect l="l" t="t" r="r" b="b"/>
              <a:pathLst>
                <a:path w="1632" h="1920">
                  <a:moveTo>
                    <a:pt x="1632" y="1920"/>
                  </a:moveTo>
                  <a:cubicBezTo>
                    <a:pt x="1568" y="1912"/>
                    <a:pt x="1504" y="1904"/>
                    <a:pt x="1440" y="1728"/>
                  </a:cubicBezTo>
                  <a:cubicBezTo>
                    <a:pt x="1376" y="1552"/>
                    <a:pt x="1488" y="1152"/>
                    <a:pt x="1248" y="864"/>
                  </a:cubicBezTo>
                  <a:cubicBezTo>
                    <a:pt x="1008" y="576"/>
                    <a:pt x="504" y="288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590560" y="6019920"/>
              <a:ext cx="2057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5) Notify about the rest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2895480" y="1434960"/>
            <a:ext cx="5257800" cy="3517920"/>
            <a:chOff x="2895480" y="1434960"/>
            <a:chExt cx="5257800" cy="3517920"/>
          </a:xfrm>
        </p:grpSpPr>
        <p:sp>
          <p:nvSpPr>
            <p:cNvPr id="362" name=""/>
            <p:cNvSpPr/>
            <p:nvPr/>
          </p:nvSpPr>
          <p:spPr>
            <a:xfrm>
              <a:off x="4724280" y="2438280"/>
              <a:ext cx="190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3) Retrieve the snapsho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1434960"/>
              <a:ext cx="5257800" cy="3517920"/>
            </a:xfrm>
            <a:custGeom>
              <a:avLst/>
              <a:gdLst/>
              <a:ahLst/>
              <a:rect l="l" t="t" r="r" b="b"/>
              <a:pathLst>
                <a:path w="3312" h="2216">
                  <a:moveTo>
                    <a:pt x="3312" y="2216"/>
                  </a:moveTo>
                  <a:cubicBezTo>
                    <a:pt x="2820" y="1404"/>
                    <a:pt x="2328" y="592"/>
                    <a:pt x="1776" y="296"/>
                  </a:cubicBezTo>
                  <a:cubicBezTo>
                    <a:pt x="1224" y="0"/>
                    <a:pt x="612" y="220"/>
                    <a:pt x="0" y="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Document"/>
            <p:cNvSpPr/>
            <p:nvPr/>
          </p:nvSpPr>
          <p:spPr>
            <a:xfrm>
              <a:off x="5943240" y="2057400"/>
              <a:ext cx="227160" cy="30492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ending to Multiple Clus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isting AgentTeamwork system allows only job deployment within a single intranet clu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focus of my project was to extend Agent Teamwork to allow job deployment and resumption across multiple clus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and extend existing AgentTeamwork algorithms to support multiple clus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job deployment code to deploy gateway tasks and remote-cluster job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new gateway-enabled Java socket functiona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job-resumption code to resume failed remote clusters and remote compute no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80880" y="3886200"/>
            <a:ext cx="2438640" cy="2590920"/>
            <a:chOff x="380880" y="3886200"/>
            <a:chExt cx="2438640" cy="2590920"/>
          </a:xfrm>
        </p:grpSpPr>
        <p:sp>
          <p:nvSpPr>
            <p:cNvPr id="368" name=""/>
            <p:cNvSpPr/>
            <p:nvPr/>
          </p:nvSpPr>
          <p:spPr>
            <a:xfrm>
              <a:off x="380880" y="3886200"/>
              <a:ext cx="2438640" cy="2590920"/>
            </a:xfrm>
            <a:custGeom>
              <a:avLst/>
              <a:gdLst/>
              <a:ahLst/>
              <a:rect l="l" t="t" r="r" b="b"/>
              <a:pathLst>
                <a:path w="1536" h="1632">
                  <a:moveTo>
                    <a:pt x="768" y="0"/>
                  </a:moveTo>
                  <a:lnTo>
                    <a:pt x="96" y="672"/>
                  </a:lnTo>
                  <a:lnTo>
                    <a:pt x="0" y="1632"/>
                  </a:lnTo>
                  <a:lnTo>
                    <a:pt x="1536" y="1632"/>
                  </a:lnTo>
                  <a:lnTo>
                    <a:pt x="1392" y="672"/>
                  </a:lnTo>
                  <a:lnTo>
                    <a:pt x="768" y="0"/>
                  </a:lnTo>
                  <a:close/>
                </a:path>
              </a:pathLst>
            </a:custGeom>
            <a:solidFill>
              <a:srgbClr val="9999ff">
                <a:alpha val="50000"/>
              </a:srgbClr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051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219320" y="411480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4479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907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57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1599840" y="3962520"/>
              <a:ext cx="7621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914040" y="4800600"/>
              <a:ext cx="6094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1371240" y="4800600"/>
              <a:ext cx="1522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523880" y="480060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23880" y="4800600"/>
              <a:ext cx="685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761760" y="5638680"/>
              <a:ext cx="759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3352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144800" y="571500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-Cluster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4800600" y="1523880"/>
            <a:ext cx="752400" cy="752400"/>
            <a:chOff x="4800600" y="1523880"/>
            <a:chExt cx="752400" cy="752400"/>
          </a:xfrm>
        </p:grpSpPr>
        <p:sp>
          <p:nvSpPr>
            <p:cNvPr id="384" name="computr1"/>
            <p:cNvSpPr/>
            <p:nvPr/>
          </p:nvSpPr>
          <p:spPr>
            <a:xfrm>
              <a:off x="4800600" y="1523880"/>
              <a:ext cx="752400" cy="752400"/>
            </a:xfrm>
            <a:prstGeom prst="pie">
              <a:avLst/>
            </a:prstGeom>
            <a:solidFill>
              <a:srgbClr val="eeeeee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915800" y="1546200"/>
              <a:ext cx="50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新細明體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3962520" y="160020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man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6200" y="24382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enti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92468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ookkee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ank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520" y="2666880"/>
            <a:ext cx="685800" cy="6858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d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267080" y="22860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37720" y="2286000"/>
            <a:ext cx="34290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267080" y="2286000"/>
            <a:ext cx="3962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792432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807696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29600" y="335268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29600" y="335268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1751400" y="2971800"/>
            <a:ext cx="2515320" cy="990720"/>
            <a:chOff x="1751400" y="2971800"/>
            <a:chExt cx="2515320" cy="990720"/>
          </a:xfrm>
        </p:grpSpPr>
        <p:sp>
          <p:nvSpPr>
            <p:cNvPr id="398" name=""/>
            <p:cNvSpPr/>
            <p:nvPr/>
          </p:nvSpPr>
          <p:spPr>
            <a:xfrm>
              <a:off x="2057400" y="32767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2361960" y="3124080"/>
              <a:ext cx="19047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751400" y="2971800"/>
              <a:ext cx="148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Cluster gateway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2209680" y="3733920"/>
            <a:ext cx="2290320" cy="2743200"/>
            <a:chOff x="2209680" y="3733920"/>
            <a:chExt cx="2290320" cy="2743200"/>
          </a:xfrm>
        </p:grpSpPr>
        <p:sp>
          <p:nvSpPr>
            <p:cNvPr id="402" name=""/>
            <p:cNvSpPr/>
            <p:nvPr/>
          </p:nvSpPr>
          <p:spPr>
            <a:xfrm>
              <a:off x="2209680" y="4800600"/>
              <a:ext cx="2210040" cy="1676520"/>
            </a:xfrm>
            <a:custGeom>
              <a:avLst/>
              <a:gdLst/>
              <a:ahLst/>
              <a:rect l="l" t="t" r="r" b="b"/>
              <a:pathLst>
                <a:path w="1392" h="1056">
                  <a:moveTo>
                    <a:pt x="624" y="0"/>
                  </a:moveTo>
                  <a:lnTo>
                    <a:pt x="48" y="672"/>
                  </a:lnTo>
                  <a:lnTo>
                    <a:pt x="0" y="864"/>
                  </a:lnTo>
                  <a:lnTo>
                    <a:pt x="144" y="1056"/>
                  </a:lnTo>
                  <a:lnTo>
                    <a:pt x="1296" y="1056"/>
                  </a:lnTo>
                  <a:lnTo>
                    <a:pt x="1392" y="864"/>
                  </a:lnTo>
                  <a:lnTo>
                    <a:pt x="1296" y="624"/>
                  </a:lnTo>
                  <a:lnTo>
                    <a:pt x="672" y="0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6576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2004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3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895480" y="49528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13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2004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7432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362320" y="3962520"/>
              <a:ext cx="11430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3352320" y="487692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2666880" y="5638680"/>
              <a:ext cx="5335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124080" y="5638680"/>
              <a:ext cx="763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200400" y="5638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200400" y="5638680"/>
              <a:ext cx="838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581280" y="4876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81280" y="4876920"/>
              <a:ext cx="3812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657600" y="48769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86000" y="57913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52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07120" y="518148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70720" y="3733920"/>
              <a:ext cx="152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Cluster gateway 1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"/>
          <p:cNvGrpSpPr/>
          <p:nvPr/>
        </p:nvGrpSpPr>
        <p:grpSpPr>
          <a:xfrm>
            <a:off x="4267080" y="3048120"/>
            <a:ext cx="3962520" cy="1828800"/>
            <a:chOff x="4267080" y="3048120"/>
            <a:chExt cx="3962520" cy="1828800"/>
          </a:xfrm>
        </p:grpSpPr>
        <p:sp>
          <p:nvSpPr>
            <p:cNvPr id="421" name=""/>
            <p:cNvSpPr/>
            <p:nvPr/>
          </p:nvSpPr>
          <p:spPr>
            <a:xfrm>
              <a:off x="6858000" y="335268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438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267080" y="3124080"/>
              <a:ext cx="289584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6552720" y="4038480"/>
              <a:ext cx="685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6934320" y="4038480"/>
              <a:ext cx="3045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238880" y="403848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238880" y="4038480"/>
              <a:ext cx="6098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0866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6294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7220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X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48160" y="3048120"/>
              <a:ext cx="1605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Desktop compu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438280" y="3733920"/>
            <a:ext cx="2823840" cy="2286000"/>
            <a:chOff x="2438280" y="3733920"/>
            <a:chExt cx="2823840" cy="2286000"/>
          </a:xfrm>
        </p:grpSpPr>
        <p:sp>
          <p:nvSpPr>
            <p:cNvPr id="433" name=""/>
            <p:cNvSpPr/>
            <p:nvPr/>
          </p:nvSpPr>
          <p:spPr>
            <a:xfrm>
              <a:off x="441972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3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38280" y="3962520"/>
              <a:ext cx="21337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9720" y="5105520"/>
              <a:ext cx="533160" cy="914400"/>
            </a:xfrm>
            <a:custGeom>
              <a:avLst/>
              <a:gdLst/>
              <a:ahLst/>
              <a:rect l="l" t="t" r="r" b="b"/>
              <a:pathLst>
                <a:path w="336" h="576">
                  <a:moveTo>
                    <a:pt x="192" y="0"/>
                  </a:moveTo>
                  <a:lnTo>
                    <a:pt x="0" y="576"/>
                  </a:lnTo>
                  <a:lnTo>
                    <a:pt x="336" y="57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4724280" y="4876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800600" y="4876920"/>
              <a:ext cx="763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800600" y="4876920"/>
              <a:ext cx="228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800600" y="4876920"/>
              <a:ext cx="38088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69240" y="563868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49400" y="3733920"/>
              <a:ext cx="308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2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2438280" y="3733920"/>
            <a:ext cx="3814200" cy="2286000"/>
            <a:chOff x="2438280" y="3733920"/>
            <a:chExt cx="3814200" cy="2286000"/>
          </a:xfrm>
        </p:grpSpPr>
        <p:sp>
          <p:nvSpPr>
            <p:cNvPr id="443" name=""/>
            <p:cNvSpPr/>
            <p:nvPr/>
          </p:nvSpPr>
          <p:spPr>
            <a:xfrm>
              <a:off x="5181480" y="4191120"/>
              <a:ext cx="685800" cy="6858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ntin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 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ank -3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438280" y="3962520"/>
              <a:ext cx="2971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029200" y="5105520"/>
              <a:ext cx="533520" cy="914400"/>
            </a:xfrm>
            <a:custGeom>
              <a:avLst/>
              <a:gdLst/>
              <a:ahLst/>
              <a:rect l="l" t="t" r="r" b="b"/>
              <a:pathLst>
                <a:path w="336" h="576">
                  <a:moveTo>
                    <a:pt x="192" y="0"/>
                  </a:moveTo>
                  <a:lnTo>
                    <a:pt x="0" y="576"/>
                  </a:lnTo>
                  <a:lnTo>
                    <a:pt x="336" y="576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5333760" y="4876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48640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486400" y="4876920"/>
              <a:ext cx="1522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486400" y="487692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259600" y="533412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uster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258880" y="373392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6699"/>
                  </a:solidFill>
                  <a:latin typeface="Arial"/>
                  <a:ea typeface="Arial"/>
                </a:rPr>
                <a:t>and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6T04:59:50Z</dcterms:created>
  <dc:creator>Emory Horvath</dc:creator>
  <dc:description/>
  <dc:language>en-US</dc:language>
  <cp:lastModifiedBy>Emory Horvath</cp:lastModifiedBy>
  <cp:lastPrinted>2005-05-30T17:12:58Z</cp:lastPrinted>
  <dcterms:modified xsi:type="dcterms:W3CDTF">2006-06-02T14:56:59Z</dcterms:modified>
  <cp:revision>230</cp:revision>
  <dc:subject/>
  <dc:title>Inter-cluster Job Deployment in AgentTeamwork</dc:title>
</cp:coreProperties>
</file>