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348920" y="965160"/>
            <a:ext cx="5072040" cy="34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01320" y="4784400"/>
            <a:ext cx="5372280" cy="38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565280" y="96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bile agent frame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fessor Fukuda’s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in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49280" y="965160"/>
            <a:ext cx="5073840" cy="34815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201320" y="4784760"/>
            <a:ext cx="5373720" cy="37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le program running, scans active memor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rieve program code, logic f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t computer while running, dump active memory 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692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72960" y="196380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692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72960" y="4541760"/>
            <a:ext cx="282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760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5840" y="454176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5840" y="1963800"/>
            <a:ext cx="4280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541760"/>
            <a:ext cx="877104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7104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67000" y="830160"/>
            <a:ext cx="754380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Arial"/>
              </a:rPr>
              <a:t>Protection of Agent Team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797720" y="3200400"/>
            <a:ext cx="17154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By Jeremy 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Arial"/>
              </a:rPr>
              <a:t>An instance of the Class is created, and all class variables are copied from the current proxy object, and given to the newly created instanc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257800" y="3200400"/>
          <a:ext cx="4110120" cy="365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3200400"/>
                    <a:ext cx="41101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1240" y="630360"/>
            <a:ext cx="8607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91760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reflection, the desired method is executed on the child proxy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735440" y="2401920"/>
          <a:ext cx="5072040" cy="460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5440" y="2401920"/>
                    <a:ext cx="5072040" cy="46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30360"/>
            <a:ext cx="8607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90997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ny return object is returned, and the class variables are now passed back from the child proxy to the original proxy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192640" y="2835360"/>
          <a:ext cx="4767480" cy="42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2640" y="2835360"/>
                    <a:ext cx="4767480" cy="42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1240" y="630360"/>
            <a:ext cx="8607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925200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turn object is returned to the shell method which called invok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583160" y="2373480"/>
          <a:ext cx="5452920" cy="45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3160" y="2373480"/>
                    <a:ext cx="5452920" cy="45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41240" y="630360"/>
            <a:ext cx="8607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94744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3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ell method returns the return object to the caller of the shell metho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678040" y="2706840"/>
          <a:ext cx="7129440" cy="42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78040" y="2706840"/>
                    <a:ext cx="7129440" cy="42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Limitations, and differenc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313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Creating new instance not so simp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lass object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e6e6e6"/>
                </a:solidFill>
                <a:latin typeface="Times New Roman"/>
              </a:rPr>
              <a:t>ClassServer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Key Distribution needed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Functions may not be referenced in constructor (yet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Not threadsafe (yet)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Reference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23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710280" indent="-603360">
              <a:lnSpc>
                <a:spcPct val="95000"/>
              </a:lnSpc>
              <a:buClr>
                <a:srgbClr val="e6e6e6"/>
              </a:buClr>
              <a:buSzPct val="45000"/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avassist  – http://www.jboss.org/products/javassis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710280" indent="-603360">
              <a:lnSpc>
                <a:spcPct val="95000"/>
              </a:lnSpc>
              <a:buClr>
                <a:srgbClr val="e6e6e6"/>
              </a:buClr>
              <a:buSzPct val="45000"/>
              <a:buFont typeface="Times New Roman"/>
              <a:buAutoNum type="arabicPeriod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Agent Teamwork - http://depts.washington.edu/dslab/AgentTeamwork/index.htm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Agent Teamwork Overvie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21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Mobile agent framework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AgentTeamwork</a:t>
            </a:r>
            <a:r>
              <a:rPr b="0" lang="en-US" sz="2800" spc="-1" strike="noStrike" baseline="30000">
                <a:solidFill>
                  <a:srgbClr val="e6e6e6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 is a mobile-agent based middleware system for coordinating distributed jobs in a computational community of computer owners. 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e6e6e6"/>
                </a:solidFill>
                <a:latin typeface="Times New Roman"/>
              </a:rPr>
              <a:t>Jav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Protection Scenario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emory Scan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emory dump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Project Goals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35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rofessor Fukud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Protect actual code: per-method encryption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Never allow entirety of program to be unencrypted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Implement just-in-time decryption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Myself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Agent teamwork is a big project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Impact the implementation of encrypted Java classes as little as possible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e6e6e6"/>
                </a:solidFill>
                <a:latin typeface="Times New Roman"/>
              </a:rPr>
              <a:t>Impact users of encrypted Java classes as little as possible.</a:t>
            </a:r>
            <a:endParaRPr b="0" lang="en-US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Solution Overview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tep 0: Compile normal Java clas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tep 1: Create encrypted class by using a custom class loader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tep 2: Running the encrypted class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Step 1: Crea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1240" y="1963440"/>
            <a:ext cx="8772480" cy="50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tart from compiled .class file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Use Javassist</a:t>
            </a:r>
            <a:r>
              <a:rPr b="0" lang="en-US" sz="3200" spc="-1" strike="noStrike" baseline="33000">
                <a:solidFill>
                  <a:srgbClr val="e6e6e6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 library to manipulate Java bytecode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Generate a proxy of the original class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reate a new class at run-tim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opy original class's inherited class, interfaces, fields, and constructors onto the new clas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reate shell methods to replace original method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Encrypt the real methods, and store inside of child proxies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Times New Roman"/>
              </a:rPr>
              <a:t>Create and add a method at runtime to handle incoming method requests, decrypt the encrypted methods, and return valu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Step 2: Method Execution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</a:rPr>
              <a:t>Proxy's Method is called in Java cod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600200" y="2743200"/>
          <a:ext cx="7893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743200"/>
                    <a:ext cx="7893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Arial"/>
              </a:rPr>
              <a:t>Shell method is actually executed, and  forwards parameters, parameter types, and method name to Invoke() method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343400" y="2743200"/>
          <a:ext cx="48006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2743200"/>
                    <a:ext cx="48006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Method Execution cont..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72480" cy="49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Arial"/>
                <a:ea typeface="Arial"/>
              </a:rPr>
              <a:t>Inside Invoke(), ClassServer is asked to return a Class based on the method name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0" y="2743200"/>
          <a:ext cx="502920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743200"/>
                    <a:ext cx="502920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eremy</cp:lastModifiedBy>
  <dcterms:modified xsi:type="dcterms:W3CDTF">2006-06-02T17:27:43Z</dcterms:modified>
  <cp:revision>25</cp:revision>
  <dc:subject/>
  <dc:title>Slide 1</dc:title>
</cp:coreProperties>
</file>