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1A0A-3E16-4511-A49B-DD92916F1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F441-6CE5-40D0-AC9C-1E8E5A91C8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my internship over that last two quarters I worked as an undergraduate research assistant on a joint project between UWB-Ehime University in Japan, called AgentTeamWork.  The project is guided, here, by Professor Munehiro Fukuda, who was my advisor on the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going to start with a little background, then talk about the work I did and what I lear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 second stair step 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ference platform performance numbers would cluster with occasional outliers.  This was most pronounced in the breadth first runs making me suspect higher sensitivity to something network 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tTeamwork is compet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7C2E-A10F-4412-B8B3-709546D0D9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cond part of my effort was to evaluate the framework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++ vs 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gent Teamwork framework provides an MPI implementation.  However Agent Teamwork is written entirely in java whereas MPICH-G2 is a c++ framework.  To avoid comparing frameworks in different languages I evaluated Agent Teamwork against the MPIJava framework which is a popular java MPI 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C5E1-E781-4C68-AC8E-9B6D197ECC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pt for Mandelbrot which one the professor’s students had already coded in mpi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t Teamwork takes regular runtime snapshots of a program and is capable of migrating a running job from one node to another for load balancing and dynamic failure recove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 won’t serialize program counter and 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ce conditions resulting in deadlocks and other framework bugs prevented completing framework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B783-98C9-4137-AEDC-F6A537B85D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orders of magnitude slower – suspect related to snapshots and size of data 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ECA9-D271-4D13-9510-ADEC505C50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PDC is the use of distributed computing and parallel processing to improve application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t Teamwork provides two main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b Dispatch &amp; Termination – dynamic node selection, file transfer for executable &amp; data files, stoping, starting ,returning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ramming Framework – programmatic coordination of the distributed resources, supports distributed application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is performance focused – My job to evaluate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0A89-36C9-4FCE-8A3C-BC1F81A87D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main objective was to evaluate Agent Teamworks Job Dispatch &amp; Termination and Framework performance against current mainstream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do this I had to build a reference platform to evaluate it against and write 3 benchmark programs that would exercise the frame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1321-2FF9-4A44-BAF0-448A5BF219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1 to 1 match with Agent Teamwork, instead a number products providing different sets of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TK, the defacto standard for grid compu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TK Just a toolkit – a complete reference platform required integration with openpbs and mp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42AF-CC33-4C22-90D9-9075ED8F63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6 computers divided into 2 clu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t Teamwork also runs on these same 66 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ware is different between clusters but comparisons are apples to ap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these components, built, installed, and configured to the point where I could run a distributed job I had to overcome a lot of challe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diagram provide a detailed overview of how the reference platform work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run a job you generate a job definition file using the RSL and submit it along with your user certif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bus run program parses the rsl and in the case of a multi cluster job, it uses the duroc library to coordinate a gram client for each clu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m client submits the job to a gatekeeper on the cluster head, which uses the GSI to authenticate and authorize the job submission.  It then starts a job manager which issues a callback to the gram client to connect std error and std out back to the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b manager then submits the job details to the pbs server which applies any policies to determine which queue to place the job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bs scheduler locates suitable nodes for the job and transfers the executable and any data files to the selected n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S mom launches the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s written in the MPICH_G2 framework make use of duroc and the grid security infrastructure coordinate their cooperative parallel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55EA-70C1-4594-A47B-BF11293DB5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 variance in system configuration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tform components had dependencies on these configu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required strace and or tcpdump or attaching gd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E656-2BED-4722-A068-4CBEEED64A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evaluating job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ed a lightweight test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ed professors test program to MP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688B-13B1-48CA-8E0B-0C3FE90C97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C741-85FE-40F3-A19E-974EE383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8314-0473-463A-84A5-CEAF5977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6483-919A-4F80-A164-C347EDC6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A9F4-31BE-464B-80C6-EE1904CA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F156A-337B-44D0-B809-EDF4F980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B4185-D349-481B-8BB1-55F5477B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8F966-7BD3-4AFD-8413-462D350C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FF1A5-C21B-4BE1-84F7-BADE2DC1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0C144-C173-4D86-A5BE-48B851FE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51EBA-3ED6-429B-8AF3-8A0A916D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754FB-1443-4C85-8FB4-1CEBE0FF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2838-9DE6-4760-98D0-E6732185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606BA-FBAE-4BDD-B8AC-042AC3E1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A610F-C18B-4020-BC72-A61DB9AE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AB2E5-24FB-43FB-B23A-D2B9F754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249F2-77A1-4363-AF7E-0AA81C345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3F737-8B67-4654-AECD-C7E80C3FB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E548-4D16-4352-9017-0C58DF7A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2B54-FF3C-45E1-8F15-A510E0CB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B3DE-BD75-40B7-B495-6E0698E6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1A1D-CAE8-44F4-B627-BAFB3D70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75EB-7959-4C6B-A8F0-0FBF8700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CE8A-8CAC-43A0-8CEC-F4C0F3E7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0041-BF73-4E77-9B38-EDB69099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0DD0-3815-45EF-AD6C-0B24C4239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E9B7-914E-4A80-AFCD-2070D3DCFE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15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Evaluation of Agent Teamwork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A High Performance Distributed Computing Middlewa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omon La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ent Teamwork Research Assist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ctober 2006 – March 20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Content Placeholder 3" descr=""/>
          <p:cNvPicPr/>
          <p:nvPr/>
        </p:nvPicPr>
        <p:blipFill>
          <a:blip r:embed="rId1"/>
          <a:stretch/>
        </p:blipFill>
        <p:spPr>
          <a:xfrm>
            <a:off x="444600" y="1895400"/>
            <a:ext cx="82548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Content Placeholder 3" descr=""/>
          <p:cNvPicPr/>
          <p:nvPr/>
        </p:nvPicPr>
        <p:blipFill>
          <a:blip r:embed="rId1"/>
          <a:stretch/>
        </p:blipFill>
        <p:spPr>
          <a:xfrm>
            <a:off x="444600" y="1895400"/>
            <a:ext cx="82548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Content Placeholder 4" descr=""/>
          <p:cNvPicPr/>
          <p:nvPr/>
        </p:nvPicPr>
        <p:blipFill>
          <a:blip r:embed="rId1"/>
          <a:stretch/>
        </p:blipFill>
        <p:spPr>
          <a:xfrm>
            <a:off x="444600" y="1895400"/>
            <a:ext cx="82548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ramework Function Evalu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amework Issu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gent Teamwork MPI implemen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CH-G2 C+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Ja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 Framewor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unication fun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itialization, Barrier, Broadcast, Gather, Scatter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al to write 3 benchmark programs that have communication intensive algorith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nchmark Program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D - a molecular dynamics simu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ve2D - a wave dissemination simu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delbrot - a Mandelbrot genera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de each program tw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gent Teamwork Programm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napsho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amming mo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c_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int func_0 (String[] Args){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      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return 1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int func_1 () {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      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de Maturi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rtial Resul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Content Placeholder 3" descr=""/>
          <p:cNvPicPr/>
          <p:nvPr/>
        </p:nvPicPr>
        <p:blipFill>
          <a:blip r:embed="rId1"/>
          <a:stretch/>
        </p:blipFill>
        <p:spPr>
          <a:xfrm>
            <a:off x="444600" y="1895400"/>
            <a:ext cx="82548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rtial Resul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Content Placeholder 3" descr=""/>
          <p:cNvPicPr/>
          <p:nvPr/>
        </p:nvPicPr>
        <p:blipFill>
          <a:blip r:embed="rId1"/>
          <a:stretch/>
        </p:blipFill>
        <p:spPr>
          <a:xfrm>
            <a:off x="444600" y="1895400"/>
            <a:ext cx="82548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uture Wor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amework debugg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a pre-processor to convert conventionally programmed code into the snapshot-able func_n mo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kills Developed During Projec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6761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gnificant experience with globus, openPBS and the mp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ensive debugging with tcpdump, strace, and gd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erience with performance analysis and writing MPI progra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insights and understanding of HPD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Agent Teamwork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PDC Middlew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b Dispatch &amp; Termi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amming Frame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 Ongoing Develop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ject Objecti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aluate Agent Teamwork’s performance against a contemporary alterna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b Dispatch &amp; Termination Perform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amework Perform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ild a Reference Platfo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Write 3 benchmark programs that exercise the framewor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Job Dispatch &amp; Termination Performance Evalu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obus Based Reference Platfo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Globus Toolk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OpenPBS schedul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MPICH-G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ference Platform Hardwa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0" name="Object 29"/>
          <p:cNvGraphicFramePr/>
          <p:nvPr/>
        </p:nvGraphicFramePr>
        <p:xfrm>
          <a:off x="781200" y="1552680"/>
          <a:ext cx="7581600" cy="420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552680"/>
                    <a:ext cx="758160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ference Platform Over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3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ference Platform Challeng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ministrator Access to Mach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st Config &amp; Cryptic Error Mess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NS vs hosts file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onsistent hosts fi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onsistent ptr rec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onsistent port acl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: globus_init: fail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TK Authent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bugg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cpDum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D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4648320" y="1676520"/>
            <a:ext cx="4038480" cy="3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ob Dispatching and Termination Function Evaluation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evaluating the job execution perform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hod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ed available test program to the MPICH-G2 frame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 how long it takes a job submission to be deployed, executed and cleaned 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n with 2-64 nodes across the two clusters in a depth-first node distribution series and a breadth-first node distribution se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</cp:lastModifiedBy>
  <dcterms:modified xsi:type="dcterms:W3CDTF">2007-03-04T20:34:26Z</dcterms:modified>
  <cp:revision>77</cp:revision>
  <dc:subject/>
  <dc:title>PowerPoint Presentation</dc:title>
</cp:coreProperties>
</file>