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CBBE-E002-4C2A-A4F7-7F390E513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8A6F-2457-400B-8C46-AF80EE9E8A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my internship over that last two quarters I worked as an undergraduate research assistant on a joint project between UWB-Ehime University in Japan, called AgentTeamWork.  The project is guided, here, by Professor Munehiro Fukuda, who was my advisor on the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m going to start with a little background, then talk about the work I did and what I lear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 second stair step 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ference platform performance numbers would cluster with occasional outliers.  This was most pronounced in the breadth first runs making me suspect higher sensitivity to something network rel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Teamwork is compet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6C536-E630-4A17-94D3-67040CD7BB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cond part of my effort was to evaluate the framework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++ vs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gent Teamwork framework provides an MPI implementation.  However Agent Teamwork is written entirely in java whereas MPICH-G2 is a c++ framework.  To avoid comparing frameworks in different languages I evaluated Agent Teamwork against the MPIJava framework which is a popular java MPI imple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973C-7B63-44A8-86B5-0CA1E0AF1D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cept for Mandelbrot which one the professor’s students had already coded in mpi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 Teamwork takes regular runtime snapshots of a program and is capable of migrating a running job from one node to another for load balancing and dynamic failure recove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va won’t serialize program counter and 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ce conditions resulting in deadlocks and other framework bugs prevented completing framework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4821-F237-4E65-B9DF-0CA998D172C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orders of magnitude slower – suspect related to snapshots and size of data 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18F8-63F5-42D4-9B9D-F908ADC1F9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PDC is the use of distributed computing and parallel processing to improve application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 Teamwork provides two main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b Dispatch &amp; Termination – dynamic node selection, file transfer for executable &amp; data files, stoping, starting ,returning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gramming Framework – programmatic coordination of the distributed resources, supports distributed application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ment is performance focused – My job to evaluate perform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CF12-D217-4876-AFD9-9AA078A327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y main objective was to evaluate Agent Teamworks Job Dispatch &amp; Termination and Framework performance against current mainstream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do this I had to build a reference platform to evaluate it against and write 3 benchmark programs that would exercise the frame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5FF70-29B3-4FAC-A726-DEAAF92B78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1 to 1 match with Agent Teamwork, instead a number products providing different sets of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TK, the defacto standard for grid compu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TK Just a toolkit – a complete reference platform required integration with openpbs and mp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9D98F-A626-4717-99D8-6F3C5BCCB0C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6 computers divided into 2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ent Teamwork also runs on these same 66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 is different between clusters but comparisons are apples to ap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these components, built, installed, and configured to the point where I could run a distributed job I had to overcome a lot of challe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iagram provide a detailed overview of how the reference platform work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order to run a job you generate a job definition file using the RSL and submit it along with your user certifi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lobus run program parses the rsl and in the case of a multi cluster job, it uses the duroc library to coordinate a gram client for each 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m client submits the job to a gatekeeper on the cluster head, which uses the GSI to authenticate and authorize the job submission.  It then starts a job manager which issues a callback to the gram client to connect std error and std out back to the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job manager then submits the job details to the pbs server which applies any policies to determine which queue to place the job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bs scheduler locates suitable nodes for the job and transfers the executable and any data files to the selected n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BS mom launches the 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s written in the MPICH_G2 framework make use of duroc and the grid security infrastructure coordinate their cooperative parallel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6BC3-398B-4B01-A785-18D65FB27CE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 variance in system configuration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latform components had dependencies on these configu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overy required strace and or tcpdump or attaching gd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76B9-38D9-4B6F-9A96-09C575F71F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evaluating job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a lightweight test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ed professors test program to MP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1B4EF-123B-4B7A-8A52-09E5A8E7F0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7443-5083-4CA2-A3D4-E7430171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F571-F69B-482E-8E8C-3DF0A3C71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FC6-EE37-4AD5-A504-B7B4928D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714B-1A63-42F1-82AE-7EC2EF992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7253D-73BF-4884-973A-3004EF188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66727-A1FF-4822-8B0F-D0FCC303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278A46-743E-4448-A2E9-496B6841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2098C-DCE8-4223-B869-5D99AF39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B3D4A-3CAF-4E22-B9EC-90EED604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B9D1B-70D2-421D-8830-0176385C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EBA08-5C5C-4749-A9C1-4C9B80B9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328C-1A8F-45B2-9C8A-49B30B1C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B84F45-171F-4605-8964-06B4DF0E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8D93F-B061-4AB4-907A-806209561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6D2318-7018-498B-85D0-57CCE69E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037516-B23C-4D25-8C27-7E5229B4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C261B-A3F8-46AD-8823-CE1254D7B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A856-CDFF-44BA-A98F-4716A65B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AA47-60FE-4E5B-83EC-6C8F1039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B495-41E6-4756-9ECF-47100417F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9BA1-4E45-4CEE-B80F-D1224D2C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E98-5FEE-4F18-A1E1-88155B9C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E928-EC47-4C63-B3B9-0F7A0F0D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E72C-3744-4036-AD59-AC642631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27D4-0E41-40A0-9D32-6588D71D2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3E73-3C4C-45E2-8C63-86FC620139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560" y="15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Evaluation of Agent Teamwork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600" spc="-1" strike="noStrike">
                <a:solidFill>
                  <a:srgbClr val="ffffff"/>
                </a:solidFill>
                <a:latin typeface="Tahoma"/>
              </a:rPr>
              <a:t>A High Performance Distributed Computing Middlewar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lomon La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ent Teamwork Research Assista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ctober 2006 – March 20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Content Placeholder 3" descr=""/>
          <p:cNvPicPr/>
          <p:nvPr/>
        </p:nvPicPr>
        <p:blipFill>
          <a:blip r:embed="rId1"/>
          <a:stretch/>
        </p:blipFill>
        <p:spPr>
          <a:xfrm>
            <a:off x="444600" y="1895400"/>
            <a:ext cx="8254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Content Placeholder 3" descr=""/>
          <p:cNvPicPr/>
          <p:nvPr/>
        </p:nvPicPr>
        <p:blipFill>
          <a:blip r:embed="rId1"/>
          <a:stretch/>
        </p:blipFill>
        <p:spPr>
          <a:xfrm>
            <a:off x="444600" y="1895400"/>
            <a:ext cx="8254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Content Placeholder 4" descr=""/>
          <p:cNvPicPr/>
          <p:nvPr/>
        </p:nvPicPr>
        <p:blipFill>
          <a:blip r:embed="rId1"/>
          <a:stretch/>
        </p:blipFill>
        <p:spPr>
          <a:xfrm>
            <a:off x="444600" y="1895400"/>
            <a:ext cx="8254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ramework Function Eval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mework Issu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gent Teamwork MPI imple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CH-G2 C+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PIJ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PI Framework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ion fun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itialization, Barrier, Broadcast, Gather, Scatter,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 to write 3 benchmark programs that have communication intensive algorith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enchmark Program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D - a molecular dynamics sim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ve2D - a wave dissemination simul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delbrot - a Mandelbrot genera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each program tw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Agent Teamwork Programm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napsho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ing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nc_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int func_0 (String[] Args)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    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    </a:t>
            </a: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return 1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int func_1 () {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    …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ffcc00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de Matur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ial Resu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Content Placeholder 3" descr=""/>
          <p:cNvPicPr/>
          <p:nvPr/>
        </p:nvPicPr>
        <p:blipFill>
          <a:blip r:embed="rId1"/>
          <a:stretch/>
        </p:blipFill>
        <p:spPr>
          <a:xfrm>
            <a:off x="444600" y="1895400"/>
            <a:ext cx="8254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tial Result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Content Placeholder 3" descr=""/>
          <p:cNvPicPr/>
          <p:nvPr/>
        </p:nvPicPr>
        <p:blipFill>
          <a:blip r:embed="rId1"/>
          <a:stretch/>
        </p:blipFill>
        <p:spPr>
          <a:xfrm>
            <a:off x="444600" y="1895400"/>
            <a:ext cx="825480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ture Work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mework debugg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velop a pre-processor to convert conventionally programmed code into the snapshot-able func_n mod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kills Developed During Projec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6761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ficant experience with globus, openPBS and the mp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tensive debugging with tcpdump, strace, and gd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erience with performance analysis and writing MPI progra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 insights and understanding of HPD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gent Teamwork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PDC Middle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ob Dispatch &amp; Termin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gramming Framewor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 Ongoing Develop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ject Objectiv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valuate Agent Teamwork’s performance against a contemporary alterna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Job Dispatch &amp; Termination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amework Perform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ild a Reference Plat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Write 3 benchmark programs that exercise the framewor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Job Dispatch &amp; Termination Performance Evalu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obus Based Reference Platfor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Globus Toolk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OpenPBS scheduler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PICH-G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Platform Hardwa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0" name="Object 29"/>
          <p:cNvGraphicFramePr/>
          <p:nvPr/>
        </p:nvGraphicFramePr>
        <p:xfrm>
          <a:off x="781200" y="1552680"/>
          <a:ext cx="7581600" cy="420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552680"/>
                    <a:ext cx="758160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Platform Overview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 Platform Challeng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dministrator Access to Machi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st Config &amp; Cryptic Error Messa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NS vs hosts fil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nsistent hosts fi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nsistent ptr reco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consistent port acl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: globus_init: fail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TK Authent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bugg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ra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cpDum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tretch/>
        </p:blipFill>
        <p:spPr>
          <a:xfrm>
            <a:off x="4648320" y="1676520"/>
            <a:ext cx="4038480" cy="34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ob Dispatching and Termination Function Evaluation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valuating the job execution performa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rted available test program to the MPICH-G2 framewor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asure how long it takes a job submission to be deployed, executed and cleaned 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n with 2-64 nodes across the two clusters in a depth-first node distribution series and a breadth-first node distribution s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</cp:lastModifiedBy>
  <dcterms:modified xsi:type="dcterms:W3CDTF">2007-03-04T20:34:26Z</dcterms:modified>
  <cp:revision>77</cp:revision>
  <dc:subject/>
  <dc:title>PowerPoint Presentation</dc:title>
</cp:coreProperties>
</file>