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8F2-4B2F-41F9-8D10-45087A92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7FA-CE90-4261-96ED-04924D01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E3B-E58F-4139-9A78-A7079B5B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AB2-42FB-4265-91FB-E55B0BC6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5231-526E-4D61-88A3-4097ECC9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9DAF-76C6-48D1-9F9D-B0B8E037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637-6F2B-40C7-8F48-A1CAE4DB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30A3-1517-4159-809B-5134976F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3A39-9D4D-4C0A-87E7-FEDC1D0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CF54-0717-4C8E-9827-500906E5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7FB0-85ED-46B3-962E-5F3B01F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F9F-1011-4EB8-8A5F-EAC8924E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7B40-D0FF-47D4-BE31-8877EAE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D0D8-30F9-4650-A957-76F87BD7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F193-5493-4231-A67B-4F9E30B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D114-A151-4893-BE12-A37D2F55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BA6-8187-4FEB-B97F-E472546D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6DB-0DE9-4488-B454-3C03E449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035-35F1-41EC-952C-0BFC3474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8B3-014D-4E24-8072-A5C60DF2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32D-59CB-43FD-8683-68B2BF7A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B66-F269-42C1-9FAD-CBD9709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837-6C2D-4597-9EB4-2E6C12A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F3A-1661-4164-BFB9-2FF760D2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5429-62CA-4B4A-AE75-E927A37653E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AC02-9184-43FE-9FDE-D94ACB26332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ssing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Java for AgentTeamwor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MPJ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y Zhiji Hua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visor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sor Munehiro Fuku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tains main MPI operation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ll to traditional Init(string[]) initializes Java socket-based connection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ll to Init(string[], IpTable, GridTcp) initializes connections with GridTC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lso provides Rank(), Size(), Finalize(),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vides all communications function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oint to poi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locking – Send(), IRecv(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nBlocking – Isend(), Recv(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llective – Gather(), Scatter(), Reduce(), and varia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Comm &amp; GridCo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avaComm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ava Sockets, SocketServ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ridComm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dTcp Sockets, GridTcp object, IpTa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nd others needed by GridTC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oth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putStreamForRank[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utputStreamForRank[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llows for socket communications using byte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use same communications algorithms for both GridComm and JavaCom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lean interface between the two layer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Notes -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reation of Java byte arrays/buffers very expensive.  Greatly reduces performanc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e solution: use permanent buffers for serial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yte buffer[64k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rialize into buffer until full, write buffer, serialize remaining dat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t effective with collective communication algorithm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ither requires extra byte storage to handle/save serialized da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r requires serialization/deserialization at every read/wri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w Bandwidth – no serialization (just bytes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Bandwidthr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62520" y="2590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Java Sock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eb844"/>
                </a:solidFill>
                <a:latin typeface="Arial"/>
              </a:rPr>
              <a:t>GridTC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38862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ff"/>
                </a:solidFill>
                <a:latin typeface="Arial"/>
              </a:rPr>
              <a:t>mpiJava-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419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mpiJav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alization – Doubles and other prim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ubles - only 20% of performanc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Other primitives see 25-80% performanc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ecessity to “serialize” or turn items into bytes very cost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 C/C++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ast into byte pointer – 1 instruction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 Jav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t x;                                                    //for just 1 integ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yte[] arr[4];                                         //extra memory cos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3] = (byte) ( x );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2] = (byte) ( x &gt;&gt;&gt; 8);                     //shift, cast, cop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1] = (byte) (x &gt;&gt;&gt; 16);                    //repea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0] = (byte) (x &gt;&gt;&gt; 24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ots of instructions, extra memory for byte buffer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st x2 due to deserialization on other sid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gPong (send and recv) – Dou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8080" y="1347840"/>
          <a:ext cx="754380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47840"/>
                    <a:ext cx="754380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gPong -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1447920"/>
          <a:ext cx="807696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cast – 8 processes Dou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395360"/>
          <a:ext cx="777240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95360"/>
                    <a:ext cx="777240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cast – 8 processes    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38276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8276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Team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583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er requests AgentTeamwork for some computing nod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ntTeamworking manages the resources for performance and fault tolerance automaticall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1511280" cy="1543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5224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5800" y="4038480"/>
            <a:ext cx="569880" cy="109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838080" y="419112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990720" y="43434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143000" y="4495680"/>
            <a:ext cx="569880" cy="109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919200">
            <a:off x="2438280" y="3733560"/>
            <a:ext cx="3713400" cy="254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197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4572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ntTeamwor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572000"/>
            <a:ext cx="838080" cy="304920"/>
          </a:xfrm>
          <a:prstGeom prst="leftRightArrow">
            <a:avLst>
              <a:gd name="adj1" fmla="val 50000"/>
              <a:gd name="adj2" fmla="val 54716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57200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aw bandwidt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piJavaS comes to about 95-100% of maximum Java performanc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piJavaA (with checkpointing and error recovery) incurs 20-60% overhead, but still overtakes mpiJava with bigger data segment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ubles &amp; Obje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n dealing with primitives or objects that need serialization, a 25-50% overhead is incurr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emory issues related to mpiJavaA – runs out of memor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next step is to develop a tool to automatically parses a user program into GridTcp functions for best performanc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ltimately, automate user job distribution, management, and error recover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helpful class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432 Networ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430 Operating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360 Software Enginee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422 Hardw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343 Data Structures &amp; Algorith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J – mpiJavaS &amp; mpiJav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Teamwork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49320" y="1981080"/>
          <a:ext cx="7661160" cy="4627800"/>
        </p:xfrm>
        <a:graphic>
          <a:graphicData uri="http://schemas.openxmlformats.org/drawingml/2006/table">
            <a:tbl>
              <a:tblPr/>
              <a:tblGrid>
                <a:gridCol w="3773520"/>
                <a:gridCol w="3887640"/>
              </a:tblGrid>
              <a:tr h="51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User applications in Java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mpiJava API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User Program Wrappe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mpiJavaSocke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mpiJavaAteam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</a:tr>
              <a:tr h="51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Java Socke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GridTcp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AgentTeamwork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</a:tr>
              <a:tr h="51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Java Virtual Machi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Operating Systems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Hardwar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Team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517760"/>
            <a:ext cx="60498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d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tends TCP by adding message saving and check-pointing featur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omatically saves messag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vides check-pointing, or snapshots of program execu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ltimately allows programs to recover from erro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de crashes, 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d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class MyApplication {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GridIpEntry ipEntry[];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used by the GridTcp socket libr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int funcId;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used by the user program wrapper</a:t>
            </a:r>
            <a:r>
              <a:rPr b="0" lang="en-US" sz="1200" spc="-1" strike="noStrike">
                <a:solidFill>
                  <a:srgbClr val="292929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GridTcp tcp;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the GridTcp error-recoverable sock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int nprocess;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#processo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int myRank;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processor id ( or mpi rank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1" lang="en-US" sz="1000" spc="-1" strike="noStrike">
                <a:solidFill>
                  <a:srgbClr val="9999ff"/>
                </a:solidFill>
                <a:latin typeface="Courier New"/>
                <a:ea typeface="Courier New"/>
              </a:rPr>
              <a:t>public int func_0( String args[] )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{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onstruct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Init( args, ipEntry, tcp );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invoke mpiJava-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.....;   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more statements to be inser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return 1;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s func_1( 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1" lang="en-US" sz="1000" spc="-1" strike="noStrike">
                <a:solidFill>
                  <a:srgbClr val="9999ff"/>
                </a:solidFill>
                <a:latin typeface="Courier New"/>
                <a:ea typeface="Courier New"/>
              </a:rPr>
              <a:t>public int func_1( )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{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ed from func_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if ( MPJ.COMM_WORLD.Rank( ) == 0 )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COMM_WORLD.Send( ... );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  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COMM_WORLD.Recv( ... );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.....;   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more statements to be inser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return 2;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s func_2( 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1" lang="en-US" sz="1000" spc="-1" strike="noStrike">
                <a:solidFill>
                  <a:srgbClr val="9999ff"/>
                </a:solidFill>
                <a:latin typeface="Courier New"/>
                <a:ea typeface="Courier New"/>
              </a:rPr>
              <a:t>public int func_2( )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{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ed from func_2, the last fun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.....;   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more statements to be inser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finalize( );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stops mpiJava-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return -2;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application termina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ssing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PI that facilitates communications (or message passing) for distributed program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ually exists for FORTRAN, C/C++, Java.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urrent implementations in Java are actually Java wrappers around native C cod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isadvantages with portability and is not suitable to concept of AgentTeamwor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114800"/>
            <a:ext cx="76176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791320"/>
            <a:ext cx="76176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5791320"/>
            <a:ext cx="76212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4114800"/>
            <a:ext cx="76212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8" idx="6"/>
            <a:endCxn id="121" idx="2"/>
          </p:cNvCxnSpPr>
          <p:nvPr/>
        </p:nvCxnSpPr>
        <p:spPr>
          <a:xfrm>
            <a:off x="5866920" y="4495320"/>
            <a:ext cx="160092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8" idx="5"/>
            <a:endCxn id="120" idx="1"/>
          </p:cNvCxnSpPr>
          <p:nvPr/>
        </p:nvCxnSpPr>
        <p:spPr>
          <a:xfrm>
            <a:off x="5756400" y="4765320"/>
            <a:ext cx="1823040" cy="113724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8" idx="4"/>
            <a:endCxn id="119" idx="0"/>
          </p:cNvCxnSpPr>
          <p:nvPr/>
        </p:nvCxnSpPr>
        <p:spPr>
          <a:xfrm>
            <a:off x="5486040" y="4876920"/>
            <a:ext cx="1080" cy="91512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"/>
          <p:cNvCxnSpPr>
            <a:stCxn id="121" idx="4"/>
            <a:endCxn id="120" idx="0"/>
          </p:cNvCxnSpPr>
          <p:nvPr/>
        </p:nvCxnSpPr>
        <p:spPr>
          <a:xfrm>
            <a:off x="7848360" y="4876920"/>
            <a:ext cx="1080" cy="91512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"/>
          <p:cNvCxnSpPr>
            <a:stCxn id="119" idx="6"/>
            <a:endCxn id="120" idx="2"/>
          </p:cNvCxnSpPr>
          <p:nvPr/>
        </p:nvCxnSpPr>
        <p:spPr>
          <a:xfrm>
            <a:off x="5866920" y="6171840"/>
            <a:ext cx="160092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19" idx="7"/>
            <a:endCxn id="121" idx="3"/>
          </p:cNvCxnSpPr>
          <p:nvPr/>
        </p:nvCxnSpPr>
        <p:spPr>
          <a:xfrm flipV="1">
            <a:off x="5756400" y="4764960"/>
            <a:ext cx="1823040" cy="113724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53341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6019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495680"/>
            <a:ext cx="1523880" cy="160020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800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er Program.  SPM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876920"/>
            <a:ext cx="2057400" cy="838080"/>
          </a:xfrm>
          <a:prstGeom prst="rightArrow">
            <a:avLst>
              <a:gd name="adj1" fmla="val 50000"/>
              <a:gd name="adj2" fmla="val 61372"/>
            </a:avLst>
          </a:prstGeom>
          <a:solidFill>
            <a:srgbClr val="c0c0c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P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ssing Interface – Bas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it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nd()/Recv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cast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ather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0"/>
          </p:cNvCxnSpPr>
          <p:nvPr/>
        </p:nvCxnSpPr>
        <p:spPr>
          <a:xfrm flipH="1" rot="16200000">
            <a:off x="5485320" y="914040"/>
            <a:ext cx="2520" cy="213408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0"/>
            <a:endCxn id="139" idx="0"/>
          </p:cNvCxnSpPr>
          <p:nvPr/>
        </p:nvCxnSpPr>
        <p:spPr>
          <a:xfrm flipH="1" rot="16200000">
            <a:off x="4951800" y="1447560"/>
            <a:ext cx="2520" cy="10674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23888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8" idx="0"/>
            <a:endCxn id="143" idx="0"/>
          </p:cNvCxnSpPr>
          <p:nvPr/>
        </p:nvCxnSpPr>
        <p:spPr>
          <a:xfrm flipH="1" rot="16200000">
            <a:off x="5942520" y="456840"/>
            <a:ext cx="252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9" idx="4"/>
            <a:endCxn id="140" idx="4"/>
          </p:cNvCxnSpPr>
          <p:nvPr/>
        </p:nvCxnSpPr>
        <p:spPr>
          <a:xfrm flipH="1" rot="16200000">
            <a:off x="6017760" y="1905480"/>
            <a:ext cx="2520" cy="10674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9" idx="4"/>
            <a:endCxn id="143" idx="4"/>
          </p:cNvCxnSpPr>
          <p:nvPr/>
        </p:nvCxnSpPr>
        <p:spPr>
          <a:xfrm flipH="1" rot="16200000">
            <a:off x="6474960" y="1448280"/>
            <a:ext cx="2520" cy="19818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0" idx="6"/>
            <a:endCxn id="143" idx="2"/>
          </p:cNvCxnSpPr>
          <p:nvPr/>
        </p:nvCxnSpPr>
        <p:spPr>
          <a:xfrm>
            <a:off x="6781680" y="2209320"/>
            <a:ext cx="457920" cy="1080"/>
          </a:xfrm>
          <a:prstGeom prst="curvedConnector2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553080" y="3276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276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8" idx="0"/>
          </p:cNvCxnSpPr>
          <p:nvPr/>
        </p:nvCxnSpPr>
        <p:spPr>
          <a:xfrm flipH="1" rot="16200000">
            <a:off x="6133320" y="2629440"/>
            <a:ext cx="2160" cy="129600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8" idx="4"/>
            <a:endCxn id="149" idx="4"/>
          </p:cNvCxnSpPr>
          <p:nvPr/>
        </p:nvCxnSpPr>
        <p:spPr>
          <a:xfrm rot="5400000">
            <a:off x="6132600" y="3087000"/>
            <a:ext cx="2160" cy="129600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4724280" y="37339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4572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572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572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2" idx="4"/>
            <a:endCxn id="155" idx="0"/>
          </p:cNvCxnSpPr>
          <p:nvPr/>
        </p:nvCxnSpPr>
        <p:spPr>
          <a:xfrm rot="5400000">
            <a:off x="4342680" y="3962520"/>
            <a:ext cx="381600" cy="838800"/>
          </a:xfrm>
          <a:prstGeom prst="curvedConnector5">
            <a:avLst>
              <a:gd name="adj1" fmla="val 49952"/>
              <a:gd name="adj2" fmla="val 49978"/>
              <a:gd name="adj3" fmla="val 49952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2" idx="4"/>
            <a:endCxn id="154" idx="0"/>
          </p:cNvCxnSpPr>
          <p:nvPr/>
        </p:nvCxnSpPr>
        <p:spPr>
          <a:xfrm flipV="1" rot="10800000">
            <a:off x="4952160" y="4190760"/>
            <a:ext cx="1080" cy="381600"/>
          </a:xfrm>
          <a:prstGeom prst="curvedConnector2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2" idx="4"/>
            <a:endCxn id="153" idx="0"/>
          </p:cNvCxnSpPr>
          <p:nvPr/>
        </p:nvCxnSpPr>
        <p:spPr>
          <a:xfrm flipH="1" rot="16200000">
            <a:off x="5180760" y="3962160"/>
            <a:ext cx="381600" cy="8391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6553080" y="48769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5715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5715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5715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0"/>
            <a:endCxn id="159" idx="3"/>
          </p:cNvCxnSpPr>
          <p:nvPr/>
        </p:nvCxnSpPr>
        <p:spPr>
          <a:xfrm flipH="1" flipV="1" rot="5400000">
            <a:off x="6057360" y="5152320"/>
            <a:ext cx="448560" cy="677160"/>
          </a:xfrm>
          <a:prstGeom prst="curvedConnector5">
            <a:avLst>
              <a:gd name="adj1" fmla="val 42489"/>
              <a:gd name="adj2" fmla="val 50000"/>
              <a:gd name="adj3" fmla="val 42489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1" idx="0"/>
            <a:endCxn id="159" idx="4"/>
          </p:cNvCxnSpPr>
          <p:nvPr/>
        </p:nvCxnSpPr>
        <p:spPr>
          <a:xfrm flipV="1">
            <a:off x="6781320" y="5333760"/>
            <a:ext cx="1080" cy="381600"/>
          </a:xfrm>
          <a:prstGeom prst="curvedConnector2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9" idx="5"/>
          </p:cNvCxnSpPr>
          <p:nvPr/>
        </p:nvCxnSpPr>
        <p:spPr>
          <a:xfrm flipV="1" rot="16200000">
            <a:off x="7057440" y="5152320"/>
            <a:ext cx="448560" cy="677160"/>
          </a:xfrm>
          <a:prstGeom prst="curvedConnector5">
            <a:avLst>
              <a:gd name="adj1" fmla="val 42489"/>
              <a:gd name="adj2" fmla="val 50000"/>
              <a:gd name="adj3" fmla="val 42489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J – mpiJavaS &amp; mpiJav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35720" y="1904760"/>
            <a:ext cx="3970800" cy="3366000"/>
            <a:chOff x="2835720" y="1904760"/>
            <a:chExt cx="3970800" cy="3366000"/>
          </a:xfrm>
        </p:grpSpPr>
        <p:cxnSp>
          <p:nvCxnSpPr>
            <p:cNvPr id="168" name="_s98343"/>
            <p:cNvCxnSpPr>
              <a:stCxn id="169" idx="1"/>
              <a:endCxn id="170" idx="2"/>
            </p:cNvCxnSpPr>
            <p:nvPr/>
          </p:nvCxnSpPr>
          <p:spPr>
            <a:xfrm rot="10800000">
              <a:off x="3687120" y="2194920"/>
              <a:ext cx="282240" cy="292968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1" name="_s98341"/>
            <p:cNvCxnSpPr>
              <a:stCxn id="172" idx="1"/>
              <a:endCxn id="170" idx="2"/>
            </p:cNvCxnSpPr>
            <p:nvPr/>
          </p:nvCxnSpPr>
          <p:spPr>
            <a:xfrm rot="10800000">
              <a:off x="3687120" y="2194920"/>
              <a:ext cx="282240" cy="249156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3" name="_s98337"/>
            <p:cNvCxnSpPr>
              <a:stCxn id="174" idx="1"/>
              <a:endCxn id="170" idx="2"/>
            </p:cNvCxnSpPr>
            <p:nvPr/>
          </p:nvCxnSpPr>
          <p:spPr>
            <a:xfrm rot="10800000">
              <a:off x="3687120" y="2194920"/>
              <a:ext cx="282240" cy="205200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5" name="_s98335"/>
            <p:cNvCxnSpPr>
              <a:stCxn id="176" idx="1"/>
              <a:endCxn id="170" idx="2"/>
            </p:cNvCxnSpPr>
            <p:nvPr/>
          </p:nvCxnSpPr>
          <p:spPr>
            <a:xfrm rot="10800000">
              <a:off x="3687120" y="2194920"/>
              <a:ext cx="282240" cy="161172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7" name="_s98329"/>
            <p:cNvCxnSpPr>
              <a:stCxn id="178" idx="1"/>
              <a:endCxn id="179" idx="2"/>
            </p:cNvCxnSpPr>
            <p:nvPr/>
          </p:nvCxnSpPr>
          <p:spPr>
            <a:xfrm rot="10800000">
              <a:off x="4821120" y="2634120"/>
              <a:ext cx="282960" cy="73080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80" name="_s98327"/>
            <p:cNvCxnSpPr>
              <a:stCxn id="181" idx="1"/>
              <a:endCxn id="179" idx="2"/>
            </p:cNvCxnSpPr>
            <p:nvPr/>
          </p:nvCxnSpPr>
          <p:spPr>
            <a:xfrm rot="10800000">
              <a:off x="4821120" y="2634120"/>
              <a:ext cx="282960" cy="29268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82" name="_s98315"/>
            <p:cNvCxnSpPr>
              <a:stCxn id="179" idx="1"/>
              <a:endCxn id="170" idx="2"/>
            </p:cNvCxnSpPr>
            <p:nvPr/>
          </p:nvCxnSpPr>
          <p:spPr>
            <a:xfrm rot="10800000">
              <a:off x="3687120" y="2194920"/>
              <a:ext cx="282240" cy="29448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sp>
          <p:nvSpPr>
            <p:cNvPr id="170" name="_s98310"/>
            <p:cNvSpPr/>
            <p:nvPr/>
          </p:nvSpPr>
          <p:spPr>
            <a:xfrm>
              <a:off x="2835720" y="1904760"/>
              <a:ext cx="1702080" cy="2905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MPJ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6" name="_s98311"/>
            <p:cNvSpPr/>
            <p:nvPr/>
          </p:nvSpPr>
          <p:spPr>
            <a:xfrm>
              <a:off x="3969720" y="366012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Datatypes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9" name="_s98312"/>
            <p:cNvSpPr/>
            <p:nvPr/>
          </p:nvSpPr>
          <p:spPr>
            <a:xfrm>
              <a:off x="3969720" y="234180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Communicator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1" name="_s98326"/>
            <p:cNvSpPr/>
            <p:nvPr/>
          </p:nvSpPr>
          <p:spPr>
            <a:xfrm>
              <a:off x="5104080" y="2781360"/>
              <a:ext cx="1702440" cy="291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JavaComm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8" name="_s98328"/>
            <p:cNvSpPr/>
            <p:nvPr/>
          </p:nvSpPr>
          <p:spPr>
            <a:xfrm>
              <a:off x="5104080" y="3219840"/>
              <a:ext cx="1702440" cy="2916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GridComm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4" name="_s98336"/>
            <p:cNvSpPr/>
            <p:nvPr/>
          </p:nvSpPr>
          <p:spPr>
            <a:xfrm>
              <a:off x="3969720" y="409932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120" rIns="7812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MPJMessage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2" name="_s98340"/>
            <p:cNvSpPr/>
            <p:nvPr/>
          </p:nvSpPr>
          <p:spPr>
            <a:xfrm>
              <a:off x="3969720" y="453888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120" rIns="7812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Op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9" name="_s98342"/>
            <p:cNvSpPr/>
            <p:nvPr/>
          </p:nvSpPr>
          <p:spPr>
            <a:xfrm>
              <a:off x="3969720" y="497808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etc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22:24:49Z</dcterms:created>
  <dc:creator>Information Systems</dc:creator>
  <dc:description/>
  <dc:language>en-US</dc:language>
  <cp:lastModifiedBy>Beef</cp:lastModifiedBy>
  <dcterms:modified xsi:type="dcterms:W3CDTF">2005-06-03T17:31:26Z</dcterms:modified>
  <cp:revision>25</cp:revision>
  <dc:subject/>
  <dc:title>Message Passing Interface</dc:title>
</cp:coreProperties>
</file>