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49A-6869-4895-AE7A-69B93285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9D88-78E1-4A70-87E8-3D87F1BF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DE4-45ED-4859-9DA6-028B9235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DFB-9DD4-4C27-AEA7-C5EE11EB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D7F-640D-4522-A8A8-F5C0964C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087-CB81-4BD2-A4D0-BEC4794F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87B-0AB7-4AA3-97A6-1AAECB64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74B-73CF-4DEA-AB6D-1AC83554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9C5-EBBE-464C-BA22-A8A910D4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725-F584-4E0F-94F4-94A96C70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221-09A9-4762-8178-5E6F8BE2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86C-C336-4143-B27F-1D23D49E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8F3D-9894-43F9-86B7-10AA6994F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428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59840" y="685800"/>
            <a:ext cx="34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asuring Infant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62160" cy="3811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1676520"/>
            <a:ext cx="4495680" cy="4190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05880" y="685800"/>
            <a:ext cx="437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asuring Head Circum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03680" y="1600200"/>
            <a:ext cx="3535200" cy="4567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62320" y="1447920"/>
            <a:ext cx="4495680" cy="495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74520" y="685800"/>
            <a:ext cx="179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adio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21:07:48Z</dcterms:created>
  <dc:creator>Gregory M. Owen</dc:creator>
  <dc:description/>
  <dc:language>en-US</dc:language>
  <cp:lastModifiedBy>-</cp:lastModifiedBy>
  <dcterms:modified xsi:type="dcterms:W3CDTF">2001-07-23T21:28:29Z</dcterms:modified>
  <cp:revision>28</cp:revision>
  <dc:subject/>
  <dc:title>PowerPoint Presentation</dc:title>
</cp:coreProperties>
</file>