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EC3-5ED4-4803-8BC0-6B4D7E28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1435-D231-4923-B661-E82093AB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1748-0924-4EFD-BAEC-772B20B1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C3D-6BDA-4A9A-9EB4-3365C415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77A1-EAD9-4DC0-B8C0-BF61C7F3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E3F-8A4A-4DAD-9255-D96E5EFD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C45-C614-4BCB-A7A1-8C8BA540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508-9258-4E48-8395-A8B6D72E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9D2F-4085-4B15-9546-CF08A345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967-90B2-448D-991F-997415E2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F2F6-A2A0-4A0C-933B-CDAD0BFA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73A-98B5-4530-8196-38EECD98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F44C-3955-4B56-9FDE-6446A3159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428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59840" y="685800"/>
            <a:ext cx="34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asuring Infant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962160" cy="3811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1676520"/>
            <a:ext cx="4495680" cy="4190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05880" y="685800"/>
            <a:ext cx="437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asuring Head Circum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03680" y="1600200"/>
            <a:ext cx="3535200" cy="4567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62320" y="1447920"/>
            <a:ext cx="4495680" cy="495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74520" y="685800"/>
            <a:ext cx="179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adio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21:07:48Z</dcterms:created>
  <dc:creator>Gregory M. Owen</dc:creator>
  <dc:description/>
  <dc:language>en-US</dc:language>
  <cp:lastModifiedBy>-</cp:lastModifiedBy>
  <dcterms:modified xsi:type="dcterms:W3CDTF">2001-07-23T21:28:29Z</dcterms:modified>
  <cp:revision>28</cp:revision>
  <dc:subject/>
  <dc:title>PowerPoint Presentation</dc:title>
</cp:coreProperties>
</file>