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579-0D13-486E-B933-5A172BB6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6DF-09C6-48A0-93C3-38DFD883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248-FFAE-45FE-9FDE-4A68713F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A01-7232-4B9B-A684-9AB5154B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1B4-FF12-4BFA-9FF2-61D98F5B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5EB-6EE7-465C-B6DD-639475C3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766-5D54-4AE4-8DC7-31FAE710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54B-01AD-4686-95D6-0FCC2B51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02F-BB5D-4424-AEA9-1B27CCF8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CE8-C9FF-4E0A-B774-60705E3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D75-23BF-4E45-8F10-FEF2E347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4AD-3409-4436-BBE4-B8EC7257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3A15-495B-4339-B104-05D9FCB72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59840" y="685800"/>
            <a:ext cx="34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Infant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381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1676520"/>
            <a:ext cx="4495680" cy="4190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5880" y="685800"/>
            <a:ext cx="437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Head Circum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03680" y="1600200"/>
            <a:ext cx="3535200" cy="4567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2320" y="1447920"/>
            <a:ext cx="4495680" cy="495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74520" y="685800"/>
            <a:ext cx="179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dio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1:07:48Z</dcterms:created>
  <dc:creator>Gregory M. Owen</dc:creator>
  <dc:description/>
  <dc:language>en-US</dc:language>
  <cp:lastModifiedBy>-</cp:lastModifiedBy>
  <dcterms:modified xsi:type="dcterms:W3CDTF">2001-07-23T21:28:29Z</dcterms:modified>
  <cp:revision>28</cp:revision>
  <dc:subject/>
  <dc:title>PowerPoint Presentation</dc:title>
</cp:coreProperties>
</file>