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153-AF7A-468D-93F2-5FB5F98E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788-315B-4C12-8A5D-64C399B1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9A7-AC25-4414-AF54-78A9D9FC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A035-2862-4535-B770-17F30880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7AC-22CA-4C73-9699-854CFCC9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3A3-14E5-4F71-868C-45E5865D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BC3-1BA5-4577-8A52-48ADAE7E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E4FF-F0CA-4E62-A059-07E57BCF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D0F-AB23-4D64-908F-42AB4F0F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EC4-0226-48B0-B07D-101BC306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B12-24B3-4107-8175-5D21C34C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67A-4AE7-475D-89E2-B547AE85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6DCE-FB2A-42F0-AAC5-C15E0D912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38840" y="685800"/>
            <a:ext cx="106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c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38440" y="1447920"/>
            <a:ext cx="391464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6414840" cy="2709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53960" y="685800"/>
            <a:ext cx="28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Infant Length Bo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38880" y="1981080"/>
            <a:ext cx="1524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4724280"/>
            <a:ext cx="1904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724280"/>
            <a:ext cx="2133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or yardsti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mly attac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4724280"/>
            <a:ext cx="25909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” of tape exa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base of head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4282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59840" y="685800"/>
            <a:ext cx="34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asuring Infant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03680" y="1600200"/>
            <a:ext cx="3535200" cy="4567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62320" y="1447920"/>
            <a:ext cx="4495680" cy="495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74520" y="685800"/>
            <a:ext cx="179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adio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962160" cy="3811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0" y="1676520"/>
            <a:ext cx="4495680" cy="4190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05880" y="685800"/>
            <a:ext cx="437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asuring Head Circum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21:07:48Z</dcterms:created>
  <dc:creator>Gregory M. Owen</dc:creator>
  <dc:description/>
  <dc:language>en-US</dc:language>
  <cp:lastModifiedBy>-</cp:lastModifiedBy>
  <cp:lastPrinted>2001-07-24T15:50:49Z</cp:lastPrinted>
  <dcterms:modified xsi:type="dcterms:W3CDTF">2001-07-24T15:58:07Z</dcterms:modified>
  <cp:revision>29</cp:revision>
  <dc:subject/>
  <dc:title>PowerPoint Presentation</dc:title>
</cp:coreProperties>
</file>