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5C9-0133-49DD-9CA8-37AB7B9D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786-1128-4EB2-8912-A110D39E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11D-8D68-494C-8775-D3491110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BCF-289D-4680-8546-2C85B077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604-6911-429F-9582-E1E76FC4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6EC-1935-475B-8C81-BDC21055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306-28B8-481D-99E9-9D0231ED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FEF-4BB7-459E-865A-341DF3C4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3212-33D8-4251-8566-9BBD1DF3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943-0370-48EE-B090-5EC7C65D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7C2-E207-4104-9AAE-98BEABB0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AB1-2492-4093-8583-C687781C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151A-B253-4AC1-8915-06CE933C9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840" y="685800"/>
            <a:ext cx="106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c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38440" y="1447920"/>
            <a:ext cx="391464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6414840" cy="270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53960" y="685800"/>
            <a:ext cx="28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Infant Length Bo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1981080"/>
            <a:ext cx="152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4724280"/>
            <a:ext cx="1904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724280"/>
            <a:ext cx="2133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or yardst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mly atta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4724280"/>
            <a:ext cx="25909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” of tape exa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base of head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4282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59840" y="685800"/>
            <a:ext cx="34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asuring Infant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03680" y="1600200"/>
            <a:ext cx="3535200" cy="4567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62320" y="1447920"/>
            <a:ext cx="4495680" cy="495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74520" y="685800"/>
            <a:ext cx="179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adio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62160" cy="381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1676520"/>
            <a:ext cx="4495680" cy="4190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05880" y="685800"/>
            <a:ext cx="437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asuring Head Circum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21:07:48Z</dcterms:created>
  <dc:creator>Gregory M. Owen</dc:creator>
  <dc:description/>
  <dc:language>en-US</dc:language>
  <cp:lastModifiedBy>-</cp:lastModifiedBy>
  <cp:lastPrinted>2001-07-24T15:50:49Z</cp:lastPrinted>
  <dcterms:modified xsi:type="dcterms:W3CDTF">2001-07-24T15:58:07Z</dcterms:modified>
  <cp:revision>29</cp:revision>
  <dc:subject/>
  <dc:title>PowerPoint Presentation</dc:title>
</cp:coreProperties>
</file>