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800-A24B-4C07-8CC9-FC61DEDC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25A-ED5A-49E3-BBCA-FFC3956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56A-CA6D-4E63-B1C7-85B4CFB3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229-C5C7-4561-B20F-99B990BD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D58-5E50-42B2-8691-D84A37E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21C-AA9E-476D-90C6-A4B7E8CE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6C6-8CAA-448B-8B6C-AEF8BEF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48A-5510-454F-BB2F-9826BD1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B95-34D2-4A12-ABC5-F4983A1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B81-6C0F-43D7-8C89-B021E85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A4B-32E8-44FA-9D59-675C432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8BA-20B9-4BC7-A8DB-4D5FCCA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F7D-0CF0-40A4-A4A6-70364F8A5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840" y="68580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38440" y="1447920"/>
            <a:ext cx="39146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414840" cy="270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53960" y="685800"/>
            <a:ext cx="28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fant Length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981080"/>
            <a:ext cx="152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724280"/>
            <a:ext cx="1904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724280"/>
            <a:ext cx="2133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or yardst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ly 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4724280"/>
            <a:ext cx="2590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” of tape exa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ase of 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cp:lastPrinted>2001-07-24T15:50:49Z</cp:lastPrinted>
  <dcterms:modified xsi:type="dcterms:W3CDTF">2001-07-24T15:58:07Z</dcterms:modified>
  <cp:revision>29</cp:revision>
  <dc:subject/>
  <dc:title>PowerPoint Presentation</dc:title>
</cp:coreProperties>
</file>