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4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C5F6-E542-4894-827D-55D4CEBDF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13A7-8AC6-4C5E-B0AA-BE2E1121C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D927-105A-4BF6-B361-303FD4872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12FA-ED7F-440F-8E4C-6F2EA489A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BA2FA-CCDD-48FF-8B94-896C898F6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C8943-63D4-46AF-AC1C-240856524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DF48C-B99D-40D0-AAF6-7D1340488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4F178-FCCB-493B-8249-6A6FFD710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544A0-042D-4A89-AD09-7637885F4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2C7F7-2638-4674-90E0-B301B93E5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1BC42-8E1A-41C9-B84D-BBFA74437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7C4C-3C1B-4585-A041-6D2367980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4ACFA-6DFD-43F0-8A26-441E62C9F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3EBFF-1D54-4425-B05E-6115DFD8B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E761B-5DCC-4D0B-93A0-CAFA7CF47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725E6-E3D4-4C12-B014-05988F2A9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85D09-C795-43C4-94BA-B906EC096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CFC1-77C7-4242-B426-B2EA607A5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ADD3-FD50-413C-A5D5-5B1EB2CC5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EE7C-AF2A-4F58-AE39-AAA83DE6E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7AA3-473D-4E53-A362-376C012C5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D988-8781-4EB3-9047-3C9338902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0CC2-53B4-4F0E-BD9A-DD69F12E7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E2C5-C7F2-458C-B312-6D804F61B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9426F-9E67-41D7-A874-20A8ABF0BDF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838080" y="561960"/>
            <a:ext cx="152640" cy="1066680"/>
          </a:xfrm>
          <a:custGeom>
            <a:avLst/>
            <a:gdLst>
              <a:gd name="textAreaLeft" fmla="*/ 0 w 152640"/>
              <a:gd name="textAreaRight" fmla="*/ 153000 w 152640"/>
              <a:gd name="textAreaTop" fmla="*/ 0 h 1066680"/>
              <a:gd name="textAreaBottom" fmla="*/ 1067040 h 1066680"/>
            </a:gdLst>
            <a:ahLst/>
            <a:rect l="textAreaLeft" t="textAreaTop" r="textAreaRight" b="textAreaBottom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8263080" y="270000"/>
            <a:ext cx="152280" cy="1073160"/>
          </a:xfrm>
          <a:custGeom>
            <a:avLst/>
            <a:gdLst>
              <a:gd name="textAreaLeft" fmla="*/ 0 w 152280"/>
              <a:gd name="textAreaRight" fmla="*/ 152640 w 152280"/>
              <a:gd name="textAreaTop" fmla="*/ 0 h 1073160"/>
              <a:gd name="textAreaBottom" fmla="*/ 1073520 h 1073160"/>
            </a:gdLst>
            <a:ahLst/>
            <a:rect l="textAreaLeft" t="textAreaTop" r="textAreaRight" b="textAreaBottom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C9C58-16E4-473B-AE73-FFC0DE8EC97D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7925040" cy="60948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Lucida Handwriting"/>
              </a:rPr>
              <a:t>ThinkQuest TRIO Awards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Object 3"/>
          <p:cNvGraphicFramePr/>
          <p:nvPr/>
        </p:nvGraphicFramePr>
        <p:xfrm>
          <a:off x="0" y="0"/>
          <a:ext cx="9144000" cy="37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3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Rectangle 5"/>
          <p:cNvSpPr/>
          <p:nvPr/>
        </p:nvSpPr>
        <p:spPr>
          <a:xfrm>
            <a:off x="152280" y="2741760"/>
            <a:ext cx="8382240" cy="28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Congratulations to all students who completed a website in 2009. These sites all demonstrate the skills, creativity, and collaborative work of the TRIO teams. </a:t>
            </a:r>
            <a:br>
              <a:rPr sz="2400"/>
            </a:b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i="1" lang="en-US" sz="1800" spc="-1" strike="noStrike">
                <a:solidFill>
                  <a:srgbClr val="663300"/>
                </a:solidFill>
                <a:latin typeface="Arial"/>
              </a:rPr>
              <a:t>Congratulations to the TRIO programs and staff who provided the inspiration and guidance to make it possible for the students to do their best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5120" y="609480"/>
            <a:ext cx="5029200" cy="6098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norable Mention Aw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Object 3"/>
          <p:cNvGraphicFramePr/>
          <p:nvPr/>
        </p:nvGraphicFramePr>
        <p:xfrm>
          <a:off x="0" y="0"/>
          <a:ext cx="9144000" cy="37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3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Text Box 12"/>
          <p:cNvSpPr/>
          <p:nvPr/>
        </p:nvSpPr>
        <p:spPr>
          <a:xfrm rot="20967600">
            <a:off x="291960" y="1600200"/>
            <a:ext cx="1917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a50021"/>
                </a:solidFill>
                <a:latin typeface="Lucida Handwriting"/>
              </a:rPr>
              <a:t>True Imag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4" name="AutoShape 17"/>
          <p:cNvSpPr/>
          <p:nvPr/>
        </p:nvSpPr>
        <p:spPr>
          <a:xfrm rot="5400000">
            <a:off x="-723600" y="2857320"/>
            <a:ext cx="4267080" cy="2819520"/>
          </a:xfrm>
          <a:custGeom>
            <a:avLst/>
            <a:gdLst>
              <a:gd name="textAreaLeft" fmla="*/ 622080 w 4267080"/>
              <a:gd name="textAreaRight" fmla="*/ 3645000 w 4267080"/>
              <a:gd name="textAreaTop" fmla="*/ 411120 h 2819520"/>
              <a:gd name="textAreaBottom" fmla="*/ 2408400 h 2819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699" y="21600"/>
                </a:lnTo>
                <a:lnTo>
                  <a:pt x="18901" y="21600"/>
                </a:lnTo>
                <a:lnTo>
                  <a:pt x="21600" y="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5" name="AutoShape 18"/>
          <p:cNvSpPr/>
          <p:nvPr/>
        </p:nvSpPr>
        <p:spPr>
          <a:xfrm rot="16200000">
            <a:off x="2095560" y="2839680"/>
            <a:ext cx="4267080" cy="2819160"/>
          </a:xfrm>
          <a:custGeom>
            <a:avLst/>
            <a:gdLst>
              <a:gd name="textAreaLeft" fmla="*/ 391320 w 4267080"/>
              <a:gd name="textAreaRight" fmla="*/ 3875760 w 4267080"/>
              <a:gd name="textAreaTop" fmla="*/ 258480 h 2819160"/>
              <a:gd name="textAreaBottom" fmla="*/ 2560680 h 2819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62" y="21600"/>
                </a:lnTo>
                <a:lnTo>
                  <a:pt x="21238" y="21600"/>
                </a:lnTo>
                <a:lnTo>
                  <a:pt x="21600" y="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6" name="AutoShape 19"/>
          <p:cNvSpPr/>
          <p:nvPr/>
        </p:nvSpPr>
        <p:spPr>
          <a:xfrm rot="16200000">
            <a:off x="5329080" y="2514600"/>
            <a:ext cx="4137120" cy="3492360"/>
          </a:xfrm>
          <a:custGeom>
            <a:avLst/>
            <a:gdLst>
              <a:gd name="textAreaLeft" fmla="*/ 525600 w 4137120"/>
              <a:gd name="textAreaRight" fmla="*/ 3611520 w 4137120"/>
              <a:gd name="textAreaTop" fmla="*/ 443520 h 3492360"/>
              <a:gd name="textAreaBottom" fmla="*/ 3048840 h 34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89" y="21600"/>
                </a:lnTo>
                <a:lnTo>
                  <a:pt x="19711" y="21600"/>
                </a:lnTo>
                <a:lnTo>
                  <a:pt x="21600" y="0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7" name="Text Box 20"/>
          <p:cNvSpPr/>
          <p:nvPr/>
        </p:nvSpPr>
        <p:spPr>
          <a:xfrm rot="637800">
            <a:off x="75960" y="6154200"/>
            <a:ext cx="30477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Lucida Handwriting"/>
              </a:rPr>
              <a:t>Lincoln University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8" name="Text Box 21"/>
          <p:cNvSpPr/>
          <p:nvPr/>
        </p:nvSpPr>
        <p:spPr>
          <a:xfrm>
            <a:off x="2666880" y="1600200"/>
            <a:ext cx="312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ff"/>
                </a:solidFill>
                <a:latin typeface="Lucida Handwriting"/>
              </a:rPr>
              <a:t>Flow with the Wind</a:t>
            </a:r>
            <a:br>
              <a:rPr sz="1800"/>
            </a:b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9" name="Text Box 22"/>
          <p:cNvSpPr/>
          <p:nvPr/>
        </p:nvSpPr>
        <p:spPr>
          <a:xfrm rot="364200">
            <a:off x="5879880" y="1629000"/>
            <a:ext cx="312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Lucida Handwriting"/>
              </a:rPr>
              <a:t>American Sign Language</a:t>
            </a:r>
            <a:br>
              <a:rPr sz="1800"/>
            </a:b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0" name="Rectangle 23"/>
          <p:cNvSpPr/>
          <p:nvPr/>
        </p:nvSpPr>
        <p:spPr>
          <a:xfrm rot="21278400">
            <a:off x="6382080" y="6154200"/>
            <a:ext cx="246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3300"/>
                </a:solidFill>
                <a:latin typeface="Lucida Handwriting"/>
              </a:rPr>
              <a:t>California State U, Chico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1" name="Rectangle 24"/>
          <p:cNvSpPr/>
          <p:nvPr/>
        </p:nvSpPr>
        <p:spPr>
          <a:xfrm rot="21469800">
            <a:off x="3037320" y="6368760"/>
            <a:ext cx="246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ff"/>
                </a:solidFill>
                <a:latin typeface="Lucida Handwriting"/>
              </a:rPr>
              <a:t>California State U, Chico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50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5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5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362320" y="762120"/>
            <a:ext cx="4572000" cy="45720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Bronze  Aw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Object 3"/>
          <p:cNvGraphicFramePr/>
          <p:nvPr/>
        </p:nvGraphicFramePr>
        <p:xfrm>
          <a:off x="0" y="0"/>
          <a:ext cx="9144000" cy="37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3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5" name="Picture 24" descr="traditionalremedies"/>
          <p:cNvPicPr/>
          <p:nvPr/>
        </p:nvPicPr>
        <p:blipFill>
          <a:blip r:embed="rId3"/>
          <a:stretch/>
        </p:blipFill>
        <p:spPr>
          <a:xfrm>
            <a:off x="76320" y="1563840"/>
            <a:ext cx="4343400" cy="16002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6" descr="inorganic"/>
          <p:cNvPicPr/>
          <p:nvPr/>
        </p:nvPicPr>
        <p:blipFill>
          <a:blip r:embed="rId4"/>
          <a:stretch/>
        </p:blipFill>
        <p:spPr>
          <a:xfrm>
            <a:off x="81000" y="3375000"/>
            <a:ext cx="4344840" cy="15908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7" descr="usborders"/>
          <p:cNvPicPr/>
          <p:nvPr/>
        </p:nvPicPr>
        <p:blipFill>
          <a:blip r:embed="rId5"/>
          <a:stretch/>
        </p:blipFill>
        <p:spPr>
          <a:xfrm>
            <a:off x="136440" y="5091120"/>
            <a:ext cx="4281480" cy="161460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28"/>
          <p:cNvSpPr/>
          <p:nvPr/>
        </p:nvSpPr>
        <p:spPr>
          <a:xfrm>
            <a:off x="4419720" y="3733920"/>
            <a:ext cx="44193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Lucida Handwriting"/>
              </a:rPr>
              <a:t>Secrets of Inorganic Food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3300"/>
                </a:solidFill>
                <a:latin typeface="Lucida Handwriting"/>
              </a:rPr>
              <a:t>U of Southern California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9" name="Rectangle 29"/>
          <p:cNvSpPr/>
          <p:nvPr/>
        </p:nvSpPr>
        <p:spPr>
          <a:xfrm>
            <a:off x="4419720" y="1752480"/>
            <a:ext cx="4876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Lucida Handwriting"/>
              </a:rPr>
              <a:t>Alternative Medicine: Traditional Remedies and Treatment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Lucida Handwriting"/>
              </a:rPr>
              <a:t>U of Southern California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0" name="Rectangle 30"/>
          <p:cNvSpPr/>
          <p:nvPr/>
        </p:nvSpPr>
        <p:spPr>
          <a:xfrm>
            <a:off x="4419720" y="5562720"/>
            <a:ext cx="44193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Lucida Handwriting"/>
              </a:rPr>
              <a:t>United States Border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3300"/>
                </a:solidFill>
                <a:latin typeface="Lucida Handwriting"/>
              </a:rPr>
              <a:t>University of Texas at El Paso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819160" y="685800"/>
            <a:ext cx="3429000" cy="45720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Silver  Aw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Object 6"/>
          <p:cNvGraphicFramePr/>
          <p:nvPr/>
        </p:nvGraphicFramePr>
        <p:xfrm>
          <a:off x="0" y="0"/>
          <a:ext cx="9144000" cy="37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3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AutoShape 15"/>
          <p:cNvSpPr/>
          <p:nvPr/>
        </p:nvSpPr>
        <p:spPr>
          <a:xfrm rot="5400000">
            <a:off x="37800" y="1860120"/>
            <a:ext cx="4495680" cy="4572000"/>
          </a:xfrm>
          <a:custGeom>
            <a:avLst/>
            <a:gdLst>
              <a:gd name="textAreaLeft" fmla="*/ 759960 w 4495680"/>
              <a:gd name="textAreaRight" fmla="*/ 3735720 w 4495680"/>
              <a:gd name="textAreaTop" fmla="*/ 772920 h 4572000"/>
              <a:gd name="textAreaBottom" fmla="*/ 3799080 h 457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703" y="21600"/>
                </a:lnTo>
                <a:lnTo>
                  <a:pt x="17897" y="21600"/>
                </a:lnTo>
                <a:lnTo>
                  <a:pt x="21600" y="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5" name="AutoShape 16"/>
          <p:cNvSpPr/>
          <p:nvPr/>
        </p:nvSpPr>
        <p:spPr>
          <a:xfrm rot="16200000">
            <a:off x="4610160" y="1860480"/>
            <a:ext cx="4495680" cy="4572000"/>
          </a:xfrm>
          <a:custGeom>
            <a:avLst/>
            <a:gdLst>
              <a:gd name="textAreaLeft" fmla="*/ 759960 w 4495680"/>
              <a:gd name="textAreaRight" fmla="*/ 3735720 w 4495680"/>
              <a:gd name="textAreaTop" fmla="*/ 772920 h 4572000"/>
              <a:gd name="textAreaBottom" fmla="*/ 3799080 h 457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703" y="21600"/>
                </a:lnTo>
                <a:lnTo>
                  <a:pt x="17897" y="21600"/>
                </a:lnTo>
                <a:lnTo>
                  <a:pt x="21600" y="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6" name="Rectangle 17"/>
          <p:cNvSpPr/>
          <p:nvPr/>
        </p:nvSpPr>
        <p:spPr>
          <a:xfrm rot="544200">
            <a:off x="581040" y="5789160"/>
            <a:ext cx="24728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600" spc="-1" strike="noStrike">
                <a:solidFill>
                  <a:srgbClr val="003300"/>
                </a:solidFill>
                <a:latin typeface="Lucida Handwriting"/>
              </a:rPr>
              <a:t>U of Southern California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7" name="Rectangle 18"/>
          <p:cNvSpPr/>
          <p:nvPr/>
        </p:nvSpPr>
        <p:spPr>
          <a:xfrm rot="20980800">
            <a:off x="6402240" y="6095880"/>
            <a:ext cx="177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Lucida Handwriting"/>
              </a:rPr>
              <a:t>U of Washington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8" name="Rectangle 19"/>
          <p:cNvSpPr/>
          <p:nvPr/>
        </p:nvSpPr>
        <p:spPr>
          <a:xfrm rot="20985600">
            <a:off x="910800" y="1660320"/>
            <a:ext cx="29286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Lucida Handwriting"/>
              </a:rPr>
              <a:t>Music Business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9" name="Rectangle 21"/>
          <p:cNvSpPr/>
          <p:nvPr/>
        </p:nvSpPr>
        <p:spPr>
          <a:xfrm rot="610800">
            <a:off x="5866920" y="1720800"/>
            <a:ext cx="228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Lucida Handwriting"/>
              </a:rPr>
              <a:t>Smoking</a:t>
            </a:r>
            <a:br>
              <a:rPr sz="2800"/>
            </a:b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5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895120" y="685800"/>
            <a:ext cx="3505320" cy="4572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00"/>
                </a:solidFill>
                <a:latin typeface="Arial"/>
              </a:rPr>
              <a:t>Gold Aw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Object 3"/>
          <p:cNvGraphicFramePr/>
          <p:nvPr/>
        </p:nvGraphicFramePr>
        <p:xfrm>
          <a:off x="0" y="0"/>
          <a:ext cx="9144000" cy="37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3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AutoShape 11"/>
          <p:cNvSpPr/>
          <p:nvPr/>
        </p:nvSpPr>
        <p:spPr>
          <a:xfrm rot="16200000">
            <a:off x="38160" y="1987560"/>
            <a:ext cx="4495680" cy="4572000"/>
          </a:xfrm>
          <a:custGeom>
            <a:avLst/>
            <a:gdLst>
              <a:gd name="textAreaLeft" fmla="*/ 759960 w 4495680"/>
              <a:gd name="textAreaRight" fmla="*/ 3735720 w 4495680"/>
              <a:gd name="textAreaTop" fmla="*/ 772920 h 4572000"/>
              <a:gd name="textAreaBottom" fmla="*/ 3799080 h 457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703" y="21600"/>
                </a:lnTo>
                <a:lnTo>
                  <a:pt x="17897" y="21600"/>
                </a:lnTo>
                <a:lnTo>
                  <a:pt x="21600" y="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4" name="AutoShape 13"/>
          <p:cNvSpPr/>
          <p:nvPr/>
        </p:nvSpPr>
        <p:spPr>
          <a:xfrm rot="5400000">
            <a:off x="4762440" y="1987200"/>
            <a:ext cx="4191120" cy="4572000"/>
          </a:xfrm>
          <a:custGeom>
            <a:avLst/>
            <a:gdLst>
              <a:gd name="textAreaLeft" fmla="*/ 663120 w 4191120"/>
              <a:gd name="textAreaRight" fmla="*/ 3528000 w 4191120"/>
              <a:gd name="textAreaTop" fmla="*/ 723240 h 4572000"/>
              <a:gd name="textAreaBottom" fmla="*/ 3848760 h 457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235" y="21600"/>
                </a:lnTo>
                <a:lnTo>
                  <a:pt x="18365" y="21600"/>
                </a:lnTo>
                <a:lnTo>
                  <a:pt x="21600" y="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5" name="Rectangle 15"/>
          <p:cNvSpPr/>
          <p:nvPr/>
        </p:nvSpPr>
        <p:spPr>
          <a:xfrm rot="514200">
            <a:off x="52200" y="1568160"/>
            <a:ext cx="441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3300"/>
                </a:solidFill>
                <a:latin typeface="Lucida Handwriting"/>
              </a:rPr>
              <a:t>Coffee: </a:t>
            </a:r>
            <a:br>
              <a:rPr sz="2400"/>
            </a:br>
            <a:r>
              <a:rPr b="1" i="1" lang="en-US" sz="2400" spc="-1" strike="noStrike">
                <a:solidFill>
                  <a:srgbClr val="663300"/>
                </a:solidFill>
                <a:latin typeface="Lucida Handwriting"/>
              </a:rPr>
              <a:t>The Rio Vent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6" name="Rectangle 16"/>
          <p:cNvSpPr/>
          <p:nvPr/>
        </p:nvSpPr>
        <p:spPr>
          <a:xfrm rot="21140400">
            <a:off x="4419720" y="1644120"/>
            <a:ext cx="48765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Lucida Handwriting"/>
              </a:rPr>
              <a:t>GROWTH –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Lucida Handwriting"/>
              </a:rPr>
              <a:t>A </a:t>
            </a:r>
            <a:r>
              <a:rPr b="1" lang="en-US" sz="2000" spc="-1" strike="noStrike">
                <a:solidFill>
                  <a:srgbClr val="006600"/>
                </a:solidFill>
                <a:latin typeface="Lucida Handwriting"/>
              </a:rPr>
              <a:t>New</a:t>
            </a:r>
            <a:r>
              <a:rPr b="1" lang="en-US" sz="2400" spc="-1" strike="noStrike">
                <a:solidFill>
                  <a:srgbClr val="006600"/>
                </a:solidFill>
                <a:latin typeface="Lucida Handwriting"/>
              </a:rPr>
              <a:t> Perspective </a:t>
            </a:r>
            <a:r>
              <a:rPr b="1" lang="en-US" sz="1800" spc="-1" strike="noStrike">
                <a:solidFill>
                  <a:srgbClr val="006600"/>
                </a:solidFill>
                <a:latin typeface="Lucida Handwriting"/>
              </a:rPr>
              <a:t>on </a:t>
            </a:r>
            <a:r>
              <a:rPr b="1" lang="en-US" sz="2400" spc="-1" strike="noStrike">
                <a:solidFill>
                  <a:srgbClr val="006600"/>
                </a:solidFill>
                <a:latin typeface="Lucida Handwriting"/>
              </a:rPr>
              <a:t>Loan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7" name="Text Box 17"/>
          <p:cNvSpPr/>
          <p:nvPr/>
        </p:nvSpPr>
        <p:spPr>
          <a:xfrm rot="20985000">
            <a:off x="1523880" y="6216120"/>
            <a:ext cx="228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663300"/>
                </a:solidFill>
                <a:latin typeface="Lucida Handwriting"/>
              </a:rPr>
              <a:t>U of Washington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8" name="Text Box 18"/>
          <p:cNvSpPr/>
          <p:nvPr/>
        </p:nvSpPr>
        <p:spPr>
          <a:xfrm rot="475800">
            <a:off x="5943600" y="6216120"/>
            <a:ext cx="228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6600"/>
                </a:solidFill>
                <a:latin typeface="Lucida Handwriting"/>
              </a:rPr>
              <a:t>Lincoln U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5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500"/>
                            </p:stCondLst>
                            <p:childTnLst>
                              <p:par>
                                <p:cTn id="12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590920" y="609480"/>
            <a:ext cx="4038480" cy="5335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st of Con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Object 3"/>
          <p:cNvGraphicFramePr/>
          <p:nvPr/>
        </p:nvGraphicFramePr>
        <p:xfrm>
          <a:off x="0" y="0"/>
          <a:ext cx="9144000" cy="37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3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Rectangle 4"/>
          <p:cNvSpPr/>
          <p:nvPr/>
        </p:nvSpPr>
        <p:spPr>
          <a:xfrm>
            <a:off x="1752480" y="1447920"/>
            <a:ext cx="4953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Lucida Handwriting"/>
              </a:rPr>
              <a:t>Greenopolis </a:t>
            </a:r>
            <a:br>
              <a:rPr sz="3200"/>
            </a:b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33" name="Picture 8" descr="greenopolis1"/>
          <p:cNvPicPr/>
          <p:nvPr/>
        </p:nvPicPr>
        <p:blipFill>
          <a:blip r:embed="rId3"/>
          <a:stretch/>
        </p:blipFill>
        <p:spPr>
          <a:xfrm>
            <a:off x="1828800" y="2362320"/>
            <a:ext cx="5257800" cy="3714480"/>
          </a:xfrm>
          <a:prstGeom prst="rect">
            <a:avLst/>
          </a:prstGeom>
          <a:ln w="57240">
            <a:solidFill>
              <a:srgbClr val="969696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34" name="Picture 9" descr="green3"/>
          <p:cNvPicPr/>
          <p:nvPr/>
        </p:nvPicPr>
        <p:blipFill>
          <a:blip r:embed="rId4"/>
          <a:stretch/>
        </p:blipFill>
        <p:spPr>
          <a:xfrm>
            <a:off x="7543800" y="1676520"/>
            <a:ext cx="1373040" cy="495288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10"/>
          <p:cNvSpPr/>
          <p:nvPr/>
        </p:nvSpPr>
        <p:spPr>
          <a:xfrm>
            <a:off x="2635560" y="6189840"/>
            <a:ext cx="361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Lucida Handwriting"/>
              </a:rPr>
              <a:t>Garden City Community College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36" name="Picture 11" descr="greencity2"/>
          <p:cNvPicPr/>
          <p:nvPr/>
        </p:nvPicPr>
        <p:blipFill>
          <a:blip r:embed="rId5"/>
          <a:stretch/>
        </p:blipFill>
        <p:spPr>
          <a:xfrm>
            <a:off x="228600" y="1905120"/>
            <a:ext cx="1371600" cy="4724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41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" nodeType="afterEffect" fill="hold" presetClass="entr" presetID="56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100"/>
                            </p:stCondLst>
                            <p:childTnLst>
                              <p:par>
                                <p:cTn id="155" nodeType="afterEffect" fill="hold" presetClass="entr" presetID="41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7850"/>
                            </p:stCondLst>
                            <p:childTnLst>
                              <p:par>
                                <p:cTn id="16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9350"/>
                            </p:stCondLst>
                            <p:childTnLst>
                              <p:par>
                                <p:cTn id="16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94920" y="667800"/>
            <a:ext cx="6705720" cy="68580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nkQuest TRIO Awards 200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Object 5"/>
          <p:cNvGraphicFramePr/>
          <p:nvPr/>
        </p:nvGraphicFramePr>
        <p:xfrm>
          <a:off x="0" y="0"/>
          <a:ext cx="9144000" cy="37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3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Rectangle 7"/>
          <p:cNvSpPr/>
          <p:nvPr/>
        </p:nvSpPr>
        <p:spPr>
          <a:xfrm>
            <a:off x="1600200" y="2210040"/>
            <a:ext cx="5943600" cy="244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Congratulations to all students who completed a website in 2009. These sites all demonstrate the skills, creativity, and collaborative work of the TRIO students. </a:t>
            </a:r>
            <a:br>
              <a:rPr sz="1800"/>
            </a:br>
            <a:br>
              <a:rPr sz="1000"/>
            </a:b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Congratulations to the TRIO programs and staff who provided the inspiration and guidance to make it possible for the students to do their best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5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5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6T04:15:53Z</dcterms:created>
  <dc:creator>Ellen</dc:creator>
  <dc:description/>
  <dc:language>en-US</dc:language>
  <cp:lastModifiedBy>Putri Hiendarto</cp:lastModifiedBy>
  <dcterms:modified xsi:type="dcterms:W3CDTF">2009-10-09T21:07:29Z</dcterms:modified>
  <cp:revision>24</cp:revision>
  <dc:subject/>
  <dc:title>Slide 1</dc:title>
</cp:coreProperties>
</file>