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3DC-F014-4586-898F-C0BF14E5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586-637A-40A0-9D59-7D329A6C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F56-E9B7-4BBF-BCB4-2B485355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68D-FA0B-4799-ADE3-4D89F084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71C-F5E0-48CA-BE28-A6E8B1C3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38E-395B-411D-B080-8A196B4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E13-17DB-4674-9872-6BD38D9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C768-B2E7-4A2E-B50F-50D57BD3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1AF0-4EFA-40E1-ABFD-8ADCD6BC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D23-3B89-4C89-A93C-F30FE4A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B6C8-F66D-4B47-91CD-84962DF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63C-BD2E-4414-84A9-E7984D7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0EF9-03C8-4252-A5FF-A359210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936D-948B-4537-9547-1BF5694B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000-5691-4B29-BF36-D04E6F8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171D-F651-4D51-9783-9BDCB8BC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439C-ECB6-4DF0-BD19-EB8D84E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27C-A6B8-434E-A166-0536F506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02F-58F1-42E1-A888-0E4AC5B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F6E-65FB-4FA0-BA85-20C89F18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008-DDA3-47C0-A7DC-57F9901E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2C3-6FF5-4319-A1F3-D9DC6EF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D85-EF35-4EEA-8448-6421F1C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F11-88EB-4986-8370-1479C5C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6C49-8E25-4B3F-BC24-EE5842FCDC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4929-E3BC-412C-985F-C93B031C77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6094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Lucida Handwriting"/>
              </a:rPr>
              <a:t>ThinkQuest TRIO Award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152280" y="2741760"/>
            <a:ext cx="8382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teams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en-US" sz="1800" spc="-1" strike="noStrike">
                <a:solidFill>
                  <a:srgbClr val="663300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029200" cy="609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able Mention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2"/>
          <p:cNvSpPr/>
          <p:nvPr/>
        </p:nvSpPr>
        <p:spPr>
          <a:xfrm rot="20967600">
            <a:off x="291960" y="160020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a50021"/>
                </a:solidFill>
                <a:latin typeface="Lucida Handwriting"/>
              </a:rPr>
              <a:t>True Imag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 rot="5400000">
            <a:off x="-723600" y="2857320"/>
            <a:ext cx="4267080" cy="2819520"/>
          </a:xfrm>
          <a:custGeom>
            <a:avLst/>
            <a:gdLst>
              <a:gd name="textAreaLeft" fmla="*/ 622080 w 4267080"/>
              <a:gd name="textAreaRight" fmla="*/ 3645000 w 4267080"/>
              <a:gd name="textAreaTop" fmla="*/ 411120 h 2819520"/>
              <a:gd name="textAreaBottom" fmla="*/ 240840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699" y="21600"/>
                </a:lnTo>
                <a:lnTo>
                  <a:pt x="1890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 rot="16200000">
            <a:off x="2095560" y="2839680"/>
            <a:ext cx="4267080" cy="2819160"/>
          </a:xfrm>
          <a:custGeom>
            <a:avLst/>
            <a:gdLst>
              <a:gd name="textAreaLeft" fmla="*/ 391320 w 4267080"/>
              <a:gd name="textAreaRight" fmla="*/ 3875760 w 4267080"/>
              <a:gd name="textAreaTop" fmla="*/ 258480 h 2819160"/>
              <a:gd name="textAreaBottom" fmla="*/ 256068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2" y="21600"/>
                </a:lnTo>
                <a:lnTo>
                  <a:pt x="21238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 rot="16200000">
            <a:off x="5329080" y="2514600"/>
            <a:ext cx="4137120" cy="3492360"/>
          </a:xfrm>
          <a:custGeom>
            <a:avLst/>
            <a:gdLst>
              <a:gd name="textAreaLeft" fmla="*/ 525600 w 4137120"/>
              <a:gd name="textAreaRight" fmla="*/ 3611520 w 4137120"/>
              <a:gd name="textAreaTop" fmla="*/ 443520 h 3492360"/>
              <a:gd name="textAreaBottom" fmla="*/ 3048840 h 34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" y="21600"/>
                </a:lnTo>
                <a:lnTo>
                  <a:pt x="19711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 rot="637800">
            <a:off x="75960" y="6154200"/>
            <a:ext cx="304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Lucida Handwriting"/>
              </a:rPr>
              <a:t>Lincoln Universit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2666880" y="16002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Lucida Handwriting"/>
              </a:rPr>
              <a:t>Flow with the Wind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 rot="364200">
            <a:off x="5879880" y="1629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Lucida Handwriting"/>
              </a:rPr>
              <a:t>American Sign Language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 rot="21278400">
            <a:off x="6382080" y="615420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 rot="21469800">
            <a:off x="3037320" y="63687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Lucida Handwriting"/>
              </a:rPr>
              <a:t>California State U, Chic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457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ronze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24" descr="traditionalremedies"/>
          <p:cNvPicPr/>
          <p:nvPr/>
        </p:nvPicPr>
        <p:blipFill>
          <a:blip r:embed="rId3"/>
          <a:stretch/>
        </p:blipFill>
        <p:spPr>
          <a:xfrm>
            <a:off x="76320" y="1563840"/>
            <a:ext cx="43434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norganic"/>
          <p:cNvPicPr/>
          <p:nvPr/>
        </p:nvPicPr>
        <p:blipFill>
          <a:blip r:embed="rId4"/>
          <a:stretch/>
        </p:blipFill>
        <p:spPr>
          <a:xfrm>
            <a:off x="81000" y="3375000"/>
            <a:ext cx="434484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usborders"/>
          <p:cNvPicPr/>
          <p:nvPr/>
        </p:nvPicPr>
        <p:blipFill>
          <a:blip r:embed="rId5"/>
          <a:stretch/>
        </p:blipFill>
        <p:spPr>
          <a:xfrm>
            <a:off x="136440" y="5091120"/>
            <a:ext cx="428148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8"/>
          <p:cNvSpPr/>
          <p:nvPr/>
        </p:nvSpPr>
        <p:spPr>
          <a:xfrm>
            <a:off x="4419720" y="37339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Secrets of Inorganic Foo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419720" y="17524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Alternative Medicine: Traditional Remedies and Treat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Lucida Handwriting"/>
              </a:rPr>
              <a:t>U of Southern Californ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4419720" y="5562720"/>
            <a:ext cx="4419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United States Bor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Lucida Handwriting"/>
              </a:rPr>
              <a:t>University of Texas at El Paso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85800"/>
            <a:ext cx="342900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ilver 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AutoShape 15"/>
          <p:cNvSpPr/>
          <p:nvPr/>
        </p:nvSpPr>
        <p:spPr>
          <a:xfrm rot="5400000">
            <a:off x="37800" y="186012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16200000">
            <a:off x="4610160" y="186048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 rot="544200">
            <a:off x="581040" y="5789160"/>
            <a:ext cx="247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Southern Californi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 rot="20980800">
            <a:off x="6402240" y="609588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 rot="20985600">
            <a:off x="910800" y="1660320"/>
            <a:ext cx="292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Handwriting"/>
              </a:rPr>
              <a:t>Music Business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 rot="610800">
            <a:off x="5866920" y="17208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Lucida Handwriting"/>
              </a:rPr>
              <a:t>Smoking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3505320" cy="457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Gold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AutoShape 11"/>
          <p:cNvSpPr/>
          <p:nvPr/>
        </p:nvSpPr>
        <p:spPr>
          <a:xfrm rot="16200000">
            <a:off x="38160" y="1987560"/>
            <a:ext cx="4495680" cy="4572000"/>
          </a:xfrm>
          <a:custGeom>
            <a:avLst/>
            <a:gdLst>
              <a:gd name="textAreaLeft" fmla="*/ 759960 w 4495680"/>
              <a:gd name="textAreaRight" fmla="*/ 3735720 w 4495680"/>
              <a:gd name="textAreaTop" fmla="*/ 772920 h 4572000"/>
              <a:gd name="textAreaBottom" fmla="*/ 37990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03" y="21600"/>
                </a:lnTo>
                <a:lnTo>
                  <a:pt x="17897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 rot="5400000">
            <a:off x="4762440" y="1987200"/>
            <a:ext cx="4191120" cy="4572000"/>
          </a:xfrm>
          <a:custGeom>
            <a:avLst/>
            <a:gdLst>
              <a:gd name="textAreaLeft" fmla="*/ 663120 w 4191120"/>
              <a:gd name="textAreaRight" fmla="*/ 3528000 w 4191120"/>
              <a:gd name="textAreaTop" fmla="*/ 723240 h 4572000"/>
              <a:gd name="textAreaBottom" fmla="*/ 384876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35" y="21600"/>
                </a:lnTo>
                <a:lnTo>
                  <a:pt x="18365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 rot="514200">
            <a:off x="52200" y="156816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Coffee: </a:t>
            </a:r>
            <a:br>
              <a:rPr sz="2400"/>
            </a:br>
            <a:r>
              <a:rPr b="1" i="1" lang="en-US" sz="2400" spc="-1" strike="noStrike">
                <a:solidFill>
                  <a:srgbClr val="663300"/>
                </a:solidFill>
                <a:latin typeface="Lucida Handwriting"/>
              </a:rPr>
              <a:t>The Rio V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 rot="21140400">
            <a:off x="4419720" y="1644120"/>
            <a:ext cx="487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GROWTH –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A </a:t>
            </a:r>
            <a:r>
              <a:rPr b="1" lang="en-US" sz="2000" spc="-1" strike="noStrike">
                <a:solidFill>
                  <a:srgbClr val="006600"/>
                </a:solidFill>
                <a:latin typeface="Lucida Handwriting"/>
              </a:rPr>
              <a:t>New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 Perspective </a:t>
            </a:r>
            <a:r>
              <a:rPr b="1" lang="en-US" sz="1800" spc="-1" strike="noStrike">
                <a:solidFill>
                  <a:srgbClr val="006600"/>
                </a:solidFill>
                <a:latin typeface="Lucida Handwriting"/>
              </a:rPr>
              <a:t>on </a:t>
            </a:r>
            <a:r>
              <a:rPr b="1" lang="en-US" sz="2400" spc="-1" strike="noStrike">
                <a:solidFill>
                  <a:srgbClr val="006600"/>
                </a:solidFill>
                <a:latin typeface="Lucida Handwriting"/>
              </a:rPr>
              <a:t>Loa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 rot="20985000">
            <a:off x="152388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3300"/>
                </a:solidFill>
                <a:latin typeface="Lucida Handwriting"/>
              </a:rPr>
              <a:t>U of Washingt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 rot="475800">
            <a:off x="5943600" y="6216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Lucida Handwriting"/>
              </a:rPr>
              <a:t>Lincoln U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4038480" cy="53352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f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4"/>
          <p:cNvSpPr/>
          <p:nvPr/>
        </p:nvSpPr>
        <p:spPr>
          <a:xfrm>
            <a:off x="1752480" y="144792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Lucida Handwriting"/>
              </a:rPr>
              <a:t>Greenopolis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8" descr="greenopolis1"/>
          <p:cNvPicPr/>
          <p:nvPr/>
        </p:nvPicPr>
        <p:blipFill>
          <a:blip r:embed="rId3"/>
          <a:stretch/>
        </p:blipFill>
        <p:spPr>
          <a:xfrm>
            <a:off x="1828800" y="2362320"/>
            <a:ext cx="5257800" cy="3714480"/>
          </a:xfrm>
          <a:prstGeom prst="rect">
            <a:avLst/>
          </a:prstGeom>
          <a:ln w="57240">
            <a:solidFill>
              <a:srgbClr val="969696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Picture 9" descr="green3"/>
          <p:cNvPicPr/>
          <p:nvPr/>
        </p:nvPicPr>
        <p:blipFill>
          <a:blip r:embed="rId4"/>
          <a:stretch/>
        </p:blipFill>
        <p:spPr>
          <a:xfrm>
            <a:off x="7543800" y="1676520"/>
            <a:ext cx="137304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2635560" y="6189840"/>
            <a:ext cx="36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Lucida Handwriting"/>
              </a:rPr>
              <a:t>Garden City Community Colleg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11" descr="greencity2"/>
          <p:cNvPicPr/>
          <p:nvPr/>
        </p:nvPicPr>
        <p:blipFill>
          <a:blip r:embed="rId5"/>
          <a:stretch/>
        </p:blipFill>
        <p:spPr>
          <a:xfrm>
            <a:off x="228600" y="1905120"/>
            <a:ext cx="137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85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35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667800"/>
            <a:ext cx="6705720" cy="6858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Quest TRIO Awards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0" y="0"/>
          <a:ext cx="914400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1600200" y="2210040"/>
            <a:ext cx="59436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all students who completed a website in 2009. These sites all demonstrate the skills, creativity, and collaborative work of the TRIO students. 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gratulations to the TRIO programs and staff who provided the inspiration and guidance to make it possible for the students to do their bes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4:15:53Z</dcterms:created>
  <dc:creator>Ellen</dc:creator>
  <dc:description/>
  <dc:language>en-US</dc:language>
  <cp:lastModifiedBy>Putri Hiendarto</cp:lastModifiedBy>
  <dcterms:modified xsi:type="dcterms:W3CDTF">2009-10-09T21:07:29Z</dcterms:modified>
  <cp:revision>24</cp:revision>
  <dc:subject/>
  <dc:title>Slide 1</dc:title>
</cp:coreProperties>
</file>