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DE4-B213-4ECD-BBB6-8BB95FE0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125-493F-40CE-A991-FC8CA97F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044-FE2E-4C39-A111-CC319AD8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E7F-C67F-44F5-AE68-579FFA54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710C-4CAB-4E6C-AF4F-B438D8CC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B60E-81FD-40FF-94D4-32A8616D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37AD-FFB4-4146-B881-6C955AF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1F40-0B70-441E-AE9E-7B0F6150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67C4-B8C7-4415-B222-65F0DE4B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6202-3003-4697-8C7A-F098E848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8DB0-6D79-4465-BE1B-E7016F56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703-A3DD-498A-99C7-28DD659E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5CC3-20ED-4D44-B3D0-193834DC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17E6-D1B2-4705-8A80-92029CDF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D62F-561C-4E7F-9C73-13D0B457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31E6-DCCA-4DD4-A5DB-CA786517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ED34-AE66-40AA-A231-763A7006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1EB-B166-4FF5-84EA-2548BDE8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9CA-512A-4D70-BA81-9543DC4C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2CD-454D-4142-804F-C69753FD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4C3-9A30-433F-A028-F6D3DA42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EDC-8639-4BD4-8950-9BD928CA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36B-CE67-426F-AA68-B80497BF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A92-BC9C-4115-8F46-597A0B38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81C9-5559-4712-BD61-7EE085F2C4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D4FA-D7A3-4C7C-9646-CAEEF8832E1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6094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Lucida Handwriting"/>
              </a:rPr>
              <a:t>ThinkQuest TRIO Award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152280" y="2741760"/>
            <a:ext cx="83822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gratulations to all students who completed a website in 2009. These sites all demonstrate the skills, creativity, and collaborative work of the TRIO teams. 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Congratulations to the TRIO programs and staff who provided the inspiration and guidance to make it possible for the students to do their bes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029200" cy="609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able Mention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2"/>
          <p:cNvSpPr/>
          <p:nvPr/>
        </p:nvSpPr>
        <p:spPr>
          <a:xfrm rot="20967600">
            <a:off x="291960" y="1600200"/>
            <a:ext cx="19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Lucida Handwriting"/>
              </a:rPr>
              <a:t>True Imag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 rot="5400000">
            <a:off x="-723600" y="2857320"/>
            <a:ext cx="4267080" cy="2819520"/>
          </a:xfrm>
          <a:custGeom>
            <a:avLst/>
            <a:gdLst>
              <a:gd name="textAreaLeft" fmla="*/ 622080 w 4267080"/>
              <a:gd name="textAreaRight" fmla="*/ 3645000 w 4267080"/>
              <a:gd name="textAreaTop" fmla="*/ 411120 h 2819520"/>
              <a:gd name="textAreaBottom" fmla="*/ 240840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699" y="21600"/>
                </a:lnTo>
                <a:lnTo>
                  <a:pt x="18901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 rot="16200000">
            <a:off x="2095560" y="2839680"/>
            <a:ext cx="4267080" cy="2819160"/>
          </a:xfrm>
          <a:custGeom>
            <a:avLst/>
            <a:gdLst>
              <a:gd name="textAreaLeft" fmla="*/ 391320 w 4267080"/>
              <a:gd name="textAreaRight" fmla="*/ 3875760 w 4267080"/>
              <a:gd name="textAreaTop" fmla="*/ 258480 h 2819160"/>
              <a:gd name="textAreaBottom" fmla="*/ 256068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2" y="21600"/>
                </a:lnTo>
                <a:lnTo>
                  <a:pt x="21238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 rot="16200000">
            <a:off x="5329080" y="2514600"/>
            <a:ext cx="4137120" cy="3492360"/>
          </a:xfrm>
          <a:custGeom>
            <a:avLst/>
            <a:gdLst>
              <a:gd name="textAreaLeft" fmla="*/ 525600 w 4137120"/>
              <a:gd name="textAreaRight" fmla="*/ 3611520 w 4137120"/>
              <a:gd name="textAreaTop" fmla="*/ 443520 h 3492360"/>
              <a:gd name="textAreaBottom" fmla="*/ 3048840 h 34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" y="21600"/>
                </a:lnTo>
                <a:lnTo>
                  <a:pt x="19711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 rot="637800">
            <a:off x="75960" y="6154200"/>
            <a:ext cx="3047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Lucida Handwriting"/>
              </a:rPr>
              <a:t>Lincoln Universit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2666880" y="16002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Lucida Handwriting"/>
              </a:rPr>
              <a:t>Flow with the Wind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 rot="364200">
            <a:off x="5879880" y="1629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Lucida Handwriting"/>
              </a:rPr>
              <a:t>American Sign Language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 rot="21278400">
            <a:off x="6382080" y="615420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Lucida Handwriting"/>
              </a:rPr>
              <a:t>California State U, Chic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 rot="21469800">
            <a:off x="3037320" y="636876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ff"/>
                </a:solidFill>
                <a:latin typeface="Lucida Handwriting"/>
              </a:rPr>
              <a:t>California State U, Chic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457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Bronze 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icture 24" descr="traditionalremedies"/>
          <p:cNvPicPr/>
          <p:nvPr/>
        </p:nvPicPr>
        <p:blipFill>
          <a:blip r:embed="rId3"/>
          <a:stretch/>
        </p:blipFill>
        <p:spPr>
          <a:xfrm>
            <a:off x="76320" y="1563840"/>
            <a:ext cx="43434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norganic"/>
          <p:cNvPicPr/>
          <p:nvPr/>
        </p:nvPicPr>
        <p:blipFill>
          <a:blip r:embed="rId4"/>
          <a:stretch/>
        </p:blipFill>
        <p:spPr>
          <a:xfrm>
            <a:off x="81000" y="3375000"/>
            <a:ext cx="4344840" cy="159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usborders"/>
          <p:cNvPicPr/>
          <p:nvPr/>
        </p:nvPicPr>
        <p:blipFill>
          <a:blip r:embed="rId5"/>
          <a:stretch/>
        </p:blipFill>
        <p:spPr>
          <a:xfrm>
            <a:off x="136440" y="5091120"/>
            <a:ext cx="428148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8"/>
          <p:cNvSpPr/>
          <p:nvPr/>
        </p:nvSpPr>
        <p:spPr>
          <a:xfrm>
            <a:off x="4419720" y="3733920"/>
            <a:ext cx="4419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Secrets of Inorganic Foo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Lucida Handwriting"/>
              </a:rPr>
              <a:t>U of Southern Californi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4419720" y="175248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Alternative Medicine: Traditional Remedies and Treat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Lucida Handwriting"/>
              </a:rPr>
              <a:t>U of Southern Californi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4419720" y="5562720"/>
            <a:ext cx="4419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United States Bor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Lucida Handwriting"/>
              </a:rPr>
              <a:t>University of Texas at El Pas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85800"/>
            <a:ext cx="3429000" cy="457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ilver 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AutoShape 15"/>
          <p:cNvSpPr/>
          <p:nvPr/>
        </p:nvSpPr>
        <p:spPr>
          <a:xfrm rot="5400000">
            <a:off x="37800" y="1860120"/>
            <a:ext cx="4495680" cy="4572000"/>
          </a:xfrm>
          <a:custGeom>
            <a:avLst/>
            <a:gdLst>
              <a:gd name="textAreaLeft" fmla="*/ 759960 w 4495680"/>
              <a:gd name="textAreaRight" fmla="*/ 3735720 w 4495680"/>
              <a:gd name="textAreaTop" fmla="*/ 772920 h 4572000"/>
              <a:gd name="textAreaBottom" fmla="*/ 379908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03" y="21600"/>
                </a:lnTo>
                <a:lnTo>
                  <a:pt x="17897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 rot="16200000">
            <a:off x="4610160" y="1860480"/>
            <a:ext cx="4495680" cy="4572000"/>
          </a:xfrm>
          <a:custGeom>
            <a:avLst/>
            <a:gdLst>
              <a:gd name="textAreaLeft" fmla="*/ 759960 w 4495680"/>
              <a:gd name="textAreaRight" fmla="*/ 3735720 w 4495680"/>
              <a:gd name="textAreaTop" fmla="*/ 772920 h 4572000"/>
              <a:gd name="textAreaBottom" fmla="*/ 379908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03" y="21600"/>
                </a:lnTo>
                <a:lnTo>
                  <a:pt x="17897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 rot="544200">
            <a:off x="581040" y="5789160"/>
            <a:ext cx="2472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600" spc="-1" strike="noStrike">
                <a:solidFill>
                  <a:srgbClr val="003300"/>
                </a:solidFill>
                <a:latin typeface="Lucida Handwriting"/>
              </a:rPr>
              <a:t>U of Southern Californi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 rot="20980800">
            <a:off x="6402240" y="609588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Lucida Handwriting"/>
              </a:rPr>
              <a:t>U of Washingt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 rot="20985600">
            <a:off x="910800" y="1660320"/>
            <a:ext cx="2928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Handwriting"/>
              </a:rPr>
              <a:t>Music Business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 rot="610800">
            <a:off x="5866920" y="17208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Lucida Handwriting"/>
              </a:rPr>
              <a:t>Smoking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685800"/>
            <a:ext cx="3505320" cy="457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Gold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AutoShape 11"/>
          <p:cNvSpPr/>
          <p:nvPr/>
        </p:nvSpPr>
        <p:spPr>
          <a:xfrm rot="16200000">
            <a:off x="38160" y="1987560"/>
            <a:ext cx="4495680" cy="4572000"/>
          </a:xfrm>
          <a:custGeom>
            <a:avLst/>
            <a:gdLst>
              <a:gd name="textAreaLeft" fmla="*/ 759960 w 4495680"/>
              <a:gd name="textAreaRight" fmla="*/ 3735720 w 4495680"/>
              <a:gd name="textAreaTop" fmla="*/ 772920 h 4572000"/>
              <a:gd name="textAreaBottom" fmla="*/ 379908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03" y="21600"/>
                </a:lnTo>
                <a:lnTo>
                  <a:pt x="17897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 rot="5400000">
            <a:off x="4762440" y="1987200"/>
            <a:ext cx="4191120" cy="4572000"/>
          </a:xfrm>
          <a:custGeom>
            <a:avLst/>
            <a:gdLst>
              <a:gd name="textAreaLeft" fmla="*/ 663120 w 4191120"/>
              <a:gd name="textAreaRight" fmla="*/ 3528000 w 4191120"/>
              <a:gd name="textAreaTop" fmla="*/ 723240 h 4572000"/>
              <a:gd name="textAreaBottom" fmla="*/ 384876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35" y="21600"/>
                </a:lnTo>
                <a:lnTo>
                  <a:pt x="18365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 rot="514200">
            <a:off x="52200" y="156816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Lucida Handwriting"/>
              </a:rPr>
              <a:t>Coffee: </a:t>
            </a:r>
            <a:br>
              <a:rPr sz="2400"/>
            </a:br>
            <a:r>
              <a:rPr b="1" i="1" lang="en-US" sz="2400" spc="-1" strike="noStrike">
                <a:solidFill>
                  <a:srgbClr val="663300"/>
                </a:solidFill>
                <a:latin typeface="Lucida Handwriting"/>
              </a:rPr>
              <a:t>The Rio Ve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 rot="21140400">
            <a:off x="4419720" y="1644120"/>
            <a:ext cx="487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Lucida Handwriting"/>
              </a:rPr>
              <a:t>GROWTH –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Lucida Handwriting"/>
              </a:rPr>
              <a:t>A </a:t>
            </a:r>
            <a:r>
              <a:rPr b="1" lang="en-US" sz="2000" spc="-1" strike="noStrike">
                <a:solidFill>
                  <a:srgbClr val="006600"/>
                </a:solidFill>
                <a:latin typeface="Lucida Handwriting"/>
              </a:rPr>
              <a:t>New</a:t>
            </a:r>
            <a:r>
              <a:rPr b="1" lang="en-US" sz="2400" spc="-1" strike="noStrike">
                <a:solidFill>
                  <a:srgbClr val="006600"/>
                </a:solidFill>
                <a:latin typeface="Lucida Handwriting"/>
              </a:rPr>
              <a:t> Perspective </a:t>
            </a: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on </a:t>
            </a:r>
            <a:r>
              <a:rPr b="1" lang="en-US" sz="2400" spc="-1" strike="noStrike">
                <a:solidFill>
                  <a:srgbClr val="006600"/>
                </a:solidFill>
                <a:latin typeface="Lucida Handwriting"/>
              </a:rPr>
              <a:t>Loa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 rot="20985000">
            <a:off x="1523880" y="6216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3300"/>
                </a:solidFill>
                <a:latin typeface="Lucida Handwriting"/>
              </a:rPr>
              <a:t>U of Washingt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 rot="475800">
            <a:off x="5943600" y="6216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Lucida Handwriting"/>
              </a:rPr>
              <a:t>Lincoln U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4038480" cy="5335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of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4"/>
          <p:cNvSpPr/>
          <p:nvPr/>
        </p:nvSpPr>
        <p:spPr>
          <a:xfrm>
            <a:off x="1752480" y="144792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Lucida Handwriting"/>
              </a:rPr>
              <a:t>Greenopolis 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8" descr="greenopolis1"/>
          <p:cNvPicPr/>
          <p:nvPr/>
        </p:nvPicPr>
        <p:blipFill>
          <a:blip r:embed="rId3"/>
          <a:stretch/>
        </p:blipFill>
        <p:spPr>
          <a:xfrm>
            <a:off x="1828800" y="2362320"/>
            <a:ext cx="5257800" cy="3714480"/>
          </a:xfrm>
          <a:prstGeom prst="rect">
            <a:avLst/>
          </a:prstGeom>
          <a:ln w="57240">
            <a:solidFill>
              <a:srgbClr val="96969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9" descr="green3"/>
          <p:cNvPicPr/>
          <p:nvPr/>
        </p:nvPicPr>
        <p:blipFill>
          <a:blip r:embed="rId4"/>
          <a:stretch/>
        </p:blipFill>
        <p:spPr>
          <a:xfrm>
            <a:off x="7543800" y="1676520"/>
            <a:ext cx="1373040" cy="4952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2635560" y="618984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Lucida Handwriting"/>
              </a:rPr>
              <a:t>Garden City Community Colleg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11" descr="greencity2"/>
          <p:cNvPicPr/>
          <p:nvPr/>
        </p:nvPicPr>
        <p:blipFill>
          <a:blip r:embed="rId5"/>
          <a:stretch/>
        </p:blipFill>
        <p:spPr>
          <a:xfrm>
            <a:off x="228600" y="1905120"/>
            <a:ext cx="13716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10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85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35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667800"/>
            <a:ext cx="670572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kQuest TRIO Awards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7"/>
          <p:cNvSpPr/>
          <p:nvPr/>
        </p:nvSpPr>
        <p:spPr>
          <a:xfrm>
            <a:off x="1600200" y="2210040"/>
            <a:ext cx="59436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gratulations to all students who completed a website in 2009. These sites all demonstrate the skills, creativity, and collaborative work of the TRIO students. 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gratulations to the TRIO programs and staff who provided the inspiration and guidance to make it possible for the students to do their bes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4:15:53Z</dcterms:created>
  <dc:creator>Ellen</dc:creator>
  <dc:description/>
  <dc:language>en-US</dc:language>
  <cp:lastModifiedBy>Putri Hiendarto</cp:lastModifiedBy>
  <dcterms:modified xsi:type="dcterms:W3CDTF">2009-10-09T21:07:29Z</dcterms:modified>
  <cp:revision>24</cp:revision>
  <dc:subject/>
  <dc:title>Slide 1</dc:title>
</cp:coreProperties>
</file>