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97A-3328-4875-AB4D-D909F9F3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837-C84B-4EA9-98A2-3B474DAE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13F-1E69-4A33-8968-C3D1841B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912-0346-4527-8745-763F7C82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78A-0D0D-44DA-83D3-053421F2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FDB-AF24-49D6-BF4B-E9BD9AD9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7B6-5C53-4EA6-B97D-B337E66E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B63-3162-4F83-8DCB-31A81F3F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FC2-2CCB-4DF8-B477-84077C97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CB9-0D97-4D4E-8717-6F286CF4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161-4D88-47FE-A876-A5DF7241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B33-8BFD-40BE-8CDB-408E333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6254-E7CF-424E-8800-8698FA49A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7960" y="6091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n Awareness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borview Medical Center is beginning a Linen Conservation Program to help you learn how to reduce linen costs.  This will require the effort and enthusiasm of the entire team-all of the HMC staff who use linen can hel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of the savings will come by reducing the quantity of linen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4876920"/>
            <a:ext cx="3962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ught to you by t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W. Consolidated Laundry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onsLaund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1958760" cy="167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371600" y="2286000"/>
          <a:ext cx="2108160" cy="213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86000"/>
                    <a:ext cx="21081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486400"/>
            <a:ext cx="358164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ld English Text MT"/>
              </a:rPr>
              <a:t>Waste not… Wash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Linen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1:37:15Z</dcterms:created>
  <dc:creator>staff</dc:creator>
  <dc:description/>
  <dc:language>en-US</dc:language>
  <cp:lastModifiedBy>staff</cp:lastModifiedBy>
  <dcterms:modified xsi:type="dcterms:W3CDTF">2007-06-20T17:10:10Z</dcterms:modified>
  <cp:revision>1</cp:revision>
  <dc:subject/>
  <dc:title>Welcome to  Linen Awareness Day</dc:title>
</cp:coreProperties>
</file>