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7C6-5BD0-47C8-BE55-0DE23338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16A-D5DF-4F34-A3AE-8CFB951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499-58EB-4E8B-A0F0-F9DE0AD8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281-BFB5-421C-9331-B58355BB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B6B-4C60-40B1-8BA8-8F3769CE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73C-1EB0-4F00-A06A-EFFE31FE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E32-FA2D-44BC-B34D-780EEC81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114-AFE2-4339-8660-475326D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BE0-512C-44D4-A6F6-8CAD4F2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41E-2056-47AE-BB81-94AFA1B7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731-8DBC-4C6E-8462-B89FB48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65D-07B4-4EAB-8C35-B7FF9B4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A71-81ED-4F55-B4EE-95DD407E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609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n Awarenes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borview Medical Center is beginning a Linen Conservation Program to help you learn how to reduce linen costs.  This will require the effort and enthusiasm of the entire team-all of the HMC staff who use linen can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of the savings will come by reducing the quantity of linen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4876920"/>
            <a:ext cx="3962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ught to you by t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W. Consolidated Laundr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onsLaund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1958760" cy="167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371600" y="2286000"/>
          <a:ext cx="210816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0"/>
                    <a:ext cx="21081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486400"/>
            <a:ext cx="358164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ld English Text MT"/>
              </a:rPr>
              <a:t>Waste not… Wash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alligraphy"/>
              </a:rPr>
              <a:t>Linen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1:37:15Z</dcterms:created>
  <dc:creator>staff</dc:creator>
  <dc:description/>
  <dc:language>en-US</dc:language>
  <cp:lastModifiedBy>staff</cp:lastModifiedBy>
  <dcterms:modified xsi:type="dcterms:W3CDTF">2007-06-20T17:10:10Z</dcterms:modified>
  <cp:revision>1</cp:revision>
  <dc:subject/>
  <dc:title>Welcome to  Linen Awareness Day</dc:title>
</cp:coreProperties>
</file>